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A2D-888D-484F-AF59-F9AC3F1E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26B-B3FF-4C85-B4AB-884BC72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FA4-257B-49BE-802C-C362EFB1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E77-C9A0-4162-ACFB-A711D19D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2C3-539B-4E8A-93D8-D0E9583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288-3C61-430F-9EC5-CD221887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377-CF31-48DF-90AF-D1D17824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DF9-D839-4B1A-83A5-F2BFACCA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F00-1187-4277-86ED-F9B738A1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04B-3211-4E72-BA15-01BB927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216-50DB-40EC-98AF-AA0EF24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ECA-0AE5-48F1-82EA-D661B98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D88-7D31-4307-9EEC-1F3674F90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Классный ча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28464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c0000"/>
                </a:solidFill>
                <a:latin typeface="Arial"/>
              </a:rPr>
              <a:t>«Дружба начинается с  улыбки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-557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 Ассоци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771640" y="2492280"/>
            <a:ext cx="3240360" cy="266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348000" y="3500280"/>
            <a:ext cx="208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ДРУЖБ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284720" y="5157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5796000" y="4508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547280" y="4292640"/>
            <a:ext cx="1295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 flipH="1">
            <a:off x="2411280" y="486900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5219640" y="4941720"/>
            <a:ext cx="79236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6012000" y="4005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 flipV="1">
            <a:off x="1547640" y="3645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 flipH="1" flipV="1">
            <a:off x="1834920" y="227628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 flipV="1">
            <a:off x="5796000" y="2637000"/>
            <a:ext cx="172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H="1" flipV="1">
            <a:off x="2987280" y="1413000"/>
            <a:ext cx="863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4859280" y="1557000"/>
            <a:ext cx="1081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30123949_4059776_origsheep751459673568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4464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979640" y="33336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ИТ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uzyka_-_Odinokij_pastuh_(iPlayer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 А Д А Н И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музыка вам слышится, когда вы думаете, говорите о др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щущение какого запаха возникает при слове «дружб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она на ощуп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ку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погодой вы бы сравнили «дружб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животными можно связывать слово друж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раски вы возьмете, чтобы «нарисовать» дружб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 А Д А Н И Е</a:t>
            </a:r>
            <a:br>
              <a:rPr sz="44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№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группе я предлагаю сейчас продолжить исследование по вопросу: «Какой он - настоящий друг?» , составить «Модель настоящего друга» и представить ее 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модно од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над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ес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не признает свои оши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отзывч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не подойдет первым мир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доб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поддержит словом и д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не скажет прав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месте в горе и рад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ыручит в трудную мину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туация 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й друг получает плохие отметки и тебе запрещают с ним дру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туация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й друг употребляет плохие слова и вы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туация 3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й друг предлагает тебе поступить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туация 4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й друг подводит команду на спортивных соревно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 А Д А Н И Е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№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ДАНИ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, ребята, слышали и знаете, что в пословицах заключается народная мудрость. Я предлагаю вам вспомнить пословицы о дружбе, которые придумал наш мудрый русский народ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ите начало пословиц с их продолжением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т друга – ищи,…………………(а нашёл – береги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имей сто рублей, ……………(а имей сто друзей). 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тарый друг лучше…………………….(новых двух). 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дин за всех……………………..…(и все за одного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рево живёт корнями, а человек……...(друзь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ружба не гриб, в лесу …………..…(не найдёшь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ещё немецкая пословиц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жб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ерево, которое следует поливать. Как вы ее поним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ЗАКОНЫ ДРУЖ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знаете ли вы, что ученые-психологи изучали правила дружбы у народов разных стран. Оказалось, что, несмотря на разный цвет кожи, разное воспитание и условия жизни, есть много общего в том, что люди считают дружбой. Вывели 10 законов дружбы. Давайте их прочит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огай другу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ей с другом разделить рад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смейся над недостатками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танови друга, если он делает что-то плох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ей принять помощь, со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обманывай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предавай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сь к другу как к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ей признавать свои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егда выполняй свои обещ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8T05:58:24Z</dcterms:created>
  <dc:creator>1</dc:creator>
  <dc:description/>
  <dc:language>en-US</dc:language>
  <cp:lastModifiedBy>Юдина</cp:lastModifiedBy>
  <dcterms:modified xsi:type="dcterms:W3CDTF">2018-02-06T19:01:45Z</dcterms:modified>
  <cp:revision>11</cp:revision>
  <dc:subject/>
  <dc:title>Классный час:</dc:title>
</cp:coreProperties>
</file>