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B707D-F9AB-49B8-930B-45B3B8742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930D7-A6BA-41B6-ABE3-034C58A26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94637-3F87-4AA0-A225-ABB77483E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00FC3-189D-430B-8879-6ED5E0313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B46EC-D17C-4F21-80CA-05D57FE19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E1AE9-8F1F-435D-938E-84BB3C16A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B318B-2607-4183-BDD1-048380D3D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76E44-E24F-4B80-8A12-80EC539E9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5AFE1-E1E0-43CE-9B02-D9440C5F4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0E749-BBE2-4134-AAEF-47D21EA18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DF219-AE6A-43CB-9B9F-EA6B16C47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068AE-5B4F-42EF-917B-3AE7A4451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774FD-DF3A-4B5F-AF5D-E9C2B7899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3A137-DD2D-4D6A-82A6-76677D7D1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948D6-0380-4BF6-938A-837B09653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C4FDA-9F9C-4794-B2DA-9093570B4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B727E-E462-49A6-B6DC-8FBFE5DD1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00163-20AB-4BA9-AD6A-B8D8346AF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20695-47FB-48BA-9669-806FC1AC7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3340F-BDC2-42E7-ADF0-3A0F84830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3EAE3-653E-4B33-BDD9-33CB6C971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53980-A9F2-4E26-AD61-E40AC51FC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3F982-8F99-4E8A-ABC7-F169F9DE5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67C29-E2FF-467A-BC41-57B83C7E0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1D589-BDC1-418F-8E6B-DC87EB9065E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859AC-7888-4B8B-9F7E-88E07880BC80}" type="slidenum">
              <a:rPr b="0" lang="ru-RU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87280" y="155700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«Моя малая родина»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0" name="Picture 5" descr="mylino-reka"/>
          <p:cNvPicPr/>
          <p:nvPr/>
        </p:nvPicPr>
        <p:blipFill>
          <a:blip r:embed="rId1"/>
          <a:stretch/>
        </p:blipFill>
        <p:spPr>
          <a:xfrm>
            <a:off x="2268360" y="3357720"/>
            <a:ext cx="6191280" cy="32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Карта России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3" name="Picture 4" descr="bio_and_nano511"/>
          <p:cNvPicPr/>
          <p:nvPr/>
        </p:nvPicPr>
        <p:blipFill>
          <a:blip r:embed="rId1"/>
          <a:stretch/>
        </p:blipFill>
        <p:spPr>
          <a:xfrm>
            <a:off x="0" y="1844640"/>
            <a:ext cx="9325080" cy="50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Tahoma"/>
              </a:rPr>
              <a:t>МОЯ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– потому что здесь моя семья, мои друзья, мой дом, моя улица, моя школа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Tahoma"/>
              </a:rPr>
              <a:t>МАЛАЯ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– потому что это маленькая частичка моей необъятной страны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Tahoma"/>
              </a:rPr>
              <a:t>РОДИНА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– потому что здесь живут родные моему сердцу люди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15640" y="-2475000"/>
            <a:ext cx="779292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Tahoma"/>
              </a:rPr>
              <a:t>РОДИТЕЛИ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– отец и мать, у которых рождаются дети. (слайд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Tahoma"/>
              </a:rPr>
              <a:t>РОДИЧ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– родственник, член рода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Tahoma"/>
              </a:rPr>
              <a:t>РОДНЯ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– родственники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Tahoma"/>
              </a:rPr>
              <a:t>РОДИНА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– это и Отечество, страна, и место рождения человека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Tahoma"/>
              </a:rPr>
              <a:t>НАРОД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– нация, жители страны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Tahoma"/>
              </a:rPr>
              <a:t>РОДОСЛОВНАЯ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– перечень поколений одного рода. Люди гордятся своей родословной, изучают её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Игра «Составь пословицу»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Родина – мать,      Родине служить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Жить- ,          умей за неё постоять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Человек без Родины,         там и пригодится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Где кто родится,               что соловей без песни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Правильные ответы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Родина – мать, умей за неё постоять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Жить- Родине служить.  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Человек без Родины, что соловей без песни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Где кто родится, там и пригодится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    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500"/>
                            </p:stCondLst>
                            <p:childTnLst>
                              <p:par>
                                <p:cTn id="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2500"/>
                            </p:stCondLst>
                            <p:childTnLst>
                              <p:par>
                                <p:cTn id="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4500"/>
                            </p:stCondLst>
                            <p:childTnLst>
                              <p:par>
                                <p:cTn id="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6500"/>
                            </p:stCondLst>
                            <p:childTnLst>
                              <p:par>
                                <p:cTn id="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8500"/>
                            </p:stCondLst>
                            <p:childTnLst>
                              <p:par>
                                <p:cTn id="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111600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3333cc"/>
                </a:solidFill>
                <a:latin typeface="Tahoma"/>
              </a:rPr>
              <a:t>«Родина»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3333cc"/>
                </a:solidFill>
                <a:latin typeface="Tahoma"/>
              </a:rPr>
              <a:t>«родина»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50720" y="-312408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Tahoma"/>
              </a:rPr>
              <a:t>«Родина»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-когда мы говорим о нашем государстве, о нашей большой стране под названием Россия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Tahoma"/>
              </a:rPr>
              <a:t>«родина»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- когда мы говорим о нашем селе, где мы родились и живем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500"/>
                            </p:stCondLst>
                            <p:childTnLst>
                              <p:par>
                                <p:cTn id="9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1182600" y="333360"/>
            <a:ext cx="7772400" cy="59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cc"/>
                </a:solidFill>
                <a:latin typeface="Tahoma"/>
              </a:rPr>
              <a:t>                                </a:t>
            </a:r>
            <a:r>
              <a:rPr b="1" lang="ru-RU" sz="1600" spc="-1" strike="noStrike">
                <a:solidFill>
                  <a:srgbClr val="3333cc"/>
                </a:solidFill>
                <a:latin typeface="Tahoma"/>
              </a:rPr>
              <a:t>АНКЕТА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cc"/>
                </a:solidFill>
                <a:latin typeface="Tahoma"/>
              </a:rPr>
              <a:t>«Знаю ли я свою малую Родину?»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ahoma"/>
              </a:rPr>
              <a:t>Инструкция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: выберите один или несколько ответов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1.Знаете ли Вы историю жизни Ваших родственников (Ф.И.О., род деятельности, место жительства)?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o Знаю все о своих родителях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o Знаю все о своих родителях и бабушках-дедушках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o Знаю о своих родителях, бабушках-дедушках, прабабушках-прадедушках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o Затрудняюсь ответить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o Владею информацией частично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2.Являетесь ли Вы коренным жителем своего села (3 и более поколения Вашей семьи проживали в этом селе)?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o Да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o Нет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o Затрудняюсь ответить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3.Знаете ли Вы знаменитых земляков?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o Не знаю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o Знаю (укажите)_______________________________________________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4.Знаете ли Вы историю своего края (области)?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o Особенности речи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o Традиции праздников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o Особенности местного костюма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o Легенды, сказки, предания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o Другое ______________________________________________________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comb dir="horz"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11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1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1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11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1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1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1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1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1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11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1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1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11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1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1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11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1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1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115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15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15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115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15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15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115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15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15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115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15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15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115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15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15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0T18:44:04Z</dcterms:created>
  <dc:creator>User</dc:creator>
  <dc:description/>
  <dc:language>en-US</dc:language>
  <cp:lastModifiedBy>Intel</cp:lastModifiedBy>
  <dcterms:modified xsi:type="dcterms:W3CDTF">2016-11-01T03:37:54Z</dcterms:modified>
  <cp:revision>7</cp:revision>
  <dc:subject/>
  <dc:title>   Классный час   «Моя малая родина»</dc:title>
</cp:coreProperties>
</file>