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624-B27C-4698-9FF2-502A447F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3E9-9482-4181-B0C3-275ED948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2E8-B71D-4490-8E44-392E930B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D8F-DB38-4E85-BDE2-47E6B1A2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943D-B393-425A-BE4C-B19CA08E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EE61-0389-4A72-9032-23EFEE97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7D66-FCF1-4460-8AE7-9ADCF86C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A1CD-862C-4E87-AC8F-2616FB83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B826-478F-40C2-A9B4-2A29CD2D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1074-856E-4222-B8E7-80588ABB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74BF-C047-40E5-AB3F-6D5A924E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C5E-454C-483B-9A2C-013B335D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2A2C-9921-4F54-8F6B-9E0CB308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2862-3B0C-4481-87F5-E5D8CAEF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8AD0-0574-4459-BC7D-5C616EB8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7312-3D5B-4B09-B070-C18CD8C4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3689-6817-4183-8AB3-3E923A2B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C52-BCAB-4929-B838-B12AE194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082-70A4-4AF3-B201-08E2D2D6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B9C-55D3-4377-B6A3-9261DF62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49B-A9A2-4B19-BC62-4EFF41A1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2E8-BF3D-47C8-840B-12A09D78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52F-4ADB-4A2C-953F-E38E3894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56D-E12A-4477-BA7D-C36225B3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3A8C-937C-4D93-888C-3C69702E840A}" type="datetime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8507-59E7-4BD3-8322-A6B4411FF67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3240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28728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727280" indent="-2160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1564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1564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1564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423000" indent="-31716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46360" indent="-3175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69360" indent="-28152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92720" indent="-2116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15720" indent="-21132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15720" indent="-21132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15720" indent="-21132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5F6A-8953-4A14-98D8-8539BDAF6B89}" type="datetime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DE8F-1A71-46A1-86A4-C724351409E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hudesalegko.ru/dvizhenie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проекта: «Каким должно быть правильное питание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143160" y="2857680"/>
            <a:ext cx="557208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d0d0d"/>
                </a:solidFill>
                <a:latin typeface="Calibri"/>
              </a:rPr>
              <a:t>Выполнил: Лемеш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d0d0d"/>
                </a:solidFill>
                <a:latin typeface="Calibri"/>
              </a:rPr>
              <a:t>Александ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d0d0d"/>
                </a:solidFill>
                <a:latin typeface="Calibri"/>
              </a:rPr>
              <a:t>Ученик 10 кла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d0d0d"/>
                </a:solidFill>
                <a:latin typeface="Calibri"/>
              </a:rPr>
              <a:t>МБОУ Мальчевская СО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19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яс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360360" y="1079640"/>
            <a:ext cx="79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Мясо отвечает за насыщение нашего организма железом, необходимым для выработки гемоглобина в крови. Гемоглобин отвечает за переноску кислорода в организ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60360" y="1969920"/>
            <a:ext cx="82296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амые богатые железом мясные продукты — говядина, печень и почки. Также богаты железом курица, индейка и некоторые сорта морских рыб - сардина, тунец. Железо, содержащееся в яйцах и бобовых, усваивается ху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1"/>
          <a:stretch/>
        </p:blipFill>
        <p:spPr>
          <a:xfrm>
            <a:off x="539640" y="3419640"/>
            <a:ext cx="2686320" cy="16952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5580000" y="3240000"/>
            <a:ext cx="2600280" cy="17528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6" descr=""/>
          <p:cNvPicPr/>
          <p:nvPr/>
        </p:nvPicPr>
        <p:blipFill>
          <a:blip r:embed="rId3"/>
          <a:stretch/>
        </p:blipFill>
        <p:spPr>
          <a:xfrm>
            <a:off x="3081240" y="5156280"/>
            <a:ext cx="303840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403280"/>
            <a:ext cx="8893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Благодаря своей высокой питательной ценности рыба оказывает огромное положительное воздействие на организм. В ней содержится высокоусваиваемый белок, жирные кислоты, витамин D, а также ряд минералов, таких как йод, селен, фтор, магний, кальц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5935680" y="2444760"/>
            <a:ext cx="2705040" cy="16956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"/>
          <p:cNvPicPr/>
          <p:nvPr/>
        </p:nvPicPr>
        <p:blipFill>
          <a:blip r:embed="rId2"/>
          <a:stretch/>
        </p:blipFill>
        <p:spPr>
          <a:xfrm>
            <a:off x="1800360" y="4414680"/>
            <a:ext cx="2419200" cy="18860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"/>
          <p:cNvPicPr/>
          <p:nvPr/>
        </p:nvPicPr>
        <p:blipFill>
          <a:blip r:embed="rId3"/>
          <a:stretch/>
        </p:blipFill>
        <p:spPr>
          <a:xfrm>
            <a:off x="5219640" y="4680000"/>
            <a:ext cx="2705040" cy="1685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"/>
          <p:cNvPicPr/>
          <p:nvPr/>
        </p:nvPicPr>
        <p:blipFill>
          <a:blip r:embed="rId4"/>
          <a:stretch/>
        </p:blipFill>
        <p:spPr>
          <a:xfrm>
            <a:off x="0" y="2879640"/>
            <a:ext cx="335268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Хле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47520" y="1260360"/>
            <a:ext cx="89521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0760" y="1260360"/>
            <a:ext cx="876924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Хлебные изделия в зависимости от вида муки могут быть ржаными, ржано-пшеничными, пшенично-ржаными и пшенич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ищевая ценность хлеба, как и всякого пищевого продукта, определяется в первую очередь его калорийностью, усвояемостью и содержанием в нем дополнительных факторов питания: витаминов, минеральных веществ и незаменимых аминокисло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5580000" y="3240000"/>
            <a:ext cx="3060720" cy="2340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" descr=""/>
          <p:cNvPicPr/>
          <p:nvPr/>
        </p:nvPicPr>
        <p:blipFill>
          <a:blip r:embed="rId2"/>
          <a:stretch/>
        </p:blipFill>
        <p:spPr>
          <a:xfrm>
            <a:off x="355680" y="3419640"/>
            <a:ext cx="2705040" cy="1685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"/>
          <p:cNvPicPr/>
          <p:nvPr/>
        </p:nvPicPr>
        <p:blipFill>
          <a:blip r:embed="rId3"/>
          <a:stretch/>
        </p:blipFill>
        <p:spPr>
          <a:xfrm>
            <a:off x="3240000" y="4727520"/>
            <a:ext cx="2362320" cy="19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лочные проду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-77760" y="1403280"/>
            <a:ext cx="92217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итательная ценность молока и молочных продуктов определяется содержанием в них белков, жиров, углеводов, витаминов и минеральных со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-77760" y="1979640"/>
            <a:ext cx="92217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Особенностью молока и молочных продуктов является то, что в них фосфор и кальций находятся в благоприятном соотношении: в молоке кальция на 25 % больше, чем фосфора, тогда как в других пищевых продуктах фосфора содержится больше, чем каль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289080" y="3240000"/>
            <a:ext cx="2771640" cy="1648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"/>
          <p:cNvPicPr/>
          <p:nvPr/>
        </p:nvPicPr>
        <p:blipFill>
          <a:blip r:embed="rId2"/>
          <a:stretch/>
        </p:blipFill>
        <p:spPr>
          <a:xfrm>
            <a:off x="5423040" y="341964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"/>
          <p:cNvPicPr/>
          <p:nvPr/>
        </p:nvPicPr>
        <p:blipFill>
          <a:blip r:embed="rId3"/>
          <a:stretch/>
        </p:blipFill>
        <p:spPr>
          <a:xfrm>
            <a:off x="3240000" y="46800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уп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0" y="1260360"/>
            <a:ext cx="93074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рупы – это ценный пищевой продукт, представляющий собой цельное или дробленное («сечка») зерно различных сельскохозяйственных культур. Крупа вырабатывается из разных видов сельскохозяйственных культур. Каша гречневая. Первыми по важности являются крупяные культуры. К ним относятся просо , гречиха , рис , кукуруза , Из зерновых культур используют ячмень, овес , пшениц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6014880" y="2879640"/>
            <a:ext cx="2444760" cy="1800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>
            <a:off x="2700360" y="5040360"/>
            <a:ext cx="3495600" cy="1305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3"/>
          <a:stretch/>
        </p:blipFill>
        <p:spPr>
          <a:xfrm>
            <a:off x="539640" y="2832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-21788280" y="-38290680"/>
            <a:ext cx="6381720" cy="53578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тамин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особствует обмену вещст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1"/>
          <a:stretch/>
        </p:blipFill>
        <p:spPr>
          <a:xfrm>
            <a:off x="5040360" y="1440000"/>
            <a:ext cx="3779640" cy="29476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"/>
          <p:cNvPicPr/>
          <p:nvPr/>
        </p:nvPicPr>
        <p:blipFill>
          <a:blip r:embed="rId2"/>
          <a:stretch/>
        </p:blipFill>
        <p:spPr>
          <a:xfrm>
            <a:off x="1079640" y="4140360"/>
            <a:ext cx="6119640" cy="2519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"/>
          <p:cNvPicPr/>
          <p:nvPr/>
        </p:nvPicPr>
        <p:blipFill>
          <a:blip r:embed="rId3"/>
          <a:stretch/>
        </p:blipFill>
        <p:spPr>
          <a:xfrm>
            <a:off x="1216080" y="1731960"/>
            <a:ext cx="3463920" cy="22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обходим для прочности к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076560" cy="20476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"/>
          <p:cNvPicPr/>
          <p:nvPr/>
        </p:nvPicPr>
        <p:blipFill>
          <a:blip r:embed="rId2"/>
          <a:stretch/>
        </p:blipFill>
        <p:spPr>
          <a:xfrm>
            <a:off x="912960" y="4071960"/>
            <a:ext cx="3406680" cy="2047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"/>
          <p:cNvPicPr/>
          <p:nvPr/>
        </p:nvPicPr>
        <p:blipFill>
          <a:blip r:embed="rId3"/>
          <a:stretch/>
        </p:blipFill>
        <p:spPr>
          <a:xfrm>
            <a:off x="4654440" y="3892680"/>
            <a:ext cx="3986280" cy="24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ает сопротивляемость организма, поддерживает процессы кроветво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2" descr=""/>
          <p:cNvPicPr/>
          <p:nvPr/>
        </p:nvPicPr>
        <p:blipFill>
          <a:blip r:embed="rId1"/>
          <a:stretch/>
        </p:blipFill>
        <p:spPr>
          <a:xfrm>
            <a:off x="647640" y="1552680"/>
            <a:ext cx="2952720" cy="20476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"/>
          <p:cNvPicPr/>
          <p:nvPr/>
        </p:nvPicPr>
        <p:blipFill>
          <a:blip r:embed="rId2"/>
          <a:stretch/>
        </p:blipFill>
        <p:spPr>
          <a:xfrm>
            <a:off x="539640" y="3780000"/>
            <a:ext cx="3780000" cy="25207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"/>
          <p:cNvPicPr/>
          <p:nvPr/>
        </p:nvPicPr>
        <p:blipFill>
          <a:blip r:embed="rId3"/>
          <a:stretch/>
        </p:blipFill>
        <p:spPr>
          <a:xfrm>
            <a:off x="4500720" y="3959280"/>
            <a:ext cx="4570200" cy="28382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5" descr=""/>
          <p:cNvPicPr/>
          <p:nvPr/>
        </p:nvPicPr>
        <p:blipFill>
          <a:blip r:embed="rId4"/>
          <a:stretch/>
        </p:blipFill>
        <p:spPr>
          <a:xfrm>
            <a:off x="4140360" y="1260360"/>
            <a:ext cx="414000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о вред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2" descr=""/>
          <p:cNvPicPr/>
          <p:nvPr/>
        </p:nvPicPr>
        <p:blipFill>
          <a:blip r:embed="rId1"/>
          <a:stretch/>
        </p:blipFill>
        <p:spPr>
          <a:xfrm>
            <a:off x="539640" y="1300320"/>
            <a:ext cx="192564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" descr=""/>
          <p:cNvPicPr/>
          <p:nvPr/>
        </p:nvPicPr>
        <p:blipFill>
          <a:blip r:embed="rId2"/>
          <a:stretch/>
        </p:blipFill>
        <p:spPr>
          <a:xfrm>
            <a:off x="5400720" y="3600360"/>
            <a:ext cx="3240000" cy="2340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"/>
          <p:cNvPicPr/>
          <p:nvPr/>
        </p:nvPicPr>
        <p:blipFill>
          <a:blip r:embed="rId3"/>
          <a:stretch/>
        </p:blipFill>
        <p:spPr>
          <a:xfrm>
            <a:off x="5783400" y="110016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"/>
          <p:cNvPicPr/>
          <p:nvPr/>
        </p:nvPicPr>
        <p:blipFill>
          <a:blip r:embed="rId4"/>
          <a:stretch/>
        </p:blipFill>
        <p:spPr>
          <a:xfrm>
            <a:off x="3419640" y="18748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"/>
          <p:cNvPicPr/>
          <p:nvPr/>
        </p:nvPicPr>
        <p:blipFill>
          <a:blip r:embed="rId5"/>
          <a:stretch/>
        </p:blipFill>
        <p:spPr>
          <a:xfrm>
            <a:off x="982800" y="3911760"/>
            <a:ext cx="2257200" cy="20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ща оказывает значительное влияние на человека. Она даё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ерг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38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286080" y="2214720"/>
            <a:ext cx="535788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жим пит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таться 5 раз в день, интервалы между приёмами от 3 до 5 ча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таться за 3- 4 ч до с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ща должна быть разнообраз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38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572000" y="4140360"/>
            <a:ext cx="3786120" cy="23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лорий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39640" y="1943280"/>
            <a:ext cx="5813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алорийность раци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ети 3-4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18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ети 5-6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19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ети 7-10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23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ети 11-13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28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Юноши в возрасте 14-17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31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евушки в возрасте 14-17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27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450720" y="3780000"/>
            <a:ext cx="2610000" cy="28573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2"/>
          <a:stretch/>
        </p:blipFill>
        <p:spPr>
          <a:xfrm>
            <a:off x="5770440" y="1260360"/>
            <a:ext cx="2689200" cy="21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ы правильного пи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123480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м рационом здорового питания должны стать овощи, фрукты и кру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употреблять только свежие продук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соблюдать пропорции и разнообразить свое пит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необходимо перекусить – поешьте фруктов, орехов или сухофрук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ъеденная пища должна быть уравновешена соответствующей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изической нагрузк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38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Золотые правила пита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 едой всегда тщательно мойте рук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ое- не переедайт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шьте в одно и то же время свежеприготовленную пищ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щательно пережёвывайте пищ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разговаривайте и не читайте во время еды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забывайте о правилах культурного поведения за столо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1260360" y="539640"/>
            <a:ext cx="665964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ноценное пит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ле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38"/>
              </a:spcBef>
              <a:spcAft>
                <a:spcPts val="1412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38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429000" y="2000160"/>
            <a:ext cx="5381640" cy="335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6T17:13:23Z</dcterms:created>
  <dc:creator>Admin</dc:creator>
  <dc:description/>
  <dc:language>en-US</dc:language>
  <cp:lastModifiedBy>Admin</cp:lastModifiedBy>
  <dcterms:modified xsi:type="dcterms:W3CDTF">2018-02-06T18:35:49Z</dcterms:modified>
  <cp:revision>3</cp:revision>
  <dc:subject/>
  <dc:title>Тема проекта: «Каким должно быть правильное питание?»</dc:title>
</cp:coreProperties>
</file>