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2.jpeg" ContentType="image/jpeg"/>
  <Override PartName="/ppt/media/image9.png" ContentType="image/png"/>
  <Override PartName="/ppt/media/image7.gif" ContentType="image/gif"/>
  <Override PartName="/ppt/media/image26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png" ContentType="image/png"/>
  <Override PartName="/ppt/media/image27.jpeg" ContentType="image/jpeg"/>
  <Override PartName="/ppt/media/image4.jpeg" ContentType="image/jpeg"/>
  <Override PartName="/ppt/media/image25.jpeg" ContentType="image/jpeg"/>
  <Override PartName="/ppt/media/image3.jpeg" ContentType="image/jpeg"/>
  <Override PartName="/ppt/media/image24.jpeg" ContentType="image/jpeg"/>
  <Override PartName="/ppt/media/image2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5.png" ContentType="image/png"/>
  <Override PartName="/ppt/media/image2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7FC1B-D763-49F5-827C-49D668A7E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0457F-9489-4E67-B585-BE34A491C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2FF74-416C-45C5-8B80-309347501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EB2AA-D84A-4AD3-B1E4-57144AFEE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F635F-0838-4B22-8429-7701603B4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30488-A03B-4C86-9976-877361865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F3BF2-CB85-43CA-B849-6A9186C0F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10094-E4AA-49F1-915A-1146075BE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23B16-64AA-4926-BAC2-D2A2909A6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E1E03-DCD6-4D1F-9348-F45ED800A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93D12-8E96-4FE1-9688-3A39766F3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8AAB5-C6D3-4564-90B1-A31C748BA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5249F-A4BB-4BDB-BF09-BEE7DD15498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одзаголовок 2"/>
          <p:cNvSpPr/>
          <p:nvPr/>
        </p:nvSpPr>
        <p:spPr>
          <a:xfrm>
            <a:off x="2319480" y="344520"/>
            <a:ext cx="6429240" cy="15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7"/>
          <p:cNvSpPr/>
          <p:nvPr/>
        </p:nvSpPr>
        <p:spPr>
          <a:xfrm>
            <a:off x="382680" y="1545840"/>
            <a:ext cx="8280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Конспект занятия по непосредственно-образовательной деятельности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«Вот пришли морозцы – и зима настала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7"/>
          <p:cNvSpPr/>
          <p:nvPr/>
        </p:nvSpPr>
        <p:spPr>
          <a:xfrm>
            <a:off x="5076720" y="5457960"/>
            <a:ext cx="384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ила и провела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тель Крючкова Т.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Нижний колонтитул 5"/>
          <p:cNvSpPr/>
          <p:nvPr/>
        </p:nvSpPr>
        <p:spPr>
          <a:xfrm>
            <a:off x="3348000" y="655164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Москв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Рисунок 2" descr=""/>
          <p:cNvPicPr/>
          <p:nvPr/>
        </p:nvPicPr>
        <p:blipFill>
          <a:blip r:embed="rId1"/>
          <a:stretch/>
        </p:blipFill>
        <p:spPr>
          <a:xfrm>
            <a:off x="287280" y="2925720"/>
            <a:ext cx="4880160" cy="36720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90640" y="5346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Государственное бюджетное общеобразовательное учреждение города Москвы "Школа № 329 имени Героя Советского Союза А.С. Хлобыстова"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p:transition spd="med"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431640" y="411120"/>
            <a:ext cx="3600720" cy="350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бёнок читает стихотворение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тропинки занесл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ег блестит, искритс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ювиком в моё стекл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укнула синиц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окном повешу е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кусочек сал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б теплей и веселе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дной птахе стало.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Рисунок 1" descr=""/>
          <p:cNvPicPr/>
          <p:nvPr/>
        </p:nvPicPr>
        <p:blipFill>
          <a:blip r:embed="rId1"/>
          <a:stretch/>
        </p:blipFill>
        <p:spPr>
          <a:xfrm>
            <a:off x="3720960" y="2781360"/>
            <a:ext cx="5027760" cy="3770280"/>
          </a:xfrm>
          <a:prstGeom prst="rect">
            <a:avLst/>
          </a:prstGeom>
          <a:ln w="0">
            <a:noFill/>
          </a:ln>
        </p:spPr>
      </p:pic>
      <p:sp>
        <p:nvSpPr>
          <p:cNvPr id="84" name="Прямоугольник 2"/>
          <p:cNvSpPr/>
          <p:nvPr/>
        </p:nvSpPr>
        <p:spPr>
          <a:xfrm>
            <a:off x="4067280" y="404640"/>
            <a:ext cx="46814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бенок читает стихотворение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это время года ложиться спать природа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рывшись белоснежны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шистым снегом нежны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негу деревья и дом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ы говорим: «Пришла зима!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edge/>
  </p:transition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Объект 3" descr=""/>
          <p:cNvPicPr/>
          <p:nvPr/>
        </p:nvPicPr>
        <p:blipFill>
          <a:blip r:embed="rId1"/>
          <a:stretch/>
        </p:blipFill>
        <p:spPr>
          <a:xfrm>
            <a:off x="2714760" y="2060640"/>
            <a:ext cx="6033960" cy="4525920"/>
          </a:xfrm>
          <a:prstGeom prst="rect">
            <a:avLst/>
          </a:prstGeom>
          <a:ln w="0">
            <a:noFill/>
          </a:ln>
        </p:spPr>
      </p:pic>
      <p:sp>
        <p:nvSpPr>
          <p:cNvPr id="86" name="Прямоугольник 4"/>
          <p:cNvSpPr/>
          <p:nvPr/>
        </p:nvSpPr>
        <p:spPr>
          <a:xfrm>
            <a:off x="468360" y="331920"/>
            <a:ext cx="8280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1f497d"/>
                </a:solidFill>
                <a:uFillTx/>
                <a:latin typeface="Times New Roman"/>
                <a:ea typeface="Times New Roman"/>
              </a:rPr>
              <a:t>Воспитатель:</a:t>
            </a:r>
            <a:r>
              <a:rPr b="0" lang="ru-RU" sz="2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, скажите, какое дерево легко узнать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403152"/>
                </a:solidFill>
                <a:uFillTx/>
                <a:latin typeface="Times New Roman"/>
                <a:ea typeface="Times New Roman"/>
              </a:rPr>
              <a:t>Дети:</a:t>
            </a:r>
            <a:r>
              <a:rPr b="0" lang="ru-RU" sz="2000" spc="-1" strike="noStrike">
                <a:solidFill>
                  <a:srgbClr val="403152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берез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слушивание песни «У леса на опушке, жила зима в избушке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1f497d"/>
                </a:solidFill>
                <a:uFillTx/>
                <a:latin typeface="Times New Roman"/>
                <a:ea typeface="Times New Roman"/>
              </a:rPr>
              <a:t>Воспитатель:</a:t>
            </a:r>
            <a:r>
              <a:rPr b="0" lang="ru-RU" sz="2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де же зима солила снежки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403152"/>
                </a:solidFill>
                <a:uFillTx/>
                <a:latin typeface="Times New Roman"/>
                <a:ea typeface="Times New Roman"/>
              </a:rPr>
              <a:t>Дети:</a:t>
            </a:r>
            <a:r>
              <a:rPr b="0" lang="ru-RU" sz="2000" spc="-1" strike="noStrike">
                <a:solidFill>
                  <a:srgbClr val="403152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березовой кадушк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Объект 3" descr=""/>
          <p:cNvPicPr/>
          <p:nvPr/>
        </p:nvPicPr>
        <p:blipFill>
          <a:blip r:embed="rId1"/>
          <a:stretch/>
        </p:blipFill>
        <p:spPr>
          <a:xfrm>
            <a:off x="324000" y="3554280"/>
            <a:ext cx="4032000" cy="3024360"/>
          </a:xfrm>
          <a:prstGeom prst="rect">
            <a:avLst/>
          </a:prstGeom>
          <a:ln w="0">
            <a:noFill/>
          </a:ln>
        </p:spPr>
      </p:pic>
      <p:sp>
        <p:nvSpPr>
          <p:cNvPr id="88" name="Прямоугольник 4"/>
          <p:cNvSpPr/>
          <p:nvPr/>
        </p:nvSpPr>
        <p:spPr>
          <a:xfrm>
            <a:off x="469800" y="333360"/>
            <a:ext cx="824400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Физкультминутк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ужатся снежинки в воздухе морозном </a:t>
            </a:r>
            <a:r>
              <a:rPr b="0" i="1" lang="ru-RU" sz="22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(дети медленно кружатся, имитируя полет снежинок)</a:t>
            </a:r>
            <a:r>
              <a:rPr b="0" lang="ru-RU" sz="22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дают на землю кружевные звезды. Вот одна упала прямо на ладошку </a:t>
            </a:r>
            <a:r>
              <a:rPr b="0" i="1" lang="ru-RU" sz="22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(приседают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Рисунок 5" descr=""/>
          <p:cNvPicPr/>
          <p:nvPr/>
        </p:nvPicPr>
        <p:blipFill>
          <a:blip r:embed="rId2"/>
          <a:stretch/>
        </p:blipFill>
        <p:spPr>
          <a:xfrm>
            <a:off x="4394160" y="1825560"/>
            <a:ext cx="4319640" cy="324000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324000" y="476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Физкультминут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й, не тай, снежинка, подожди немножко </a:t>
            </a:r>
            <a:r>
              <a:rPr b="0" i="1" lang="ru-RU" sz="2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(сдувают невидимую снежинку с ладони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Рисунок 1" descr=""/>
          <p:cNvPicPr/>
          <p:nvPr/>
        </p:nvPicPr>
        <p:blipFill>
          <a:blip r:embed="rId1"/>
          <a:stretch/>
        </p:blipFill>
        <p:spPr>
          <a:xfrm>
            <a:off x="2050920" y="1484280"/>
            <a:ext cx="6750360" cy="506268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394920" y="333360"/>
            <a:ext cx="8388360" cy="62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1f497d"/>
                </a:solidFill>
                <a:uFillTx/>
                <a:latin typeface="Times New Roman"/>
                <a:ea typeface="Times New Roman"/>
              </a:rPr>
              <a:t>Воспитатель: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казывает заснеженную березу на картинк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эт С. Есенин написал красивое стихотворение о нашей берез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бёнок читает стихотворение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лая берёза под моим окно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акрылась снего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чно серебро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пушистых ветках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ежною каймо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пустились кист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лой бахромо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стоит берез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онной тиши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горят снежинк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золотом ог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заря ленив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ходя круго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сыпает ветк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вым серебро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Рисунок 3" descr=""/>
          <p:cNvPicPr/>
          <p:nvPr/>
        </p:nvPicPr>
        <p:blipFill>
          <a:blip r:embed="rId1"/>
          <a:stretch/>
        </p:blipFill>
        <p:spPr>
          <a:xfrm>
            <a:off x="2916360" y="2133720"/>
            <a:ext cx="5867280" cy="440028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250920" y="259920"/>
            <a:ext cx="8532720" cy="30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1f497d"/>
                </a:solidFill>
                <a:uFillTx/>
                <a:latin typeface="Times New Roman"/>
                <a:ea typeface="Times New Roman"/>
              </a:rPr>
              <a:t>Воспитатель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бята, вот этой красавице березе грустно стоять одной, сейчас мы с вами нарисуем ей подружек. И получится заснеженный березовый лес (или березник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вучит музы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рисуют березу, воспитатель обращает внимание, как ребята держат кисточку, пользуются акварельными красками, белой гуашью, методом «тычка» рисуют снег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Рисунок 3" descr=""/>
          <p:cNvPicPr/>
          <p:nvPr/>
        </p:nvPicPr>
        <p:blipFill>
          <a:blip r:embed="rId1"/>
          <a:stretch/>
        </p:blipFill>
        <p:spPr>
          <a:xfrm>
            <a:off x="4643280" y="3429000"/>
            <a:ext cx="4140360" cy="310500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Объект 3" descr=""/>
          <p:cNvPicPr/>
          <p:nvPr/>
        </p:nvPicPr>
        <p:blipFill>
          <a:blip r:embed="rId1"/>
          <a:stretch/>
        </p:blipFill>
        <p:spPr>
          <a:xfrm>
            <a:off x="4606920" y="3519360"/>
            <a:ext cx="4140360" cy="3105360"/>
          </a:xfrm>
          <a:prstGeom prst="rect">
            <a:avLst/>
          </a:prstGeom>
          <a:ln w="0">
            <a:noFill/>
          </a:ln>
        </p:spPr>
      </p:pic>
      <p:pic>
        <p:nvPicPr>
          <p:cNvPr id="97" name="Рисунок 5" descr=""/>
          <p:cNvPicPr/>
          <p:nvPr/>
        </p:nvPicPr>
        <p:blipFill>
          <a:blip r:embed="rId2"/>
          <a:stretch/>
        </p:blipFill>
        <p:spPr>
          <a:xfrm>
            <a:off x="324000" y="333360"/>
            <a:ext cx="4248000" cy="318600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Объект 3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8496000" cy="626436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468360" y="404280"/>
            <a:ext cx="822960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онце занятия воспитатель все рисунки помещает рядом с березо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1f497d"/>
                </a:solidFill>
                <a:uFillTx/>
                <a:latin typeface="Times New Roman"/>
                <a:ea typeface="Times New Roman"/>
              </a:rPr>
              <a:t>Воспитатель:</a:t>
            </a:r>
            <a:r>
              <a:rPr b="0" lang="ru-RU" sz="32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лодцы ребята, порадовали березку, нарисовали ей очень много подружек, теперь им точно никакой мороз не страшен.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Итог занятия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1f497d"/>
                </a:solidFill>
                <a:uFillTx/>
                <a:latin typeface="Times New Roman"/>
                <a:ea typeface="Times New Roman"/>
              </a:rPr>
              <a:t>Воспитатель:</a:t>
            </a:r>
            <a:r>
              <a:rPr b="0" i="1" lang="ru-RU" sz="32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годня мы говорили о времени года – зима. Научились видеть красоту зимних пейзажей, рисовать белую березу, проявлять заботу о птицах, обратили внимание как дикие животные зимуют в лес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94920" y="333360"/>
            <a:ext cx="8209080" cy="59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500" spc="-1" strike="noStrike" u="sng">
                <a:solidFill>
                  <a:srgbClr val="17375e"/>
                </a:solidFill>
                <a:uFillTx/>
                <a:latin typeface="Times New Roman"/>
                <a:ea typeface="Times New Roman"/>
              </a:rPr>
              <a:t>Цели</a:t>
            </a:r>
            <a:r>
              <a:rPr b="1" lang="ru-RU" sz="25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: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общить знания детей о времени года «зима», о зимних забавах, а так же о растительном и животном мире в зимнее время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 u="sng">
                <a:solidFill>
                  <a:srgbClr val="31859c"/>
                </a:solidFill>
                <a:uFillTx/>
                <a:latin typeface="Times New Roman"/>
                <a:ea typeface="Times New Roman"/>
              </a:rPr>
              <a:t>Задачи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учить правильно называть зимние месяцы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репить представление о зимнем покое растений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ывать бережное отношение к природе, особенно в зимний период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огащать речь образными выражениями, помочь почувствовать красоту зимней природы в стихотворениях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репить умение передавать впечатления от стихотворения в рисунке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Прямоугольник 1"/>
          <p:cNvSpPr/>
          <p:nvPr/>
        </p:nvSpPr>
        <p:spPr>
          <a:xfrm>
            <a:off x="395280" y="189000"/>
            <a:ext cx="8280360" cy="649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Times New Roman"/>
                <a:ea typeface="Calibri"/>
              </a:rPr>
              <a:t>Предварительная работа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ссматривание иллюстраций «Деревья зимой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«Зимние забавы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Чтение потешек о природе, зимних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стихотворени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Загадывание загадок о зимних явлениях 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ироде, а также о зимних играх и забавах. Дидактические игры «Кто где живет и что ест», «Времена года» Рассматривание иллюстраций «Зимующие птицы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edge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395280" y="33336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Ход занятия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 u="sng">
                <a:solidFill>
                  <a:srgbClr val="1f497d"/>
                </a:solidFill>
                <a:uFillTx/>
                <a:latin typeface="Times New Roman"/>
                <a:ea typeface="Times New Roman"/>
              </a:rPr>
              <a:t>Воспитатель:</a:t>
            </a:r>
            <a:r>
              <a:rPr b="0" lang="ru-RU" sz="22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бята, сегодня мы говорим о времени года «Зима». Зима имеет свои месяцы. Назовите их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 u="sng">
                <a:solidFill>
                  <a:srgbClr val="403152"/>
                </a:solidFill>
                <a:uFillTx/>
                <a:latin typeface="Times New Roman"/>
                <a:ea typeface="Times New Roman"/>
              </a:rPr>
              <a:t>Дети:</a:t>
            </a:r>
            <a:r>
              <a:rPr b="0" lang="ru-RU" sz="2200" spc="-1" strike="noStrike">
                <a:solidFill>
                  <a:srgbClr val="403152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кабрь, январь, февраль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Рисунок 3" descr=""/>
          <p:cNvPicPr/>
          <p:nvPr/>
        </p:nvPicPr>
        <p:blipFill>
          <a:blip r:embed="rId1"/>
          <a:stretch/>
        </p:blipFill>
        <p:spPr>
          <a:xfrm>
            <a:off x="2700360" y="1986120"/>
            <a:ext cx="6107040" cy="458136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324000" y="333000"/>
            <a:ext cx="8229600" cy="15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1f497d"/>
                </a:solidFill>
                <a:uFillTx/>
                <a:latin typeface="Times New Roman"/>
                <a:ea typeface="Times New Roman"/>
              </a:rPr>
              <a:t>Воспитатель:</a:t>
            </a:r>
            <a:r>
              <a:rPr b="0" lang="ru-RU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ажите, кому из вас нравится зима и чем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403152"/>
                </a:solidFill>
                <a:uFillTx/>
                <a:latin typeface="Times New Roman"/>
                <a:ea typeface="Times New Roman"/>
              </a:rPr>
              <a:t>Дети:</a:t>
            </a:r>
            <a:r>
              <a:rPr b="0" lang="ru-RU" sz="2400" spc="-1" strike="noStrike">
                <a:solidFill>
                  <a:srgbClr val="403152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таемся на санках, лыжах, коньках. Лепим снеговиков, играем в снежки, строим крепость, катаемся с горок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1f497d"/>
                </a:solidFill>
                <a:uFillTx/>
                <a:latin typeface="Times New Roman"/>
                <a:ea typeface="Times New Roman"/>
              </a:rPr>
              <a:t>Воспитатель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мне тоже нравится зима! Это когда тихо падает снег, хрустят снежинки под ногами, деревья, поля усыпаны снего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5" descr="http://illustrators.ru/uploads/illustration/image/431024/main_431024_original.jpeg"/>
          <p:cNvPicPr/>
          <p:nvPr/>
        </p:nvPicPr>
        <p:blipFill>
          <a:blip r:embed="rId1"/>
          <a:stretch/>
        </p:blipFill>
        <p:spPr>
          <a:xfrm>
            <a:off x="5651640" y="2924280"/>
            <a:ext cx="3097080" cy="20923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http://1.bp.blogspot.com/-Ltp9hH3SZis/T2sSh0g15XI/AAAAAAAAAkQ/tohOqA9mfgY/s1600/0_a7df6_3aca05b2_orig.png"/>
          <p:cNvPicPr/>
          <p:nvPr/>
        </p:nvPicPr>
        <p:blipFill>
          <a:blip r:embed="rId2"/>
          <a:stretch/>
        </p:blipFill>
        <p:spPr>
          <a:xfrm>
            <a:off x="2786040" y="3795840"/>
            <a:ext cx="2916360" cy="27064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" descr="http://userdocs.ru/pars_docs/refs/98/97435/97435_html_m26e593c5.jpg"/>
          <p:cNvPicPr/>
          <p:nvPr/>
        </p:nvPicPr>
        <p:blipFill>
          <a:blip r:embed="rId3"/>
          <a:stretch/>
        </p:blipFill>
        <p:spPr>
          <a:xfrm>
            <a:off x="324000" y="3121200"/>
            <a:ext cx="2462040" cy="215244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55600" y="376200"/>
            <a:ext cx="8469360" cy="618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1f497d"/>
                </a:solidFill>
                <a:uFillTx/>
                <a:latin typeface="Times New Roman"/>
                <a:ea typeface="Times New Roman"/>
              </a:rPr>
              <a:t>Воспитатель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гадываем загадки о зимних забавах дете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14" descr="http://my.gmj.ru/Blog/Attachment.ashx?aid=486389"/>
          <p:cNvPicPr/>
          <p:nvPr/>
        </p:nvPicPr>
        <p:blipFill>
          <a:blip r:embed="rId1"/>
          <a:stretch/>
        </p:blipFill>
        <p:spPr>
          <a:xfrm>
            <a:off x="5099040" y="4819680"/>
            <a:ext cx="2127240" cy="17193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6" descr="http://stroygigant.ru/uploads/goods/156213/sanki-detskie-sdo5315-00-00-01-p.jpg"/>
          <p:cNvPicPr/>
          <p:nvPr/>
        </p:nvPicPr>
        <p:blipFill>
          <a:blip r:embed="rId2"/>
          <a:stretch/>
        </p:blipFill>
        <p:spPr>
          <a:xfrm>
            <a:off x="271440" y="4375080"/>
            <a:ext cx="2624040" cy="19684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9" name="Picture 10" descr="http://sovetclub.ru/tim/5ea54cdf8b016201e9e75a27e7662c28.gif"/>
          <p:cNvPicPr/>
          <p:nvPr/>
        </p:nvPicPr>
        <p:blipFill>
          <a:blip r:embed="rId3"/>
          <a:stretch/>
        </p:blipFill>
        <p:spPr>
          <a:xfrm>
            <a:off x="509760" y="1851120"/>
            <a:ext cx="2587320" cy="2070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60" name="Picture 12" descr="http://demo-sportlife.uweb.ru/_sh/00/26.jpg"/>
          <p:cNvPicPr/>
          <p:nvPr/>
        </p:nvPicPr>
        <p:blipFill>
          <a:blip r:embed="rId4"/>
          <a:stretch/>
        </p:blipFill>
        <p:spPr>
          <a:xfrm>
            <a:off x="3906720" y="1677960"/>
            <a:ext cx="2156040" cy="2371680"/>
          </a:xfrm>
          <a:prstGeom prst="rect">
            <a:avLst/>
          </a:prstGeom>
          <a:ln w="0">
            <a:noFill/>
          </a:ln>
        </p:spPr>
      </p:pic>
      <p:sp>
        <p:nvSpPr>
          <p:cNvPr id="61" name="TextBox 1"/>
          <p:cNvSpPr/>
          <p:nvPr/>
        </p:nvSpPr>
        <p:spPr>
          <a:xfrm>
            <a:off x="5202360" y="982800"/>
            <a:ext cx="3527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Мои новые подружк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блестящи, и легки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на льду со мной резвятся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мороза не боятся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Box 3"/>
          <p:cNvSpPr/>
          <p:nvPr/>
        </p:nvSpPr>
        <p:spPr>
          <a:xfrm>
            <a:off x="455760" y="982800"/>
            <a:ext cx="4566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ревянные кони по снегу скачут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в снег не проваливаются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Box 4"/>
          <p:cNvSpPr/>
          <p:nvPr/>
        </p:nvSpPr>
        <p:spPr>
          <a:xfrm>
            <a:off x="4707000" y="2997360"/>
            <a:ext cx="4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Box 5"/>
          <p:cNvSpPr/>
          <p:nvPr/>
        </p:nvSpPr>
        <p:spPr>
          <a:xfrm>
            <a:off x="5248440" y="3373560"/>
            <a:ext cx="3558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Хлопья белые летят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хо падают, кружат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ло всё вокруг бело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м дорожки замело?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Box 6"/>
          <p:cNvSpPr/>
          <p:nvPr/>
        </p:nvSpPr>
        <p:spPr>
          <a:xfrm>
            <a:off x="376200" y="3736800"/>
            <a:ext cx="4354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Вот полозья, спинка, планки –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всё вместе это –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7"/>
          <p:cNvSpPr/>
          <p:nvPr/>
        </p:nvSpPr>
        <p:spPr>
          <a:xfrm>
            <a:off x="3759120" y="130968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лыжи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extBox 8"/>
          <p:cNvSpPr/>
          <p:nvPr/>
        </p:nvSpPr>
        <p:spPr>
          <a:xfrm>
            <a:off x="6627960" y="237960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коньки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Box 9"/>
          <p:cNvSpPr/>
          <p:nvPr/>
        </p:nvSpPr>
        <p:spPr>
          <a:xfrm>
            <a:off x="2606760" y="4041720"/>
            <a:ext cx="18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анки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Box 10"/>
          <p:cNvSpPr/>
          <p:nvPr/>
        </p:nvSpPr>
        <p:spPr>
          <a:xfrm>
            <a:off x="7726320" y="4803840"/>
            <a:ext cx="10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нег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edge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8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1" dur="5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4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7" dur="5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2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395280" y="333000"/>
            <a:ext cx="822960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1f497d"/>
                </a:solidFill>
                <a:uFillTx/>
                <a:latin typeface="Times New Roman"/>
                <a:ea typeface="Times New Roman"/>
              </a:rPr>
              <a:t>Воспитатель:</a:t>
            </a:r>
            <a:r>
              <a:rPr b="0" lang="ru-RU" sz="2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, скажите, что происходит с лесными жителями зимой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Рисунок 1" descr=""/>
          <p:cNvPicPr/>
          <p:nvPr/>
        </p:nvPicPr>
        <p:blipFill>
          <a:blip r:embed="rId1"/>
          <a:stretch/>
        </p:blipFill>
        <p:spPr>
          <a:xfrm>
            <a:off x="1814400" y="1341360"/>
            <a:ext cx="6969240" cy="522612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452520" y="2841120"/>
            <a:ext cx="8229600" cy="100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лодно и голодно зверям и птицам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лочка прячется в дупле, лисица забирается в глубокую нору. Мишка-медведь спит в своей берлоге теплой. По ночам тоскливо воют волк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2" descr="http://v.900igr.net:10/datai/okruzhajuschij-mir/Dikij-mir-zhivotnykh/0023-025-Letom-mekh-u-belki-redkij-i-ryzhij.jpg"/>
          <p:cNvPicPr/>
          <p:nvPr/>
        </p:nvPicPr>
        <p:blipFill>
          <a:blip r:embed="rId1"/>
          <a:stretch/>
        </p:blipFill>
        <p:spPr>
          <a:xfrm>
            <a:off x="420840" y="376200"/>
            <a:ext cx="3527280" cy="24652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" descr="http://fs00.infourok.ru/images/doc/114/134726/640/img16.jpg"/>
          <p:cNvPicPr/>
          <p:nvPr/>
        </p:nvPicPr>
        <p:blipFill>
          <a:blip r:embed="rId2"/>
          <a:stretch/>
        </p:blipFill>
        <p:spPr>
          <a:xfrm>
            <a:off x="5076720" y="376200"/>
            <a:ext cx="3622680" cy="24447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6" descr="http://michutka.3dn.ru/94/124.jpg"/>
          <p:cNvPicPr/>
          <p:nvPr/>
        </p:nvPicPr>
        <p:blipFill>
          <a:blip r:embed="rId3"/>
          <a:stretch/>
        </p:blipFill>
        <p:spPr>
          <a:xfrm>
            <a:off x="420840" y="3871800"/>
            <a:ext cx="2735280" cy="26035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8" descr="http://www2.stihi.ru/pics/2014/11/18/1699.jpg"/>
          <p:cNvPicPr/>
          <p:nvPr/>
        </p:nvPicPr>
        <p:blipFill>
          <a:blip r:embed="rId4"/>
          <a:stretch/>
        </p:blipFill>
        <p:spPr>
          <a:xfrm>
            <a:off x="6726240" y="3871800"/>
            <a:ext cx="2068560" cy="272736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1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2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2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3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395280" y="40464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нём зайцы сидят под кустами, а кормятся по ночам. Любимое зимнее лакомство-горькая кора молодых осинок. Птицы: сороки, галки, воробьи, синицы – прилетают по ближе к людям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5" descr="http://www.tierbildergalerie.com/data/media/98/winter_kaninchen.jpg"/>
          <p:cNvPicPr/>
          <p:nvPr/>
        </p:nvPicPr>
        <p:blipFill>
          <a:blip r:embed="rId1"/>
          <a:stretch/>
        </p:blipFill>
        <p:spPr>
          <a:xfrm>
            <a:off x="366840" y="3247920"/>
            <a:ext cx="2212920" cy="32688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7" descr="http://img-fotki.yandex.ru/get/5630/89962146.3a/0_93b68_91d06466_XL.jpg"/>
          <p:cNvPicPr/>
          <p:nvPr/>
        </p:nvPicPr>
        <p:blipFill>
          <a:blip r:embed="rId2"/>
          <a:stretch/>
        </p:blipFill>
        <p:spPr>
          <a:xfrm>
            <a:off x="4929120" y="1628640"/>
            <a:ext cx="3695760" cy="25783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9" descr="https://im2-tub-ru.yandex.net/i?id=011ca9c0937f2b6d2fa1846599513bc1&amp;n=33&amp;h=215&amp;w=274"/>
          <p:cNvPicPr/>
          <p:nvPr/>
        </p:nvPicPr>
        <p:blipFill>
          <a:blip r:embed="rId3"/>
          <a:stretch/>
        </p:blipFill>
        <p:spPr>
          <a:xfrm>
            <a:off x="2705040" y="4457880"/>
            <a:ext cx="2610000" cy="20476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1" descr="http://aves-taganrog.ucoz.ru/_dr/0/07737898.jpg"/>
          <p:cNvPicPr/>
          <p:nvPr/>
        </p:nvPicPr>
        <p:blipFill>
          <a:blip r:embed="rId4"/>
          <a:stretch/>
        </p:blipFill>
        <p:spPr>
          <a:xfrm>
            <a:off x="5472000" y="4651200"/>
            <a:ext cx="3300480" cy="185436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38" dur="2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9T17:09:31Z</dcterms:created>
  <dc:creator>Катенок</dc:creator>
  <dc:description/>
  <dc:language>en-US</dc:language>
  <cp:lastModifiedBy>1</cp:lastModifiedBy>
  <dcterms:modified xsi:type="dcterms:W3CDTF">2018-02-06T19:14:46Z</dcterms:modified>
  <cp:revision>104</cp:revision>
  <dc:subject/>
  <dc:title>Презентация PowerPoint</dc:title>
</cp:coreProperties>
</file>