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559-6834-4971-B062-0651CE8E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360-2AAC-4765-94B4-78A52CC5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1E6-81B8-4AA0-9AB0-BAA7B817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200-D04D-45B4-BE9B-8D887E33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DBEE-72A4-40E1-8C60-F1FAA13B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C9E4-617A-4A5F-A399-016F588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5C41-A42F-41D9-9BA2-BA3521DB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914-AF1E-4270-A3AE-0D099B19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A097-E4FC-49BF-A15B-6E77D47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6BD3-1371-45EF-8F44-1CF4705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D497-56E2-451E-851F-19D5E5B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111-AD66-45D0-9AF0-A8D1BF92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829F-49CF-44A9-88D3-35B2680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5D4C-E8A6-4865-99DE-83FD4ED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E278-C684-4423-B510-3C9A8516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6B55-68E2-47B1-9288-CB5CEF0F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D907-760D-42A6-97CD-A10A466E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5A8E-4D65-4A10-863E-7CA547C6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474E-2156-4290-B734-EAE0D2A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7DF8-EEAB-4918-AA82-4450F1F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B091-E08C-4382-88FC-A3B88C7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8BD4-63B7-40FD-B364-0960F2D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208-0513-42A2-946E-C4B74C1A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A4B4-7324-493D-BBDC-BFCBB42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CF46-44EC-4C3A-9DA5-30BB7FC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6592-29C7-4581-ADDF-4F018E79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618D-6303-4FD7-B60C-77EEC9D3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D6BE-C030-4EFF-BAA2-8C72E0C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4946-B95F-44C8-AA47-AF8E7420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F7D6-3B96-448A-8F6A-191C0752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A3B6-B490-4713-897D-25AC296A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ADE2-D475-4C3E-B45C-B270E6C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AE82-AA10-4DBE-A4E1-A70397D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69A-57D3-4B0E-989A-8AEC5FC1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BAAB-1040-4953-BEB6-39B81F8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F9D7-3A80-427B-B7CD-313543B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4C83-3BB7-4D35-9C13-95B7A9E7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3884-1364-41C5-87C0-5D88C60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A1D6-9BF0-4734-B514-0C3A37AE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3EB2-E131-4EFD-AF3B-BCB52322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ACA3-85D4-4FDC-A17F-4C6844B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AFDA-D1F5-40E1-A97E-574BDCEC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5082-2E8F-4E2E-B169-5FE3DE1D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443E-4827-408D-A486-23ECFF5B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7BB-DBAE-4751-92E8-A2B69A72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099DD-0D4F-42BF-82E4-DF22537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6F22-2312-4360-9D34-C981DAD9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B395-8205-4B63-A48C-5D65276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398A-BBE0-4862-8DF6-0F220477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DCD7-D118-4EDA-BF38-C9353D6D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32ED-C606-4819-832C-97F5E38B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4BED-E2CB-4B6F-9F78-25BAD88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7818-C2B5-4841-A529-71585AC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C5C3-B1D8-4AA3-8BC8-DF440F5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D4CA-40D9-4940-A376-628C24D2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C38-1D8E-4841-AD3A-D6032100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F0BCE-B34C-4818-B237-6D8F101F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617-D648-42E5-8685-D4F7A04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829-29EF-4647-8364-6AD0786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96F-0374-425F-9FB6-D22474D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5893-C669-4132-9E1A-1AD3393E24F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843C-8C32-4B98-B260-B45AED538E9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DBD-C89B-4908-9FE6-B0A31D74E78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2B64-BAA7-4DF0-A4EE-8192B034903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1F15-04DB-4ED3-A314-1184B88A303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74322s034.edusite.ru/junkor2.files/image003.gif" TargetMode="External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45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спомни и допиши формулы сокращенного умножения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28800" y="1928880"/>
            <a:ext cx="5643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а-в)(а+в)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а+в)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а-в)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а-в)(а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+ав +в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)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а+в)(а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ав +в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)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43160" y="1928880"/>
            <a:ext cx="1800360" cy="431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71840" y="2857680"/>
            <a:ext cx="2663640" cy="431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4286160" y="4643280"/>
            <a:ext cx="1440000" cy="432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4214880" y="5572080"/>
            <a:ext cx="1800000" cy="503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2500200" y="3714840"/>
            <a:ext cx="2664000" cy="431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D:\учитель года\картинки на школьныю тему\61.png"/>
          <p:cNvPicPr/>
          <p:nvPr/>
        </p:nvPicPr>
        <p:blipFill>
          <a:blip r:embed="rId1"/>
          <a:stretch/>
        </p:blipFill>
        <p:spPr>
          <a:xfrm>
            <a:off x="6357960" y="242892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3" descr="D:\учитель года\картинки на школьныю тему\Рисунок1.png"/>
          <p:cNvPicPr/>
          <p:nvPr/>
        </p:nvPicPr>
        <p:blipFill>
          <a:blip r:embed="rId1"/>
          <a:stretch/>
        </p:blipFill>
        <p:spPr>
          <a:xfrm>
            <a:off x="1071720" y="1785960"/>
            <a:ext cx="713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579600" y="-79200"/>
            <a:ext cx="8015040" cy="8712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3"/>
          <p:cNvSpPr/>
          <p:nvPr/>
        </p:nvSpPr>
        <p:spPr>
          <a:xfrm>
            <a:off x="357120" y="128592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три последовательных натуральных числа, если известно, что квадрат большего из них на 37 больше произведения двух друг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4" descr="Рисунок16.png"/>
          <p:cNvPicPr/>
          <p:nvPr/>
        </p:nvPicPr>
        <p:blipFill>
          <a:blip r:embed="rId2"/>
          <a:stretch/>
        </p:blipFill>
        <p:spPr>
          <a:xfrm>
            <a:off x="3429000" y="3110040"/>
            <a:ext cx="300024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х -2х + 1= 0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4" descr="D:\учитель года\картинки на школьныю тему\училка.jpg"/>
          <p:cNvPicPr/>
          <p:nvPr/>
        </p:nvPicPr>
        <p:blipFill>
          <a:blip r:embed="rId1"/>
          <a:stretch/>
        </p:blipFill>
        <p:spPr>
          <a:xfrm>
            <a:off x="3886200" y="1676520"/>
            <a:ext cx="448956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"/>
              <p:cNvSpPr txBox="1"/>
              <p:nvPr/>
            </p:nvSpPr>
            <p:spPr>
              <a:xfrm>
                <a:off x="714240" y="2643120"/>
                <a:ext cx="785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  <m:sSup>
                          <m:e/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838080" y="2438280"/>
            <a:ext cx="79250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9dd9"/>
                  </a:solidFill>
                  <a:miter/>
                </a:ln>
                <a:solidFill>
                  <a:srgbClr val="009dd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ложение</a:t>
            </a:r>
            <a:endParaRPr b="1" i="1" lang="en-US" sz="1800" spc="1" strike="noStrike">
              <a:ln w="12600">
                <a:solidFill>
                  <a:srgbClr val="009dd9"/>
                </a:solidFill>
                <a:miter/>
              </a:ln>
              <a:solidFill>
                <a:srgbClr val="009dd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9dd9"/>
                  </a:solidFill>
                  <a:miter/>
                </a:ln>
                <a:solidFill>
                  <a:srgbClr val="009dd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009dd9"/>
                  </a:solidFill>
                  <a:miter/>
                </a:ln>
                <a:solidFill>
                  <a:srgbClr val="009dd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огочлена на множители </a:t>
            </a:r>
            <a:endParaRPr b="1" i="1" lang="en-US" sz="1800" spc="1" strike="noStrike">
              <a:ln w="12600">
                <a:solidFill>
                  <a:srgbClr val="009dd9"/>
                </a:solidFill>
                <a:miter/>
              </a:ln>
              <a:solidFill>
                <a:srgbClr val="009dd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9dd9"/>
                  </a:solidFill>
                  <a:miter/>
                </a:ln>
                <a:solidFill>
                  <a:srgbClr val="009dd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помощью формул</a:t>
            </a:r>
            <a:endParaRPr b="1" i="1" lang="en-US" sz="1800" spc="1" strike="noStrike">
              <a:ln w="12600">
                <a:solidFill>
                  <a:srgbClr val="009dd9"/>
                </a:solidFill>
                <a:miter/>
              </a:ln>
              <a:solidFill>
                <a:srgbClr val="009dd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9dd9"/>
                  </a:solidFill>
                  <a:miter/>
                </a:ln>
                <a:solidFill>
                  <a:srgbClr val="009dd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009dd9"/>
                  </a:solidFill>
                  <a:miter/>
                </a:ln>
                <a:solidFill>
                  <a:srgbClr val="009dd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кращённого умножения</a:t>
            </a:r>
            <a:endParaRPr b="1" i="1" lang="en-US" sz="1800" spc="1" strike="noStrike">
              <a:ln w="12600">
                <a:solidFill>
                  <a:srgbClr val="009dd9"/>
                </a:solidFill>
                <a:miter/>
              </a:ln>
              <a:solidFill>
                <a:srgbClr val="009dd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Picture 6" descr="MCBD05092_0000%5b1%5d"/>
          <p:cNvPicPr/>
          <p:nvPr/>
        </p:nvPicPr>
        <p:blipFill>
          <a:blip r:embed="rId1"/>
          <a:stretch/>
        </p:blipFill>
        <p:spPr>
          <a:xfrm>
            <a:off x="0" y="152280"/>
            <a:ext cx="2587680" cy="2347920"/>
          </a:xfrm>
          <a:prstGeom prst="rect">
            <a:avLst/>
          </a:prstGeom>
          <a:ln w="0">
            <a:noFill/>
          </a:ln>
        </p:spPr>
      </p:pic>
      <p:sp>
        <p:nvSpPr>
          <p:cNvPr id="259" name="WordArt 7"/>
          <p:cNvSpPr txBox="1"/>
          <p:nvPr/>
        </p:nvSpPr>
        <p:spPr>
          <a:xfrm>
            <a:off x="285840" y="6429240"/>
            <a:ext cx="190980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ннурова Лилия Данировна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451800" y="151200"/>
            <a:ext cx="73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ери 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3"/>
          <p:cNvSpPr/>
          <p:nvPr/>
        </p:nvSpPr>
        <p:spPr>
          <a:xfrm>
            <a:off x="304920" y="2971800"/>
            <a:ext cx="3200400" cy="1447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ножители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4"/>
          <p:cNvSpPr/>
          <p:nvPr/>
        </p:nvSpPr>
        <p:spPr>
          <a:xfrm>
            <a:off x="3809880" y="1295280"/>
            <a:ext cx="4876920" cy="1371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суммы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3886200" y="3048120"/>
            <a:ext cx="4876920" cy="1447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произвед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ескольких одн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/>
          <p:cNvSpPr/>
          <p:nvPr/>
        </p:nvSpPr>
        <p:spPr>
          <a:xfrm>
            <a:off x="3962520" y="4952880"/>
            <a:ext cx="4876560" cy="1676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едения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>
            <a:off x="2819520" y="4419720"/>
            <a:ext cx="1143000" cy="129528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 flipV="1">
            <a:off x="2743200" y="1981080"/>
            <a:ext cx="1066680" cy="99072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3505320" y="373392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70" descr=""/>
          <p:cNvPicPr/>
          <p:nvPr/>
        </p:nvPicPr>
        <p:blipFill>
          <a:blip r:embed="rId1"/>
          <a:stretch/>
        </p:blipFill>
        <p:spPr>
          <a:xfrm>
            <a:off x="109440" y="-1712880"/>
            <a:ext cx="8583840" cy="71499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0"/>
              <p:cNvSpPr txBox="1"/>
              <p:nvPr/>
            </p:nvSpPr>
            <p:spPr>
              <a:xfrm>
                <a:off x="4000680" y="785880"/>
                <a:ext cx="314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2"/>
              <p:cNvSpPr txBox="1"/>
              <p:nvPr/>
            </p:nvSpPr>
            <p:spPr>
              <a:xfrm>
                <a:off x="4929120" y="1785960"/>
                <a:ext cx="314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3"/>
              <p:cNvSpPr txBox="1"/>
              <p:nvPr/>
            </p:nvSpPr>
            <p:spPr>
              <a:xfrm>
                <a:off x="6429240" y="1785960"/>
                <a:ext cx="314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4"/>
              <p:cNvSpPr txBox="1"/>
              <p:nvPr/>
            </p:nvSpPr>
            <p:spPr>
              <a:xfrm>
                <a:off x="3000240" y="2786040"/>
                <a:ext cx="314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8"/>
              <p:cNvSpPr txBox="1"/>
              <p:nvPr/>
            </p:nvSpPr>
            <p:spPr>
              <a:xfrm>
                <a:off x="5643720" y="2857680"/>
                <a:ext cx="314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79"/>
              <p:cNvSpPr txBox="1"/>
              <p:nvPr/>
            </p:nvSpPr>
            <p:spPr>
              <a:xfrm>
                <a:off x="7858080" y="2714760"/>
                <a:ext cx="314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80"/>
              <p:cNvSpPr txBox="1"/>
              <p:nvPr/>
            </p:nvSpPr>
            <p:spPr>
              <a:xfrm>
                <a:off x="4000680" y="3857760"/>
                <a:ext cx="314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81"/>
              <p:cNvSpPr txBox="1"/>
              <p:nvPr/>
            </p:nvSpPr>
            <p:spPr>
              <a:xfrm>
                <a:off x="3500280" y="4929120"/>
                <a:ext cx="3574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2"/>
              <p:cNvSpPr txBox="1"/>
              <p:nvPr/>
            </p:nvSpPr>
            <p:spPr>
              <a:xfrm>
                <a:off x="6929280" y="4857840"/>
                <a:ext cx="314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79" name="Рисунок 84" descr="Рисунок13.png"/>
          <p:cNvPicPr/>
          <p:nvPr/>
        </p:nvPicPr>
        <p:blipFill>
          <a:blip r:embed="rId2"/>
          <a:stretch/>
        </p:blipFill>
        <p:spPr>
          <a:xfrm>
            <a:off x="6929280" y="4500720"/>
            <a:ext cx="25718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579600" y="-493560"/>
            <a:ext cx="8113680" cy="29257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"/>
          <p:cNvSpPr/>
          <p:nvPr/>
        </p:nvSpPr>
        <p:spPr>
          <a:xfrm>
            <a:off x="1143000" y="343188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714240" y="278604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0ABC2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е 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+5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5=0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2714760" y="336024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Картинка 53 из 327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2160" y="4286160"/>
            <a:ext cx="2571840" cy="2398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ОГЭ 2015 Математика"/>
          <p:cNvPicPr/>
          <p:nvPr/>
        </p:nvPicPr>
        <p:blipFill>
          <a:blip r:embed="rId4"/>
          <a:stretch/>
        </p:blipFill>
        <p:spPr>
          <a:xfrm>
            <a:off x="108000" y="4653000"/>
            <a:ext cx="18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br>
              <a:rPr sz="4300"/>
            </a:br>
            <a:r>
              <a:rPr b="1" i="1" lang="ru-RU" sz="43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r>
              <a:rPr b="1" i="1" lang="en-US" sz="43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1216080"/>
          <a:ext cx="8458200" cy="52848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81=(с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с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125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²-20m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m</a:t>
                      </a:r>
                      <a:r>
                        <a:rPr b="1" lang="en-US" sz="2800" spc="-1" strike="noStrike">
                          <a:solidFill>
                            <a:srgbClr val="009dd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64=(t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x²</a:t>
                      </a:r>
                      <a:r>
                        <a:rPr b="1" lang="en-US" sz="2800" spc="-1" strike="noStrike">
                          <a:solidFill>
                            <a:srgbClr val="009dd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5x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64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1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омашнее задание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4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000000"/>
                </a:solidFill>
                <a:latin typeface="Constantia"/>
              </a:rPr>
              <a:t>§ 12,</a:t>
            </a:r>
            <a:endParaRPr b="0" lang="en-US" sz="1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№№ </a:t>
            </a: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311, 315,317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5:20:09Z</dcterms:created>
  <dc:creator>user</dc:creator>
  <dc:description/>
  <dc:language>en-US</dc:language>
  <cp:lastModifiedBy>учитель</cp:lastModifiedBy>
  <dcterms:modified xsi:type="dcterms:W3CDTF">2018-02-06T15:46:13Z</dcterms:modified>
  <cp:revision>42</cp:revision>
  <dc:subject/>
  <dc:title>Слайд 1</dc:title>
</cp:coreProperties>
</file>