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620E-2F15-4CD8-BF9C-CD3E36D5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F28C-F61B-45BB-AE52-92ED1561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6660-05BE-490C-AE75-FDD170DE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A1CE-84BF-42DA-88C6-7F1D60CA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8876-AE0C-4BA7-91BB-0838BDD5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601C-5FC0-4381-891D-E667721A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E023-CDEE-4FCE-BD2F-90DCC994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EABD-5F52-45AB-BD6D-0C20620F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8490-D962-4D34-AB36-02F2A67A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387A-4D30-4EC9-B0B8-5A3FBE40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0967-1BE7-4296-A315-9AE9E4C1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627C-0E85-4A44-B959-64B1538C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56A2-ED1A-47B8-9FCC-D126FA1C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F2F3-EEF2-4C16-91D5-EC1CA0B9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1AB7-9627-4F62-9F49-A30BFB51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1259-CE8C-4E05-9487-1ECE5AAC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4D8C-B8C5-4B17-92A9-B6CE5797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9A665-C149-4E92-9134-88FF5DB4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CC174-A344-47B3-9C3A-07386A8C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990D5-7F5A-48E1-A635-67B1156C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F3EBE-D01F-4BF0-BC1B-2884BDA7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D3112-AE92-4B1D-B197-CCE72AB7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4942-6C34-423E-A17A-40D88314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4D416-6C57-466D-8AC0-55FB8077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E59B7-7ABD-4649-AD84-F3B72839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C813C-AB49-41E7-BD49-150028F1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3C08E-721E-492E-A6FE-018E7F88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1ADAA-7200-406F-ABFE-80B5D384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59419-63FA-45E3-AB4B-5DCFAC17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5DBA0-698F-4E71-99BE-C2D8069C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20BF9-305C-4A37-A017-5949E5D7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D73EA-5F58-4589-98AB-5E31E53C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FF0AB-AAC1-45A0-8AB6-20DC8E0F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2E0A-55C7-4BD9-8DE6-D064443A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8F9CA-B2FC-42A5-A63A-CF8BDC1B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0A843-C18F-47BD-B6D3-723575F4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E6305-A944-4306-A5B4-F82869DF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E4124-FBC2-4893-8E25-A419D54C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08E85-5C07-4CED-9C07-C334BFF1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57E31-82F5-4B5A-B947-72E47CBC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23607-75EF-4E85-AB7E-9D2A5968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B40F1-A4FF-4EA2-8A15-F1EDA299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53CF6-5715-4A92-A095-2D3FEB67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FE563-00AA-4C0C-A0A9-535591CA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5688-BD0B-4C33-AF3C-C1F2389D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94741-41C9-453B-A674-57231101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65670-6BCE-4907-80FA-8ADEB652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7FA0A-AECF-4B62-9370-FE634007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82494-35E6-4C7B-ADD8-371BC12E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436D5-26AD-4437-9E16-930AABD7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B1764-8492-4809-9A97-EA806DDC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773D8-CBC3-4EB1-AD84-29B7A4CE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5EAAA-F756-4733-A0D9-83C5164B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AD8E4-B73D-4442-A9B4-08EB8CED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9EE9D-EA9D-41FE-9376-35EFEE1A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533F-A5B0-459B-AD22-F9C24338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6E265-D0F7-483B-85C5-3F315256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D108E-88FF-4076-9C2A-F83E3163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5D13F-4A7E-435F-80A7-D176D3F5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37100-4F48-44F2-85AE-ED262FCE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F4210-4D6A-40A0-9C4E-79E991E6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58AD9-0131-449B-B89C-4D30423D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C688A-FBF4-4974-983B-B3456A89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406FB-8ED9-4104-A493-C6A12416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CE4BE-D04E-414C-8E77-F48121B0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91205-BDB9-4564-9E24-C0ABE344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D25A-B735-4942-A387-83464A62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BD9BB-362E-476B-A4CB-25791B37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C9A17-5929-498B-A0B6-C6B75B1C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21231-8623-4426-895A-96982967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407ED-01FB-4FB0-997A-02861814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DFD28-D199-431E-B840-6DB94B34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8335B-8026-4F48-9C35-E1029EC9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4D992-D4D4-44BB-8460-5D4D34A3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25C2D-90FB-4DD6-9AC9-74904678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DC902-98CC-486F-8CE1-8548DA03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FA037-2BB1-4ED2-9407-9F09C9B5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AD51-D961-4FE4-923A-831DEE61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FDE59-6B65-4353-91B8-E64F0D82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D834D-7792-4E9F-B957-01BCC9C6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6DCD7-608C-4F99-9BFA-7A9197CF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EA035-6E87-4B93-B4B6-0B0B885C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E3A43-3D79-405F-960D-DDFEBAFA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F279-A34F-4988-8E61-74973A96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2D80-4E6A-4402-97DE-26AE3748055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93C9-7360-4BB8-A36D-1E49AFDA002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4E98-C597-4E08-924F-EBD21AC3349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8490-DCAC-4F60-98C9-7D0FB026207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845D-6710-47EA-86E7-7F1F46A4D441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547D-F7EC-44F7-8A9B-6ABBAE126EF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A709-A8DB-4650-A83D-1FBC2869BBD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04840" y="1125360"/>
            <a:ext cx="8964720" cy="259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0000"/>
                </a:solidFill>
                <a:latin typeface="Calibri Light"/>
              </a:rPr>
              <a:t>Государственные символы Республики Башкортостан</a:t>
            </a:r>
            <a:endParaRPr b="0" lang="en-US" sz="65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148000" y="980640"/>
            <a:ext cx="3663720" cy="496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33280" y="1949400"/>
            <a:ext cx="41054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Башкортостан, Отчизна дорогая,    Ты для нас священная земля.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С Урала солнце всходит, озаря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Наши горы, реки и поля.</a:t>
            </a:r>
            <a:br>
              <a:rPr sz="2000"/>
            </a:b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Припев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Славься, наш Башкортостан! Судьбой народу ты для счастья дан!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С Россией мы едины — и всегд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Процветай, Башкортостан!</a:t>
            </a:r>
            <a:br>
              <a:rPr sz="1800"/>
            </a:b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Прямоугольник 2"/>
          <p:cNvSpPr/>
          <p:nvPr/>
        </p:nvSpPr>
        <p:spPr>
          <a:xfrm>
            <a:off x="4537080" y="3471840"/>
            <a:ext cx="4572000" cy="27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2. Башкортостан — ты наша честь и сла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Доброй волей, дружбой ты силен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И стяг твой реет гордо, величаво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Он свободой, братством окрылен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3. Республика, сияй звездой прекрасно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Ты ликуй в свершеньях и трудах!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Родной очаг пусть никогда не гасн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усть ведут нас песни сквозь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3"/>
          <p:cNvSpPr/>
          <p:nvPr/>
        </p:nvSpPr>
        <p:spPr>
          <a:xfrm>
            <a:off x="2286000" y="287280"/>
            <a:ext cx="45720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 Light"/>
              </a:rPr>
              <a:t>Государственный Гимн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Calibri Light"/>
              </a:rPr>
              <a:t>Республики Башкортостан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155736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0066"/>
                </a:solidFill>
                <a:latin typeface="Calibri Light"/>
              </a:rPr>
              <a:t>Столица Республики Башкортостан –</a:t>
            </a:r>
            <a:br>
              <a:rPr sz="6600"/>
            </a:br>
            <a:r>
              <a:rPr b="0" lang="ru-RU" sz="6600" spc="-1" strike="noStrike">
                <a:solidFill>
                  <a:srgbClr val="cc0066"/>
                </a:solidFill>
                <a:latin typeface="Calibri Light"/>
              </a:rPr>
              <a:t> город Уфа</a:t>
            </a:r>
            <a:endParaRPr b="0" lang="en-US" sz="66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Calibri Light"/>
              </a:rPr>
              <a:t>Дом Республики Башкортостан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7" name="Picture 4" descr="Дом Республики"/>
          <p:cNvPicPr/>
          <p:nvPr/>
        </p:nvPicPr>
        <p:blipFill>
          <a:blip r:embed="rId1"/>
          <a:stretch/>
        </p:blipFill>
        <p:spPr>
          <a:xfrm>
            <a:off x="1398600" y="1846440"/>
            <a:ext cx="639144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0066"/>
                </a:solidFill>
                <a:latin typeface="Calibri Light"/>
              </a:rPr>
              <a:t>Дом заседаний Государственного  Собрания – Курултая Республики Башкортостан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9" name="Picture 4" descr="Дом заседания Государственного Собрания – Курултая Республики"/>
          <p:cNvPicPr/>
          <p:nvPr/>
        </p:nvPicPr>
        <p:blipFill>
          <a:blip r:embed="rId1"/>
          <a:stretch/>
        </p:blipFill>
        <p:spPr>
          <a:xfrm>
            <a:off x="1576440" y="1846440"/>
            <a:ext cx="60339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63272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Calibri Light"/>
              </a:rPr>
              <a:t>Монумент Дружбы народов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31" name="Picture 4" descr="Монумент Дружбы"/>
          <p:cNvPicPr/>
          <p:nvPr/>
        </p:nvPicPr>
        <p:blipFill>
          <a:blip r:embed="rId1"/>
          <a:stretch/>
        </p:blipFill>
        <p:spPr>
          <a:xfrm>
            <a:off x="3138480" y="1773360"/>
            <a:ext cx="28670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99"/>
                </a:solidFill>
                <a:latin typeface="Calibri Light"/>
              </a:rPr>
              <a:t>Памятник Салавату Юлаеву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33" name="Picture 4" descr="Памятник национальному герою Башкортостана Салавату Юлаеву"/>
          <p:cNvPicPr/>
          <p:nvPr/>
        </p:nvPicPr>
        <p:blipFill>
          <a:blip r:embed="rId1"/>
          <a:stretch/>
        </p:blipFill>
        <p:spPr>
          <a:xfrm>
            <a:off x="1496880" y="1846440"/>
            <a:ext cx="619452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06" name="Picture 4" descr="img070"/>
          <p:cNvPicPr/>
          <p:nvPr/>
        </p:nvPicPr>
        <p:blipFill>
          <a:blip r:embed="rId1"/>
          <a:stretch/>
        </p:blipFill>
        <p:spPr>
          <a:xfrm>
            <a:off x="449280" y="307800"/>
            <a:ext cx="792000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ЗАКОН о Государственной символике </a:t>
            </a: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Республики Башкортостан </a:t>
            </a: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 (в ред. Законов РБ от 13.12.2000 № 119-з, </a:t>
            </a: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от 11.04.2000 № 63-з, от 12.02.2003 № 466-з, </a:t>
            </a: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от 05.10.2004 № 112-з, от 13.07.2005 № 195-з, </a:t>
            </a: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от 03.11.2006 № 370-з, от 07.06.2007 № 434-з, </a:t>
            </a: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от 18.09.2008 № 24-з)  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Принят Законодательной Палатой Государственного Собрания Республики Башкортостан 27 мая 1999 года. </a:t>
            </a: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Одобрен Палатой Представителей Государственного Собрания Республики Башкортостан 24 июня 1999 год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Государственные символы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Республики Башкортостан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(в ред. Закона РБ от 12.02.2003 № 466-з)  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Республика Башкортостан имеет свои Государственный герб, Государственный флаг и Государственный гимн - официальные символы, выражающие государственность Республики Башкортостан, самобытность и традиции народа Башкортостана.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92000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ГОСУДАРСТВЕННЫЙ ФЛАГ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РЕСПУБЛИКИ БАШКОРТОСТАН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(утвержден 25 февраля 1992 года)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Авторы флага – Урал Масалимов  и Ольга Асабина </a:t>
            </a:r>
            <a:r>
              <a:rPr b="0" lang="ru-RU" sz="4300" spc="-1" strike="noStrike">
                <a:solidFill>
                  <a:srgbClr val="ff0000"/>
                </a:solidFill>
                <a:latin typeface="Calibri Light"/>
              </a:rPr>
              <a:t> 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2" name="Picture 4" descr="Государственный флаг Республики Башкортостан"/>
          <p:cNvPicPr/>
          <p:nvPr/>
        </p:nvPicPr>
        <p:blipFill>
          <a:blip r:embed="rId1"/>
          <a:stretch/>
        </p:blipFill>
        <p:spPr>
          <a:xfrm>
            <a:off x="2117880" y="2708280"/>
            <a:ext cx="476388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6560" y="545760"/>
            <a:ext cx="7543800" cy="19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alibri Light"/>
              </a:rPr>
              <a:t>ГОСУДАРСТВЕННЫЙ</a:t>
            </a:r>
            <a:br>
              <a:rPr sz="4300"/>
            </a:br>
            <a:r>
              <a:rPr b="0" lang="ru-RU" sz="4300" spc="-1" strike="noStrike">
                <a:solidFill>
                  <a:srgbClr val="ff0000"/>
                </a:solidFill>
                <a:latin typeface="Calibri Light"/>
              </a:rPr>
              <a:t> ГЕРБ РЕСПУБЛИКИ</a:t>
            </a:r>
            <a:br>
              <a:rPr sz="4300"/>
            </a:br>
            <a:r>
              <a:rPr b="0" lang="ru-RU" sz="4300" spc="-1" strike="noStrike">
                <a:solidFill>
                  <a:srgbClr val="ff0000"/>
                </a:solidFill>
                <a:latin typeface="Calibri Light"/>
              </a:rPr>
              <a:t>БАШКОРТОСТАН 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4" name="Объект 3" descr=""/>
          <p:cNvPicPr/>
          <p:nvPr/>
        </p:nvPicPr>
        <p:blipFill>
          <a:blip r:embed="rId1"/>
          <a:stretch/>
        </p:blipFill>
        <p:spPr>
          <a:xfrm>
            <a:off x="3170160" y="2492280"/>
            <a:ext cx="332424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Автор Государственного Герба  РБ – 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Фазлетдин Фаррахович Ислахов,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 художник издательства «Китап»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7" name="Picture 4" descr="SL372064"/>
          <p:cNvPicPr/>
          <p:nvPr/>
        </p:nvPicPr>
        <p:blipFill>
          <a:blip r:embed="rId1"/>
          <a:stretch/>
        </p:blipFill>
        <p:spPr>
          <a:xfrm>
            <a:off x="2843280" y="1873080"/>
            <a:ext cx="3122640" cy="410400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1052640"/>
            <a:ext cx="7543800" cy="3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alibri Light"/>
              </a:rPr>
              <a:t>Авторы Государственного Гимна Республики Башкортостан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лова (на башкирском) —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Равиль Бикбаев,    Рашит Шакур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лова (перевод на русский) — 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Фарит Идрисов, Светлана Чураева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Музыка —  Фарит Идрисов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5"/>
          <p:cNvSpPr/>
          <p:nvPr/>
        </p:nvSpPr>
        <p:spPr>
          <a:xfrm>
            <a:off x="971640" y="260280"/>
            <a:ext cx="7488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Башҡортостан гим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Башҡортостан,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ин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өйөклө ғәзиз е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Халҡыбыҙҙың изге Ват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Сал Уралдан ҡалҡа бар тарафҡ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Тыуған илдең тыныс ал таң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Дан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иңә, Башҡортостан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Илен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өйгән азат халҡыңа дан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Рәсәй менән бөйөк берҙәмлект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Сәскә ат, Башҡортостан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Башҡортостан,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ин хөрмәтле данлы и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Еңеү яулап алға бараһың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Киләсәккә яҡты нур-моң сәс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Һинең ғорур рухлы байрағың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Республикам, йондоҙ булып балҡы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и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Күҡрәп йәшә, гүзәл илебе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Тыуған ерҙә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үнмәҫ усағыбы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Туған телдә тынмаҫ йырыбы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3:51:52Z</dcterms:created>
  <dc:creator>Идель</dc:creator>
  <dc:description/>
  <dc:language>en-US</dc:language>
  <cp:lastModifiedBy>galeev</cp:lastModifiedBy>
  <dcterms:modified xsi:type="dcterms:W3CDTF">2018-02-06T17:52:25Z</dcterms:modified>
  <cp:revision>15</cp:revision>
  <dc:subject/>
  <dc:title>Государственные символы Башкортостан</dc:title>
</cp:coreProperties>
</file>