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A804-8BF9-4655-8030-CE78C557D1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2C8A-1DC0-4854-A12A-C53E9CEA43D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DD41-9B53-4807-A991-7996B954C2F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7945-ADDC-4F74-BFA1-833C887BDB5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B89E-713F-476C-A893-79DABC66402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2916-3463-48E0-BDD1-4F879EBC86A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6826-9E5F-4475-B411-10AE14E8242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C9B4-05A3-49E9-8B6E-925DD2FFC7A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F34C-011C-4A82-BD25-39A0680341F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BB24-D747-44FD-B7BE-9EF71A6947C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F2C5-0CA5-435D-B67F-8F966585D57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1A3B-439B-4727-9845-869FFC10975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B635-004F-4C19-9CDD-AE77E50EE2E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C738-0A0C-49BE-819F-736478D23D3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0EA4-B2B9-48A7-ADD7-2F45FAA15DF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DDD0-69A0-43CB-952E-33BF1E6D1A0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DE56-30D4-401B-BDC9-4C73A39827A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34B-48E0-4611-81B2-2BB766F4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527-670D-4E26-9714-AF9F1B00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25F0-7BBA-4BD5-9842-5F025248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6887-F86D-464F-BC8C-5A24217E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380E7-23C0-43A0-845C-0F2C29ED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DE78E-E2BD-4C01-9BFF-BF676151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987DE-00AC-41A4-8C3C-13B0A9A2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D515D-C06B-4E52-A783-E72B8698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BC141-BA52-4608-B9AF-47A4543F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F05CD-73C2-4C2E-AB81-1DC99F3F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273A8-A890-40C0-B604-036C3D7E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A804-0F8E-423F-AB23-CC4BAA72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022D2-F7D0-4AF9-87D2-C4DB546B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82DAD-A35A-4209-9DCD-468E227F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F778A-2E76-4CFF-86AE-A197C6A5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63CB6-7385-4220-B01E-582453F1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D152C-744A-492D-A4CB-6194FA31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969-9E85-4481-B7D9-327D338C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0A27-4167-4350-8506-4DB9F43E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25D-02BF-4374-A590-A9926E55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4DCB-3D8F-4DE7-BB89-0F0E5C28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8811-2AE7-4E90-BEE1-7BC6B03A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8F6-444F-4DD5-9DE8-511A67BA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C3B-4606-4A05-8D4F-47316D11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AC47-BA1F-45D8-90EC-6F2CEB465B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24C8-1A3A-4AA5-AD1C-C09DB48675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71680" y="285480"/>
            <a:ext cx="75722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КДОУ «Костинский детский сад общеразвивающего вид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местная образовательная деятельность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питателя с детьми  старшего дошкольного возрас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«Символы России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направленная на нравственно-патриотическое воспитани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итель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рина Борис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зникова  1 квал.кате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7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знавательная игра «Город-герой Москв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8" descr="Фото0291"/>
          <p:cNvPicPr/>
          <p:nvPr/>
        </p:nvPicPr>
        <p:blipFill>
          <a:blip r:embed="rId1"/>
          <a:stretch/>
        </p:blipFill>
        <p:spPr>
          <a:xfrm>
            <a:off x="1403280" y="1700280"/>
            <a:ext cx="6121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осмотр слайдов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Белые красавицы –невесты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i?id=32149950-66-72&amp;n=21"/>
          <p:cNvPicPr/>
          <p:nvPr/>
        </p:nvPicPr>
        <p:blipFill>
          <a:blip r:embed="rId1"/>
          <a:stretch/>
        </p:blipFill>
        <p:spPr>
          <a:xfrm>
            <a:off x="1797120" y="1927080"/>
            <a:ext cx="5343480" cy="3954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тимулирование и мотивация на предстоящую деятельность: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717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*ресурсный кру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*чтение стихотвор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*Вопрос-предлож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*яркие дидактические пособия-коробочка с картинками город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*совместное изготовление пан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*загад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*дидактическая иг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*просмотр слайд –филь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*ситуация успех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*Пособие загадка- «ромаш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*коллективная рабо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*Взаимопомощь сверстнику в изготовлении березки и составлении символов (флаг, герб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*партнерские отнош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омашка-символ Росс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8" descr="Фото0287"/>
          <p:cNvPicPr/>
          <p:nvPr/>
        </p:nvPicPr>
        <p:blipFill>
          <a:blip r:embed="rId1"/>
          <a:stretch/>
        </p:blipFill>
        <p:spPr>
          <a:xfrm>
            <a:off x="1476360" y="1905120"/>
            <a:ext cx="5838840" cy="4332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тоды воздействия на эмоциональную сферу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Чтение содержательного  стихотво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Слушание сильной, мощной патриотической музыки «Москва-звонят колокол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Просмотр слайд-фильма «Русские берез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Яркие пособия и атрибуты-панно «Символы России», «Ромаш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анируемый результа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714240"/>
          <a:ext cx="8229600" cy="639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юбознательный. актив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 интересом познают новую информацию и неофициальных символах России-береза и ромашка. Самостоятельно действуют:поддерживает беседу, диалог, отвечают на вопрос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Имеет первичные  представления о себе, государстве, мире, стране, обществу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Знают и называют символы России-флаг, герб, береза, ромашка. Проявляют уважительное отношение к государственным символам, сверстнику, взрослом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пособный управлять своим поведением и планировать действ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Коллективно выполняют работу, договариваются.Планируют действия при выполнении задан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облюдают правила поведения во время образовательной деятельн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пособный решать интеллектуальные и личностные задач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Уверенны в своих действиях при выполнении работы-березка, панно.Выполняют задания взрослого, решают проблемы, поставленные задач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Эмоционально-отзывчи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оложительно реагирует на содержательные патриотические стихи и музык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p:transition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мля моя, моя держава!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бе я предан всей душой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2" descr="Экология нашей планеты"/>
          <p:cNvPicPr/>
          <p:nvPr/>
        </p:nvPicPr>
        <p:blipFill>
          <a:blip r:embed="rId1"/>
          <a:stretch/>
        </p:blipFill>
        <p:spPr>
          <a:xfrm>
            <a:off x="2514600" y="19051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360" y="11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ктуальность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99640" y="1285560"/>
            <a:ext cx="76899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триотизм- это любовь к Родите, преданность Отечеству, стремление служить его интересам и готовность к его защи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блема воспитания гражданина Российской Федерации стоит остро в настоящее врем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дошкольника важно понять простые человеческие истины: любить свою семью, свой город, дружить со сверстниками, гордиться своей Родиной, в том числе и ее символами, которые являются частью культуры и истории нашей стран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ча воспитателя- воспитать в ребенке общечеловеческие ценности, гордость и уважение к Родной стране, воспитать настоящего патриота своей стра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358120" cy="6215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Задачи психолого – педагогической  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                         работы с детьми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Обучающий аспект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Познакомить с неофициальными символами России-березой и ромашкой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Закрепить представления о главных символах  нашей страны- герб и флаг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Обобщать элементарные представления о главном городе нашей страны-Москва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Способствовать формированию самостоятельности, уверенности в своих действиях.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Развивающий аспект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Развивать  познавательный интерес к истории родной страны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Развивать  самостоятельность и творческие способности в изготовлении символа России-береза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Вызвать интерес к истории нашей страны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Формировать навыки сотрудничества и взаимопомощи выполняя коллективную работу.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Воспитательный аспект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Воспитывать патриотические чувства, уважительное отношение к государственным символам нашей страны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Формировать доброжелательное отношение к сверстнику, умение работать коллективно, помогать друг другу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Воспитыввать любовь и гордость за родную страну, за родные красоты-березка, ромашка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Формировать гражданственную позицию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 организации: активно –деятельностны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а организации: группов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8" descr="Фото0292"/>
          <p:cNvPicPr/>
          <p:nvPr/>
        </p:nvPicPr>
        <p:blipFill>
          <a:blip r:embed="rId1"/>
          <a:stretch/>
        </p:blipFill>
        <p:spPr>
          <a:xfrm>
            <a:off x="1828800" y="19051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теграция содержания образовательных областе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Содержимое 3" descr=""/>
          <p:cNvPicPr/>
          <p:nvPr/>
        </p:nvPicPr>
        <p:blipFill>
          <a:blip r:embed="rId1"/>
          <a:stretch/>
        </p:blipFill>
        <p:spPr>
          <a:xfrm>
            <a:off x="426960" y="762120"/>
            <a:ext cx="8229600" cy="599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Содержимое 3" descr=""/>
          <p:cNvPicPr/>
          <p:nvPr/>
        </p:nvPicPr>
        <p:blipFill>
          <a:blip r:embed="rId1"/>
          <a:stretch/>
        </p:blipFill>
        <p:spPr>
          <a:xfrm>
            <a:off x="360360" y="628560"/>
            <a:ext cx="8223120" cy="5802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меняемые технологии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*Игрова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дактическая игра « Узнай  и назови главный город стран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знавательная игра «Собери из разрезных картинок Символы стран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*Деятельностный подх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ллективное составление панно «Символы Росси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та по подгруппам «Собери флаг и герб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готовление березки –неофициального символа Росс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смотр и обсуждение слайд –фильма «Русские берез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*Коммуникативн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уждения детей, проблемная ситуация, обмен мнением дет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*Практические действ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*Обеспечение равных стартовых возможност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*Лично-ориентированный подх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*Проблемная ситу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ление панно «Символы Росс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8" descr="Фото0290"/>
          <p:cNvPicPr/>
          <p:nvPr/>
        </p:nvPicPr>
        <p:blipFill>
          <a:blip r:embed="rId1"/>
          <a:stretch/>
        </p:blipFill>
        <p:spPr>
          <a:xfrm>
            <a:off x="1547640" y="1773360"/>
            <a:ext cx="5112000" cy="482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8T13:24:07Z</dcterms:created>
  <dc:creator>User</dc:creator>
  <dc:description/>
  <dc:language>en-US</dc:language>
  <cp:lastModifiedBy>Марина</cp:lastModifiedBy>
  <dcterms:modified xsi:type="dcterms:W3CDTF">2018-02-06T12:43:19Z</dcterms:modified>
  <cp:revision>39</cp:revision>
  <dc:subject/>
  <dc:title>Слайд 1</dc:title>
</cp:coreProperties>
</file>