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F313-3C95-4A01-9822-B89E23AD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7690-91AB-4273-A6CB-EE5D94A8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8604-F089-4E98-BFC5-4C997F04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6163-71B3-40DB-9E3B-5A9D42D8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0639-9806-4F75-B3FB-976A4270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6C2A-4656-408F-B967-3B709076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997A-D854-4102-87CE-062B0579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7073-1FD0-4149-867C-637C9A19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2088-4CFD-44C6-BF27-0D1EFD48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D72D-E480-4A1E-8B5B-1412E42D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2FCF-D9CC-4F56-A926-12A4E539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EBF6-0688-4084-8D00-AACFFE64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C84C-B531-4419-9ADA-9B835781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AC34-A05B-4A35-8722-C0FD9A85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24A2-B1E8-4EFA-A4A8-C3C48E3C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835E-034B-4423-9706-433DF600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5E66-B360-4DF5-979E-DB5E1102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2C01-5EB3-4C60-9C96-59A16B60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0EB8-A97F-4AFE-8342-8D0A1728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2D55-434B-4964-8355-3925867F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B918-1B2E-45EC-BF01-2BF8F940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74E2-0DFE-4D2D-8F13-D7320008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8D42-B71D-4483-B441-85E07175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38AA-C971-4FB7-A4DB-1AFD965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28D5-67F7-4EDE-A991-DE2E448BC5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CDCD-474C-45AD-9F1D-0FC014D8D2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fdef6"/>
                </a:solidFill>
                <a:latin typeface="Arial"/>
              </a:rPr>
              <a:t>Ул. Курская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 из основных улиц города Железногор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л. Курская была названа в честь Курской области на которой и находится г. Железногорск. На улице находится 72 дома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к. 1, 1 к. 2, 1 к. 3, 2, 3, 4, 5, 6, 8, 9, 10, 11, 12, 13 к. 1, 13 к. 2, 13 к. 3, 14, 15, 16, 17 к.  Т. д. На ней расположена школа номер №7; взрослая и детская зубная поликлиника; школа № 4; школа №8 и т.д. Кондитерский цех « Нива»; Кафе «Пронто» общежития Курская 80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3886200" cy="40384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4572000" y="1600200"/>
            <a:ext cx="3886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Школы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кола №7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кола №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3695760" cy="35053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5029200" y="2666880"/>
            <a:ext cx="3562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Общежития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то сделано в ССС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то сделано в современном ви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609480" y="2743200"/>
            <a:ext cx="3584520" cy="33526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5105520" y="2819520"/>
            <a:ext cx="3286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Зубная поликлиник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2819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зрослая и детская зубная поликлини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4491000" y="1905120"/>
            <a:ext cx="4043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Ул. Курска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лица Курская в современном виде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лица Курская в советские време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685800" y="2590920"/>
            <a:ext cx="3429000" cy="32763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4800600" y="25146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13:37:51Z</dcterms:created>
  <dc:creator>WidoW</dc:creator>
  <dc:description/>
  <dc:language>en-US</dc:language>
  <cp:lastModifiedBy>WidoW</cp:lastModifiedBy>
  <dcterms:modified xsi:type="dcterms:W3CDTF">2016-12-13T12:18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