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DD0-E0E4-4990-91EA-2BF91B17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509-3C10-4697-8E72-95417106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95E-8779-4556-95D4-F3136651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65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048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E1A-8BF5-4B23-9ABF-042AA55A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CCC-C033-486C-9943-007DAE24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D87-8B93-488B-AD53-D72B8E6D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BDE-F89F-425D-9B6D-0A4E8D7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2C8-B57A-40C2-8A0A-15A534B8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5CC-2FD5-413E-A286-9FBCAE5F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197-7A87-4446-9A85-21F787D4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B1F-9C18-48C7-AE89-1D7BBB56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A58-06DE-4395-8AD8-C2040334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6809A-7DB4-4CAB-8253-8E3079635B8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13920" cy="6273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260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71280"/>
            <a:ext cx="10080720" cy="75009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1260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-2817720"/>
            <a:ext cx="9070920" cy="53607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сударственное казенное учреждение социального обслуживания Московской области «Подольский районный реабилитационный центр для детей и подростков с ограниченными возможностями здоровья «Ягодка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7000"/>
          </a:bodyPr>
          <a:p>
            <a:pPr marL="4186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нкурс  подел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Домики для пернатых друз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280" y="4375080"/>
            <a:ext cx="907092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Autofit/>
          </a:bodyPr>
          <a:p>
            <a:pPr marL="431640" indent="-31572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572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1572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1572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 и пров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15720" algn="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 Перехожих С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644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тоги конку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2920" y="1464840"/>
            <a:ext cx="90644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минация «За изобретательность и творческий поиск» - семья Астафьева Леони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минация «Креативное творчество» - семья Балакиревой И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минация «Приз зрительских симпатий» - семья Зеленина Ник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>
              <a:lnSpc>
                <a:spcPct val="98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привлечение к сотрудничеству педагогов, детей и родителе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стимулирование творческого воображения в процессе работы над изготовлением скворечников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совершенствование работы по экологическому воспитанию дошкольник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51600" y="1768320"/>
            <a:ext cx="4425840" cy="60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дачи конкурса: 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дать возможность родителям проявить фантазию и изобретательнос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-продемонстрировать лучшие и самые оригинальные решения в оформлении корму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привлечь внимание родителей и детей к проблемам  птиц с целью сохранения их численности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-формировать позитивное отношение к птицам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-привлекать родителей и детей к практической деятельности по изучению и охране  пт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-527040"/>
            <a:ext cx="90709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20" bIns="0" anchor="t">
            <a:noAutofit/>
          </a:bodyPr>
          <a:p>
            <a:pPr>
              <a:lnSpc>
                <a:spcPct val="98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оки и порядок проведения конк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курс проводится с 03.04.17г. по 17.04.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работы предоставить до 14.04.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7480" y="863640"/>
            <a:ext cx="417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конкурсных работ являе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игина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стетичность офор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За изобретательность и творческий по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Креативное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риз зрительских симпа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1680"/>
            <a:ext cx="90644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008000"/>
            <a:ext cx="4422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6560" y="647640"/>
            <a:ext cx="44229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мятка для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03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день птиц проходит ежегодно в рамках программы ЮНЕСКО "Человек и биосфера" и не случайно отмечается именно в апреле. 1 апреля 1906 года была подписана Международная конвенция по охране 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 мире несколько так называемых «птичьих» да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день птиц» — 1 апреля, «День птиц» — 4 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уббота мая — «Международный день перелетных пти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-1440"/>
            <a:ext cx="907092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сскажите дет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день птиц - это не только годовщина Конвенции, но и время прилета пернатых с зимов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праздник отмечали с 1994 года, но и раньше возвращение перелетных птиц праздновалось потому, что означало наступление весны. В старом "месяцеслове" есть такие праздники, к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встречи перелетных пт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(Иванов день) -   9 март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закликания пти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ерасим-грачевник, Сороки) - 17 март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22 марта на Руси пекли фигурки жаворонков, встречая этих птиц, а с ними и весн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Благовещенье - 7 апреля - было принято выпускать птиц из клеток на волю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ласточ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(Егорий весенний (Юрьев день)) - 6 м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3280" y="-304920"/>
            <a:ext cx="90709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ыставка «Домики для пернатых друз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3280" y="2376360"/>
            <a:ext cx="914400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8600" y="430200"/>
            <a:ext cx="4254480" cy="568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13720" y="3300480"/>
            <a:ext cx="2619360" cy="332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00720" y="1563840"/>
            <a:ext cx="41036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967280" y="-822240"/>
            <a:ext cx="460692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60480" y="1766880"/>
            <a:ext cx="3508200" cy="4379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59280" y="2448000"/>
            <a:ext cx="3508560" cy="4379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63640" y="936720"/>
            <a:ext cx="4176720" cy="613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400720" y="-316080"/>
            <a:ext cx="4168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т такие д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Ждем прилета г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6360" y="1906560"/>
            <a:ext cx="4267080" cy="248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6360" y="176832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8T09:59:02Z</dcterms:created>
  <dc:creator>Светлана </dc:creator>
  <dc:description/>
  <dc:language>en-US</dc:language>
  <cp:lastModifiedBy>Светлана </cp:lastModifiedBy>
  <dcterms:modified xsi:type="dcterms:W3CDTF">2018-01-28T11:14:20Z</dcterms:modified>
  <cp:revision>3</cp:revision>
  <dc:subject/>
  <dc:title/>
</cp:coreProperties>
</file>