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6C1B-B98A-41A3-8150-2882AC71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ACBC-4037-4338-B36A-18DE2CED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FA63-B449-4B56-9859-C973F670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91C9-3DB5-4BA4-85BE-86A8D52F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7202-E393-465C-ADE9-31E48403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7229-3FF5-480C-A434-6F2349FA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BCDF-5E78-4108-A90F-F7C395D5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A83C-5845-4F48-8170-407019DB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F4C6-3784-4BF4-9D9B-48CB9FF0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5ABE-8A5D-49E9-8A62-8D591C54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7577-9813-4832-910F-303B1F07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A445-0DE8-4E11-9336-26BF10F3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87B4-3A81-4299-9CC8-7AB0D050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C967-22FA-44DD-B98F-6E93BE5E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4781-D941-4E61-92DA-D8F0E08B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65E2-C5CD-4B7E-8CF8-08181B91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8E56-697B-4FC1-BE60-FDBD1D90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F43E-C6B7-488C-AB7F-9D867754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64F1-53D4-4726-8E3A-01FC9825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7BAD-9603-42D5-85C9-D837CD6F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E11F-589E-4791-95FF-F73E65A3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668-7424-412A-9C87-2ED2F422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59BC-5821-4CFC-94C0-0D02B146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61D2-65FB-419E-91A1-B21170CC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360C-579C-4E49-A0F6-98281B27D2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54F9-E4B7-4D2D-A00C-3D38593773EB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Выживание в природных условиях после авари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Рисунок 3" descr="61.gif"/>
          <p:cNvPicPr/>
          <p:nvPr/>
        </p:nvPicPr>
        <p:blipFill>
          <a:blip r:embed="rId1"/>
          <a:stretch/>
        </p:blipFill>
        <p:spPr>
          <a:xfrm>
            <a:off x="2195640" y="4437000"/>
            <a:ext cx="2376360" cy="23749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0ee13072b90b.png"/>
          <p:cNvPicPr/>
          <p:nvPr/>
        </p:nvPicPr>
        <p:blipFill>
          <a:blip r:embed="rId2"/>
          <a:stretch/>
        </p:blipFill>
        <p:spPr>
          <a:xfrm>
            <a:off x="4572000" y="3071880"/>
            <a:ext cx="1444680" cy="33843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post-41192-1231285749.png"/>
          <p:cNvPicPr/>
          <p:nvPr/>
        </p:nvPicPr>
        <p:blipFill>
          <a:blip r:embed="rId3"/>
          <a:stretch/>
        </p:blipFill>
        <p:spPr>
          <a:xfrm>
            <a:off x="0" y="3006720"/>
            <a:ext cx="2568600" cy="38512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5796000" y="3860640"/>
            <a:ext cx="3348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зентацию подготовил учитель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сланская СО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 ОБЖ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овалов Р.В. </a:t>
            </a: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ве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Picture 4" descr="mso90400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84360" y="2276640"/>
            <a:ext cx="799308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вес с отражателе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5" name="Picture 4" descr="mso935F8"/>
          <p:cNvPicPr/>
          <p:nvPr/>
        </p:nvPicPr>
        <p:blipFill>
          <a:blip r:embed="rId1"/>
          <a:stretch/>
        </p:blipFill>
        <p:spPr>
          <a:xfrm>
            <a:off x="1908000" y="1341360"/>
            <a:ext cx="547236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вес из брезента (плёнки)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Picture 4" descr="mso57EE6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692360" y="1484280"/>
            <a:ext cx="61084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имний наве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Picture 4" descr="Изображение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95640" y="1341360"/>
            <a:ext cx="47289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имний наве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1" name="Picture 5" descr="msoF8BDC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971640" y="1413000"/>
            <a:ext cx="734364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вускатный шалаш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Picture 4" descr="Изображение 00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050920" y="1341360"/>
            <a:ext cx="509616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Шалаш под дерево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5" name="Picture 4" descr="mso55A1E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403280" y="1341360"/>
            <a:ext cx="63356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Шалаш из ткан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4" descr="msoF6862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539640" y="1413000"/>
            <a:ext cx="820908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имний шалаш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Picture 4" descr="msoCD01A"/>
          <p:cNvPicPr/>
          <p:nvPr/>
        </p:nvPicPr>
        <p:blipFill>
          <a:blip r:embed="rId1">
            <a:lum contrast="84000"/>
          </a:blip>
          <a:stretch/>
        </p:blipFill>
        <p:spPr>
          <a:xfrm>
            <a:off x="1332000" y="1268280"/>
            <a:ext cx="655308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нежная пещ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1" name="Picture 4" descr="mso7A0F0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84360" y="1484280"/>
            <a:ext cx="784836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71400" y="499680"/>
            <a:ext cx="7126200" cy="5429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Любую сложную ситуацию лучше всего преодолевать по плану – это доказывает обширный опыт различных происшествий, аварий, в результате которых люди остаются наедине с природой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Picture 5" descr="baby23"/>
          <p:cNvPicPr/>
          <p:nvPr/>
        </p:nvPicPr>
        <p:blipFill>
          <a:blip r:embed="rId1"/>
          <a:stretch/>
        </p:blipFill>
        <p:spPr>
          <a:xfrm flipH="1">
            <a:off x="142920" y="2000160"/>
            <a:ext cx="14572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нежная пещ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3" name="Picture 4" descr="mso38656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124000" y="1413000"/>
            <a:ext cx="51436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нежная пещ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Picture 4" descr="Изображение 002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692360" y="1341360"/>
            <a:ext cx="576108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 (изготовление)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7" name="Picture 4" descr="msoB78D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47640" y="1484280"/>
            <a:ext cx="633744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 (изготовление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9" name="Picture 4" descr="mso624E8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187280" y="1341360"/>
            <a:ext cx="655164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1" name="Picture 4" descr="mso6E38E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24000" y="1268280"/>
            <a:ext cx="510084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3" name="Picture 4" descr="msoA5E44"/>
          <p:cNvPicPr/>
          <p:nvPr/>
        </p:nvPicPr>
        <p:blipFill>
          <a:blip r:embed="rId1"/>
          <a:stretch/>
        </p:blipFill>
        <p:spPr>
          <a:xfrm>
            <a:off x="468360" y="1844640"/>
            <a:ext cx="820908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бщий план действий по выживанию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Рисунок 4" descr="post-54068-1217527544.png"/>
          <p:cNvPicPr/>
          <p:nvPr/>
        </p:nvPicPr>
        <p:blipFill>
          <a:blip r:embed="rId1"/>
          <a:stretch/>
        </p:blipFill>
        <p:spPr>
          <a:xfrm>
            <a:off x="-428760" y="3618000"/>
            <a:ext cx="2357640" cy="3240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1879560" y="1533600"/>
            <a:ext cx="7000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eaeaea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емедленно покинь автомобиль (вагон, самолёт), если есть угроза взрыва, пожара, затопления или разруше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старайся выбраться на безопасное место (расстояние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цени обстановку окружающей тебя среды и своё состояние (если получил повреждение, прими меры самопомощи, останови кровотечение, забинтуй рану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старайся восстановить в памяти место твоего нахождения, удаление от населённых пунктов, наиболее характерные ориентиры (река, дорога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оверь, что у тебя имеется в резерве из продуктов питания, одежды, есть ли спички, компас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(продолжение)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Рисунок 5" descr="индеец.png"/>
          <p:cNvPicPr/>
          <p:nvPr/>
        </p:nvPicPr>
        <p:blipFill>
          <a:blip r:embed="rId1"/>
          <a:stretch/>
        </p:blipFill>
        <p:spPr>
          <a:xfrm>
            <a:off x="-642960" y="2643120"/>
            <a:ext cx="2685960" cy="33847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6"/>
          <p:cNvSpPr/>
          <p:nvPr/>
        </p:nvSpPr>
        <p:spPr>
          <a:xfrm>
            <a:off x="2214720" y="1643040"/>
            <a:ext cx="6357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6. Прими решение: оставаться на месте и ждать помощи или самому выходить к людя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7. Составь план своих действий, в котором обязательно учти близость воды к месту ночлега и укрытия от дождя, бури, грозы; возможность добывания пищи (запас, растительная пища вокруг); возможности подачи сигналов для привлечения помощ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8. Приступай к выполнению плана действий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Уходить с места аварии тебе следует если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Рисунок 5" descr="индеец.png"/>
          <p:cNvPicPr/>
          <p:nvPr/>
        </p:nvPicPr>
        <p:blipFill>
          <a:blip r:embed="rId1"/>
          <a:stretch/>
        </p:blipFill>
        <p:spPr>
          <a:xfrm>
            <a:off x="-714240" y="2357280"/>
            <a:ext cx="2685960" cy="33847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2071800" y="1571760"/>
            <a:ext cx="678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eaeaea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Точно известно расположение ближайшего населённого пункта, а твоё состояние позволяет до него добратьс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Неподалёку обнаружена просека, дорога, река, явные признаки близкого жиль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Возникает угроза для жизни: идёт затопление местности, приближается лесной пожар, имеется вероятность схода лавин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1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Помни!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1" name="Рисунок 5" descr="индеец.png"/>
          <p:cNvPicPr/>
          <p:nvPr/>
        </p:nvPicPr>
        <p:blipFill>
          <a:blip r:embed="rId1"/>
          <a:stretch/>
        </p:blipFill>
        <p:spPr>
          <a:xfrm>
            <a:off x="-857160" y="1857240"/>
            <a:ext cx="2685960" cy="33847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6"/>
          <p:cNvSpPr/>
          <p:nvPr/>
        </p:nvSpPr>
        <p:spPr>
          <a:xfrm>
            <a:off x="1785960" y="1071720"/>
            <a:ext cx="700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Уходя с места аварии, напиши записку и вложи её в непромокаемую упаковку, банку или бутылку с указаниями, когда и куда ты ушёл. Привяжи упаковку на видном мест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Если решил остаться, то необходимо разбить временный лагерь. В условиях лагеря легче организовать надёжное укрытие от непогоды, поиск продовольствия, оказание помощи больным и раненым, оборудовать средства подачи сигнал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3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Оборудование временного укрытия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Рисунок 5" descr="индеец.png"/>
          <p:cNvPicPr/>
          <p:nvPr/>
        </p:nvPicPr>
        <p:blipFill>
          <a:blip r:embed="rId1"/>
          <a:stretch/>
        </p:blipFill>
        <p:spPr>
          <a:xfrm>
            <a:off x="-714240" y="2428920"/>
            <a:ext cx="2685960" cy="33843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2143080" y="1714680"/>
            <a:ext cx="67867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Общее правило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ем суровей климат, тем надёжнее должно быть жильё. Оно должно защищать прежде всего от осадков, палящего солнца, сильного ветра, холод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Помн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аже один час отдыха в тепле не сравнить с многочасовыми попытками отдохнуть на ветру и в холод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42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Оборудование временного укрытия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Рисунок 5" descr="индеец.png"/>
          <p:cNvPicPr/>
          <p:nvPr/>
        </p:nvPicPr>
        <p:blipFill>
          <a:blip r:embed="rId1"/>
          <a:stretch/>
        </p:blipFill>
        <p:spPr>
          <a:xfrm>
            <a:off x="-571680" y="2357280"/>
            <a:ext cx="2686320" cy="33847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2143080" y="1714680"/>
            <a:ext cx="6786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aeaea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чистить площадк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одготовить подручные средства для строительств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есто должно быть сухим и размещаться поблизости от ручья или другого водного источник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ажно, чтобы поблизости находилось топливо (зимой вопрос  о дровах очень важен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 algn="ctr">
              <a:buClr>
                <a:srgbClr val="eaeaea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54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49968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Виды временных укрытий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Picture 4" descr="mso935F8"/>
          <p:cNvPicPr/>
          <p:nvPr/>
        </p:nvPicPr>
        <p:blipFill>
          <a:blip r:embed="rId1"/>
          <a:stretch/>
        </p:blipFill>
        <p:spPr>
          <a:xfrm>
            <a:off x="3857760" y="3500280"/>
            <a:ext cx="2527200" cy="23590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индеец.png"/>
          <p:cNvPicPr/>
          <p:nvPr/>
        </p:nvPicPr>
        <p:blipFill>
          <a:blip r:embed="rId2"/>
          <a:stretch/>
        </p:blipFill>
        <p:spPr>
          <a:xfrm>
            <a:off x="-357120" y="2786040"/>
            <a:ext cx="26859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66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3:48:54Z</dcterms:created>
  <dc:creator>Дима и Игорь</dc:creator>
  <dc:description/>
  <dc:language>en-US</dc:language>
  <cp:lastModifiedBy>Виктория</cp:lastModifiedBy>
  <dcterms:modified xsi:type="dcterms:W3CDTF">2018-02-06T17:12:44Z</dcterms:modified>
  <cp:revision>15</cp:revision>
  <dc:subject/>
  <dc:title>Временные укрытия</dc:title>
</cp:coreProperties>
</file>