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click.wav" ContentType="audio/x-wav"/>
  <Override PartName="/ppt/media/image5.jpeg" ContentType="image/jpeg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20A-C3B7-4D92-9AB1-ED149181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635-C541-4F4E-87FE-935A0F9C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F4D-32B9-4328-A06F-27AFEC20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2AC-D0A5-4773-99F8-956B6864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47B-0491-4EBA-A164-0CE1FC5E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CE3-2C58-4194-AB2F-311A50AD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A57-9C66-4BE2-B4FA-AC493334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879-5EB2-41A4-9E88-C1F8EF16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1F5-1370-4985-85D8-BCC4B712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C18-CCC2-4BFD-BE5A-8DF7DEF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4D2-35F9-4969-85DB-5D5E6C4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E83-8287-4C9E-9BEC-F7E77040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5772-010C-4CD7-BCDF-6FC4D35CD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 р.п. ОЗИНКИ»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157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 мате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«г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К «Начальная школа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428920" y="5786280"/>
            <a:ext cx="5929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ина Вер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5, 21, 56, 49,63, 0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F:\открытый урок\маша и яблонька.jpg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и </a:t>
            </a:r>
            <a:r>
              <a:rPr b="1" lang="ru-RU" sz="28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собрали 8</a:t>
            </a:r>
            <a:r>
              <a:rPr b="1" lang="ru-RU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зин с я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корзине </a:t>
            </a:r>
            <a:r>
              <a:rPr b="1" lang="ru-RU" sz="28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по 9 кг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22 кг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 они </a:t>
            </a:r>
            <a:r>
              <a:rPr b="1" lang="ru-RU" sz="28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отправили в детский сад</a:t>
            </a:r>
            <a:r>
              <a:rPr b="1" lang="ru-RU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Сколько кг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 у них </a:t>
            </a:r>
            <a:r>
              <a:rPr b="1" lang="ru-RU" sz="28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F:\открытый урок\маша и речка.jpg"/>
          <p:cNvPicPr/>
          <p:nvPr/>
        </p:nvPicPr>
        <p:blipFill>
          <a:blip r:embed="rId1"/>
          <a:stretch/>
        </p:blipFill>
        <p:spPr>
          <a:xfrm>
            <a:off x="250920" y="333360"/>
            <a:ext cx="82818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F:\открытый урок\избушка б-я.jpg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4967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тый лучик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1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2857680" cy="4629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"/>
          <p:cNvPicPr/>
          <p:nvPr/>
        </p:nvPicPr>
        <p:blipFill>
          <a:blip r:embed="rId2"/>
          <a:stretch/>
        </p:blipFill>
        <p:spPr>
          <a:xfrm>
            <a:off x="3214800" y="1413000"/>
            <a:ext cx="2857320" cy="459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"/>
          <p:cNvPicPr/>
          <p:nvPr/>
        </p:nvPicPr>
        <p:blipFill>
          <a:blip r:embed="rId3"/>
          <a:stretch/>
        </p:blipFill>
        <p:spPr>
          <a:xfrm>
            <a:off x="6286680" y="1428840"/>
            <a:ext cx="2571480" cy="45529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2"/>
          <p:cNvSpPr/>
          <p:nvPr/>
        </p:nvSpPr>
        <p:spPr>
          <a:xfrm>
            <a:off x="1357200" y="2500200"/>
            <a:ext cx="857520" cy="771480"/>
          </a:xfrm>
          <a:custGeom>
            <a:avLst/>
            <a:gdLst>
              <a:gd name="textAreaLeft" fmla="*/ 322560 w 857520"/>
              <a:gd name="textAreaRight" fmla="*/ 534960 w 85752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9"/>
          <p:cNvSpPr/>
          <p:nvPr/>
        </p:nvSpPr>
        <p:spPr>
          <a:xfrm rot="1047600">
            <a:off x="4608000" y="1630080"/>
            <a:ext cx="1028880" cy="831600"/>
          </a:xfrm>
          <a:custGeom>
            <a:avLst/>
            <a:gdLst>
              <a:gd name="textAreaLeft" fmla="*/ 387000 w 1028880"/>
              <a:gd name="textAreaRight" fmla="*/ 641880 w 1028880"/>
              <a:gd name="textAreaTop" fmla="*/ 312840 h 831600"/>
              <a:gd name="textAreaBottom" fmla="*/ 51876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8"/>
          <p:cNvSpPr/>
          <p:nvPr/>
        </p:nvSpPr>
        <p:spPr>
          <a:xfrm rot="1869600">
            <a:off x="7348320" y="19652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Motion origin="layout" path="M -0.00191 -0.00463 L 0.0007 -0.04189 L 0.00521 -0.0699 L 0.01424 -0.09305 L 0.02396 -0.11064 L 0.03282 -0.11944 L 0.04462 -0.12245 L 0.05764 -0.12245 L 0.06754 -0.12245 L 0.07743 -0.11527 L 0.08611 -0.10231 L 0.09497 -0.08055 L 0.10191 -0.05902 L 0.10695 -0.04352 L 0.10972 -0.01782 L 0.10695 0.0125 L 0.10382 0.03658 L -0.00243 0.37315 L 0.02518 0.33311 L 0.0408 0.32014 L 0.05174 0.32176 L 0.07413 0.37315 L 0.08941 0.35648 L 0.10972 0.32014 E">
                                      <p:cBhvr>
                                        <p:cTn id="3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Motion origin="layout" path="M 8.33333E-007 -4.07407E-006 L -0.05903 0.27871 L 0.0434 0.27871 E">
                                      <p:cBhvr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Motion origin="layout" path="M 0.0658 0.10718 L -0.00503 0.50602 E">
                                      <p:cBhvr>
                                        <p:cTn id="49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Motion origin="layout" path="M 2.77778E-006 -4.81481E-006 L 0.00781 -0.02916 L 0.01562 -0.05185 L 0.03264 -0.06967 L 0.04132 -0.07546 L 0.05451 -0.06967 L 0.06718 -0.05393 L 0.07708 -0.02916 L 0.08194 -0.00648 L 0.08298 0.01852 L 0.08437 0.03588 L 0.08194 0.05394 L 0.08003 0.07454 L 0.07604 0.10116 L 0.06927 0.11899 L 0.0592 0.13704 L 0.04531 0.15047 L 0.03455 0.15301 L 0.02569 0.15301 L 0.01771 0.15301 L 0.00694 0.15301 L -0.00504 0.15741 L -0.01597 0.17315 L -0.02483 0.18866 L -0.03368 0.21343 L -0.04236 0.26042 L -0.04514 0.29931 L -0.04514 0.32593 L -0.04063 0.36227 L -0.03472 0.3845 L -0.0257 0.4044 L -0.01268 0.4294 C -0.00018 0.43635 -0.00278 0.44561 2.77778E-006 0.43149 L 0.01267 0.43588 L 0.02569 0.41783 L 0.04132 0.39769 L 0.04635 0.38218 L 0.05451 0.35487 L 0.06128 0.31922 L 0.06423 0.28519 L 0.06423 0.25649 L 0.06232 0.22894 L 0.05538 0.20255 L 0.0493 0.18403 L 0.04045 0.16644 L 0.02968 0.15047 L 0.01875 0.14144 L 0.00694 0.11899 L 0.00191 0.09676 L -0.004 0.07454 L -0.004 0.05625 L -0.00295 0.01551 E">
                                      <p:cBhvr>
                                        <p:cTn id="6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                18          54        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               90          20        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9, 18, 27, 36, 54, 72,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539640" y="1989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,   2,   3,   4,   6,   8, 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лишнее вы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36 : 4          5х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9 х 1           12 – 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24 : 6          8 х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значение этих выра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: 4          5х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х 1          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: 6          8 х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по теме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Таблица умножения и деления однозначных чис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я табличного умножения и 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вычислительные навыки, умение решать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интерес к математике, чувство взаимовы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F:\открытый урок\маша и печка.jpg"/>
          <p:cNvPicPr/>
          <p:nvPr/>
        </p:nvPicPr>
        <p:blipFill>
          <a:blip r:embed="rId1"/>
          <a:stretch/>
        </p:blipFill>
        <p:spPr>
          <a:xfrm>
            <a:off x="46836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56:45Z</dcterms:created>
  <dc:creator>student</dc:creator>
  <dc:description/>
  <dc:language>en-US</dc:language>
  <cp:lastModifiedBy>user</cp:lastModifiedBy>
  <dcterms:modified xsi:type="dcterms:W3CDTF">2016-06-02T19:06:22Z</dcterms:modified>
  <cp:revision>36</cp:revision>
  <dc:subject/>
  <dc:title>Слайд 1</dc:title>
</cp:coreProperties>
</file>