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6FB-A01B-443F-BE15-2017A9A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C52-052F-4B60-B56F-EA649101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75D-952D-477D-BF9F-D57FA622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F0B-670D-4FD3-9ED1-446E325D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E9F-7703-4F80-967A-95D352EF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6BAA-9F65-46AD-8A96-D652E045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BFB-BAF1-4F30-B30E-020B0881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3089-C228-422D-B7C9-B04BE06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7D0D-F3D1-4491-94ED-CE9D06C8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C8BA-50AB-47C6-8782-12E7B10B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6B67-092A-4984-B992-E740065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88F-07CB-4EA2-AEC6-C571724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389D-945C-45F7-A20E-5C90056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D7C0-6AFE-4868-A98C-A58BFD1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75EA-7C90-4D99-AAEA-971835D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69BB-5333-420C-8BF2-3FDACB5B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25A-4409-4062-9E92-34D0B0F0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D38-E98F-4876-A9CA-3D74E8B4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D12-FCB1-4D76-BDAA-AB01DE41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A09-F760-478D-AF73-10BE1B3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350-3842-452F-A929-06B030E9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259-3884-4C88-A053-C302835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559-7854-4BB3-A302-A9C7C5A6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CCA-FD99-4612-827A-E0642EB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3F60-764F-4B46-900D-E1214FE434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9F3-E51F-47C1-B922-3F6C63D644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865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900" spc="-1" strike="noStrike">
                <a:solidFill>
                  <a:srgbClr val="ff0000"/>
                </a:solidFill>
                <a:latin typeface="Bradley Hand ITC"/>
              </a:rPr>
              <a:t>Адаптация первоклассников </a:t>
            </a:r>
            <a:br>
              <a:rPr sz="6900"/>
            </a:br>
            <a:r>
              <a:rPr b="0" i="1" lang="en-US" sz="6900" spc="-1" strike="noStrike">
                <a:solidFill>
                  <a:srgbClr val="ff0000"/>
                </a:solidFill>
                <a:latin typeface="Bradley Hand ITC"/>
              </a:rPr>
              <a:t>в школе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34920" y="4365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оярова Н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торая групп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детей имеет более длительный период адаптации, период несоответствия их поведения требованиям школы затягивается. Дети не могут принять новую ситуацию обучения, общения с учителем, деть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ие школьники могут играть на уроках, выяснять отношения с товарищем, они не реагируют на замечания учителя или реагируют слезами, обид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 правило, эти дети испытывают трудности и в усвоении учебной программы, лишь к концу первого полугодия реакции этих детей становятся адекватными требованиям школы, учите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ретья групп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дети, у которых социально-психологическая адаптация связана со значительными трудност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них отмечаются негативные формы поведения, резкое проявление отрицательных эмоций, они с большим трудом усваивают учебные программы. Именно на таких детей чаще всего жалуются учителя: они "мешают" работать в классе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Трудности, с которыми сталкиваются учителя и родител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33"/>
                </a:solidFill>
                <a:latin typeface="Arial"/>
              </a:rPr>
              <a:t>Хроническая неуспеш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начального обучения происходит изменение в отношении взрослых к детям, к их успехам и неу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Хорошим" считается ребенок, который успешно учится, много знает, легко решает задачи и справляется с учебными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неизбежным в начале обучения трудностям не ожидавшие этого родители относятся отриц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4240" y="835200"/>
            <a:ext cx="5410440" cy="5143320"/>
            <a:chOff x="1524240" y="835200"/>
            <a:chExt cx="5410440" cy="5143320"/>
          </a:xfrm>
        </p:grpSpPr>
        <p:sp>
          <p:nvSpPr>
            <p:cNvPr id="112" name=""/>
            <p:cNvSpPr/>
            <p:nvPr/>
          </p:nvSpPr>
          <p:spPr>
            <a:xfrm>
              <a:off x="2438640" y="835200"/>
              <a:ext cx="3885120" cy="79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Хроническая неуспеш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438640" y="1634760"/>
              <a:ext cx="1294560" cy="9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040" y="1634760"/>
              <a:ext cx="121752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4240" y="2549880"/>
              <a:ext cx="221004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трах родителе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язнь 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2549880"/>
              <a:ext cx="236268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вышенные требования и ожидания родител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647600" y="3235320"/>
              <a:ext cx="912960" cy="91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53080" y="3235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560" y="4149360"/>
              <a:ext cx="273996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Плохо учится – «плохой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267080" y="4606920"/>
              <a:ext cx="108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480" y="5293440"/>
              <a:ext cx="24343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Неуверенность, тревожность, неуспе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120840"/>
              <a:ext cx="1143360" cy="102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Arial"/>
              </a:rPr>
              <a:t>2. Уход от деятельност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ебенок сидит на уроке и в то же время как бы отсутствует, не слышит вопросы, не выполняет задания учителя.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Arial"/>
              </a:rPr>
              <a:t>3. Негативистская демонстративность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Характерна для детей с высокой потребностью во внимании со стороны окружающих, взрослых. Здесь будут жалобы не на плохую учебу, а на поведение ребенка. Он нарушает общие нормы дисциплин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4.Вербализм (болтливость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ти, развивающиеся по такому типу отличаются высоким уровнем развития речи и задержкой мыш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5. Психофизический инфантил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тавание в психическом развитии, которое прослеживается в дошкольных формах поведения, демонстрирует интересы и потребности дошколь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ак оказать ребенку помощь в адаптации к школ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Не показыва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ребенку свою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озабоченность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го школьными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успехам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Искренне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интересоваться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школьной жизнью ребен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смещать фокус своего внимания с учебы на отношения ребенка с другими детьми, на подготовку и проведение школьных праздников, дежурства, экскурсий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ак оказать ребенку помощь в адаптации к школе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одчеркивать, выделя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ту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феру деятельности, где ребенок больше успеше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омогать тем самым обрести веру в себ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80000" y="5157720"/>
            <a:ext cx="61884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286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тели должны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терпеливо ждать успех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.к. на школьных делах чаще всего и происходит замыкание порочного круга тревожности. Школа должна очень долго оставаться сферой щадящего оцени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лезненность школьной сферы должна быть снижена любыми средствами: снизить ценность школьных отметок, то есть показать ребенку, что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его любят не за хорошую учебу, а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любят, ценят, принимают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вообще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как собственное дитя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безусловно, не за что - то, а вопреки всем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 в коем случае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не сравнивать его посредственные результаты с эталон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 есть с требованиями школьной программы, достижениями других, более успешных, учеников. Лучше вообще никогда не сравнивать ребенка с другими деть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Сравнивать ребенка можно только с ним сами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хвалить только за одно: улучшение его собственных результатов. Если во вчерашнем домашнем задании он сделал 3 ошибки, а в сегодняшнем - 2, это нужно отметить как реальный успех, который должен быть оценен родителями искренне и без ирон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"адаптация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меет латинское происхождение и обозначает приспособление строения и функций организма, его органов и клеток к условиям ср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Адаптация к школе - это процесс привыкания к новым школьным условия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каждый первоклассник переживает и осознает по-своем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" уделять ребенку внимание не только когда он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плохой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, а когда он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хороший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 больше, когда он хороший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мечать ребенка, когда он незаметен, когда он не выкидывает «фокусов», надеясь привлечь вним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1017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бенку надо найти сферу, где он мог бы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реализовать свою демонстратив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кружки, танцы, спорт, рисование, изостудии и т.д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трого выполнять режим дн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Пробужд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за 1 час до выхода в школ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Выход в школ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Возвращение из школ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Отдых, дневной с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Игры, помощь по д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Спать (не позднее 21 час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чной сон первоклассников должен составлять не менее 9,5 час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гры на компьютере и просмотр телепередач не более  1 часа  в ден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Желаем здоровь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вам и вашим детя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иод адаптации ребенка к школе дли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-3 недель до полуг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360" y="436572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изнаки</a:t>
            </a: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 успешной адаптац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окласснику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в школе нрав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н идет туда с удовольствием, охотно рассказывает о своих успехах и неудачах, он понимает, что главная цель его пребывания в школе - 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оклассник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е слишком уст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он активен, жизнерадостен, любопытен, редко простужается, хорошо спит, почти никогда не жалуется на боль в животе, голове, гор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оклассник достаточно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самостоятелен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ез проблем переодевается на физкультуру, уверенно ориентируется в школьном здании, при необходимости сумеет обратиться за помощью к кому-нибудь из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появились друзья-однокласс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и вы знаете их и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равится его учитель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большинство учителей, ведущих дополнительные предметы 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опрос: "А может быть, лучше вернуться в детский сад?" он решительно отвечает: "Нет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д, отделяющий шестилетнего ребенка от семилетнего, очень важен для психического развития, потому что в течение этого периода у ребенка формируется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произвольная регуляция своего поведения, ориентация на социальные нормы и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едущие виды  деятельности детей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,5 - 4 года - "Я сам" - игра с предметами (кубики, мячик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-6 лет - "Я - пилот" - ролевая иг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6-7 лет – социальная роль -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"Я - ученик, я - школьник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Ведущая психическая деятельность - учебная деятель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"адаптационная болезнь", "школьный шок", "школьный стресс"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твет на новые повышенные требования к организму первоклассника в первые недели и месяцы обучения могут появиться жалобы детей на усталость, головные боли, возникнуть раздражительность, плаксивость, нарушение с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ижаются аппетит детей и масса 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удности психологического характера:  чувство страха, отрицательное отношение к учебе, учителю, неправильное представление о своих способностях и возможност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Личностная, или социальная, адаптация связана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 желанием и умением ребенка принять новую роль –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роль школьника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и достигается целым рядом условий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Развитие у детей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умения слушать, реагировать на действия учителя, планировать свою работу, анализировать полученный результа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Развитие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умения налаживать контакт с другими детьм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выстраивать отношения со взрослыми, быть общительным и интересным для окружающи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Формирование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умения правильно оценивать свои действия и действия одноклассник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пользоваться простейшими критериями оценки и самооцен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По степени адаптированности детей можно условно разделить на три группы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ервая групп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детей адаптируется в течение первых двух месяцев обучения. Эти дети относительно быстро вливаются в коллектив, осваиваются в школе, приобретают новых друзей. У них почти всегда хорошее настроение, они спокойны, доброжелательны, добросовестны и без видимого напряжения выполняют все требования учител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огда у них все же отмечаются сложности либо в контактах с детьми, либо в отношениях с учителем, так как им еще трудно выполнять все требования правил пове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к концу октября трудности этих детей, как правило, преодолеваются, ребенок полностью осваивается и с новым статусом ученика, и с новыми требованиями, и с новым режим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33:39Z</dcterms:created>
  <dc:creator>admin</dc:creator>
  <dc:description/>
  <dc:language>en-US</dc:language>
  <cp:lastModifiedBy>admin</cp:lastModifiedBy>
  <dcterms:modified xsi:type="dcterms:W3CDTF">2009-09-16T02:09:43Z</dcterms:modified>
  <cp:revision>17</cp:revision>
  <dc:subject/>
  <dc:title>Адаптация первоклассников в школе</dc:title>
</cp:coreProperties>
</file>