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53F-5B5D-4A36-BEE7-9312F5F4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3B6-3C42-45D6-BBB8-45617C3B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DC8-B3E7-4D66-B7C3-DA2428F5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9FB-BB67-49B4-BA67-07200E94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A94B-4E84-45B1-A1F3-7F756C71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279F-90F9-4B03-8E7F-6291EB1C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DFD3-16A8-4F27-9841-63151D8B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7CDC-E064-4B41-AD8D-BB33493A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EE93-8851-4333-A571-74569916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61A6-BC72-4E3B-BB9E-01AF66BE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106E-78B4-4CC8-B171-6A6FDC31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920-7684-465F-B746-B1CABFA5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64D1-1C81-4F58-BD27-55F42D29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1709-3BEA-46CD-AD6D-4ADB09DD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AF01-F455-4A8F-A2F0-2AC547FD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6D4B-33E7-4167-A711-E165EA0F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0AEA-3AC9-48D9-AEE4-20EC9F46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909ED-D131-42BB-908E-A74FAB54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99AA4-7A62-4F1B-BFD7-51ABC211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9A46-8B60-466A-A693-F45C2696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99FDC-0205-468B-8345-D262E713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476D-29D3-4976-B52F-0FEDCE9D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0B9-157D-4D12-BBCD-6366BB7F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E013-CA98-454B-9D06-347F4C36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4C25-2E34-495F-95B7-D392568F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2901-4FF4-4ACF-9769-0CBD7387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C10D-F1BC-4BDD-866C-EEE64576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C242-DFAD-40DE-AAAD-9E0D4A37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5689F-525A-4AFA-B518-46B732A2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2A462-97E6-43A7-B698-6B125151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59EF9-3999-44E9-97B2-AF651FB1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36891-7B3D-4AF3-9E52-C26034C0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D3D2-639E-4397-BE4F-ACF5D4A8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023-70C3-42DE-A4FC-73AC4C9B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3C552-7B04-49D1-9BF3-7956694C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9D873-6AA3-4A4B-8D56-D975BFC5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CB492-4BA9-415D-8B34-EEAE9188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6A158-C31A-4DAD-A436-9D08B9F1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48E0-478E-4A81-A51E-3A17066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4092-9DE5-4E93-A8EC-DDECDF1C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BD470-3C31-4167-A847-4BBA3490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7ED20-E95D-4ED1-84F0-DA2958F6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FD6E2-6D06-4404-8B01-A111FBFE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652-75D5-4E4A-BAE1-6B8FA06E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F5A-D158-4690-9BBD-A6E0699D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272-EEC7-44E6-8A42-6B10C988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2E3-100B-4DA8-986E-EDFCFB64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946-1BBC-424D-8368-241661CD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1751-32BC-498E-9465-EAAA545329D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A393-9EDC-4E60-B9DC-9693300B6F8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765B-A128-4EDF-92EB-E5489E20B96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6CE6-A696-4E4A-A43A-0741DB0ED03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900000" y="83664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79280" y="2349360"/>
            <a:ext cx="8785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Аморфные и кристаллические веществ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Молекулярные кристаллические решётки, ионные , атомны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500280" y="47862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68360" y="549360"/>
            <a:ext cx="84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МОУ Васильевская СОШ Грибановский район, Воронежская обла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826920" y="5661000"/>
            <a:ext cx="7417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Учитель хими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Евсеева Галина Василье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3286080" y="12859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785880" y="14292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Аморфные  и кристаллические ве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" descr="D:\Сканер\2010-03-19\Сканировать2.JPG"/>
          <p:cNvPicPr/>
          <p:nvPr/>
        </p:nvPicPr>
        <p:blipFill>
          <a:blip r:embed="rId1"/>
          <a:stretch/>
        </p:blipFill>
        <p:spPr>
          <a:xfrm>
            <a:off x="214200" y="2071800"/>
            <a:ext cx="4500720" cy="4357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D:\Сканер\2010-03-19\Сканировать20002.JPG"/>
          <p:cNvPicPr/>
          <p:nvPr/>
        </p:nvPicPr>
        <p:blipFill>
          <a:blip r:embed="rId2"/>
          <a:stretch/>
        </p:blipFill>
        <p:spPr>
          <a:xfrm>
            <a:off x="4714920" y="2071800"/>
            <a:ext cx="44384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D:\Сканер\2010-03-19\Сканировать20001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D:\Сканер\2010-03-19\Сканировать20003.JPG"/>
          <p:cNvPicPr/>
          <p:nvPr/>
        </p:nvPicPr>
        <p:blipFill>
          <a:blip r:embed="rId1"/>
          <a:stretch/>
        </p:blipFill>
        <p:spPr>
          <a:xfrm>
            <a:off x="0" y="1147680"/>
            <a:ext cx="91440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D:\Сканер\2010-03-19\Сканировать20004.JPG"/>
          <p:cNvPicPr/>
          <p:nvPr/>
        </p:nvPicPr>
        <p:blipFill>
          <a:blip r:embed="rId1"/>
          <a:stretch/>
        </p:blipFill>
        <p:spPr>
          <a:xfrm>
            <a:off x="928800" y="936720"/>
            <a:ext cx="750096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D:\Сканер\2010-03-19\Копия Сканировать20004.JPG"/>
          <p:cNvPicPr/>
          <p:nvPr/>
        </p:nvPicPr>
        <p:blipFill>
          <a:blip r:embed="rId1"/>
          <a:stretch/>
        </p:blipFill>
        <p:spPr>
          <a:xfrm>
            <a:off x="785880" y="928800"/>
            <a:ext cx="8001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D:\Сканер\2010-03-19\Сканировать20005.JPG"/>
          <p:cNvPicPr/>
          <p:nvPr/>
        </p:nvPicPr>
        <p:blipFill>
          <a:blip r:embed="rId1"/>
          <a:stretch/>
        </p:blipFill>
        <p:spPr>
          <a:xfrm>
            <a:off x="0" y="0"/>
            <a:ext cx="4734000" cy="2500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D:\Сканер\2010-03-19\Сканировать20006.JPG"/>
          <p:cNvPicPr/>
          <p:nvPr/>
        </p:nvPicPr>
        <p:blipFill>
          <a:blip r:embed="rId2"/>
          <a:stretch/>
        </p:blipFill>
        <p:spPr>
          <a:xfrm>
            <a:off x="4357800" y="2071800"/>
            <a:ext cx="4786200" cy="2379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D:\Сканер\2010-03-19\Копия Сканировать20006.JPG"/>
          <p:cNvPicPr/>
          <p:nvPr/>
        </p:nvPicPr>
        <p:blipFill>
          <a:blip r:embed="rId3"/>
          <a:stretch/>
        </p:blipFill>
        <p:spPr>
          <a:xfrm>
            <a:off x="0" y="4476600"/>
            <a:ext cx="50007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642960" y="164304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Домашнее задание: §22, вопросы 1, 2, 5, 6, с.12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6:27Z</dcterms:created>
  <dc:creator>Light</dc:creator>
  <dc:description/>
  <dc:language>en-US</dc:language>
  <cp:lastModifiedBy>Гость</cp:lastModifiedBy>
  <dcterms:modified xsi:type="dcterms:W3CDTF">2010-03-19T09:45:11Z</dcterms:modified>
  <cp:revision>38</cp:revision>
  <dc:subject/>
  <dc:title>Слайд 1</dc:title>
</cp:coreProperties>
</file>