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AFF-11B0-4658-B484-E3D55251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382-A7EE-4D19-BBCD-1A3BEB76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261-A0DF-40A8-9938-560E384A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842-FD35-4D0D-844F-17517EF5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AD1-4B81-4587-9E8E-6825F4EC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E1B-B506-41A3-AB3C-E8F028B9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7B8-1BAC-4096-8993-7D230068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115-22B3-48F0-8637-D99A22B8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651-5110-407E-A25D-B5FD1CF1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B4B-3A19-4696-96C9-B56CAACB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90E-2B33-459F-8980-801269E7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90D-4265-4577-9185-E1460472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E818-E942-4D62-BC65-07448F87D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4920" y="-223920"/>
            <a:ext cx="975384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468360" y="-387360"/>
            <a:ext cx="10077480" cy="75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8483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0015.jpg"/>
          <p:cNvPicPr/>
          <p:nvPr/>
        </p:nvPicPr>
        <p:blipFill>
          <a:blip r:embed="rId1"/>
          <a:stretch/>
        </p:blipFill>
        <p:spPr>
          <a:xfrm>
            <a:off x="5508720" y="2060640"/>
            <a:ext cx="3039840" cy="4206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819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DSCN1981=_preview.jpg"/>
          <p:cNvPicPr/>
          <p:nvPr/>
        </p:nvPicPr>
        <p:blipFill>
          <a:blip r:embed="rId1"/>
          <a:stretch/>
        </p:blipFill>
        <p:spPr>
          <a:xfrm>
            <a:off x="1476360" y="1197000"/>
            <a:ext cx="6145200" cy="86932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Osenniy_buket-1.jpg"/>
          <p:cNvPicPr/>
          <p:nvPr/>
        </p:nvPicPr>
        <p:blipFill>
          <a:blip r:embed="rId1"/>
          <a:stretch/>
        </p:blipFill>
        <p:spPr>
          <a:xfrm>
            <a:off x="5645160" y="1657440"/>
            <a:ext cx="3498840" cy="520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15000" cy="44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2:38:01Z</dcterms:created>
  <dc:creator>Яночка</dc:creator>
  <dc:description/>
  <dc:language>en-US</dc:language>
  <cp:lastModifiedBy>пользователь</cp:lastModifiedBy>
  <dcterms:modified xsi:type="dcterms:W3CDTF">2018-02-07T11:40:21Z</dcterms:modified>
  <cp:revision>6</cp:revision>
  <dc:subject/>
  <dc:title>Слайд 1</dc:title>
</cp:coreProperties>
</file>