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2D2-AF5C-45C7-A3D1-22BD13FA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41B-5D62-4B3F-8782-100EE384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6F9-7999-4162-85CF-0D0CE0AB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DE0-9796-4001-A8AE-76A0144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E72C-185B-4A93-8C1F-D31FF49E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167-393D-4373-BE3A-1C56F6CD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AF19-4D32-4B96-9D29-DD9564A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7844-9750-4FE1-A91A-B801488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BD3F-DB00-4A1D-B3F4-038A0A0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083B-1FF1-47D1-8C28-726D4E6E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9C6-2DC2-4B2E-8F2D-01FC892A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4F1-1EBA-448A-81EA-C010367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C3BF-74F9-4C19-8FBE-F2BA018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3F9F-E433-4EC9-822B-902D584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6D8-B00B-4804-A64D-17354F92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A52-208B-48A7-AE24-FC422914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D13-2FE0-4EF0-8979-4ED2B4C7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558-6A73-42FE-BF8B-5092F230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A39-19F4-41F3-A4AB-136E718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5A2-B682-4B92-915C-E8EE575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6B7-065B-442C-9AAF-4F415A87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3BF-F854-4A5C-821D-C4D73BF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ADC-7097-4CC6-8A1F-22D5957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E36-663B-4263-8DDE-5F12D9D9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E423-DC1C-453F-AFD2-427F603AC7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68EE-44E1-42BB-849A-D1DCDE3B9CB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245360" cy="250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31f76e"/>
                </a:solidFill>
                <a:latin typeface="Verdana"/>
              </a:rPr>
              <a:t>«Играть играй, да дело знай»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40720" y="5390280"/>
            <a:ext cx="9684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2"/>
          <p:cNvPicPr/>
          <p:nvPr/>
        </p:nvPicPr>
        <p:blipFill>
          <a:blip r:embed="rId1"/>
          <a:stretch/>
        </p:blipFill>
        <p:spPr>
          <a:xfrm>
            <a:off x="2556000" y="2997360"/>
            <a:ext cx="3192480" cy="2636640"/>
          </a:xfrm>
          <a:prstGeom prst="rect">
            <a:avLst/>
          </a:prstGeom>
          <a:ln w="0">
            <a:noFill/>
          </a:ln>
        </p:spPr>
      </p:pic>
      <p:pic>
        <p:nvPicPr>
          <p:cNvPr id="170" name="BEZ_SLOV-Detskaya_pesnya_-_Leto.mp3" descr=""/>
          <p:cNvPicPr/>
          <p:nvPr/>
        </p:nvPicPr>
        <p:blipFill>
          <a:blip r:embed="rId2"/>
          <a:stretch/>
        </p:blipFill>
        <p:spPr>
          <a:xfrm>
            <a:off x="817236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23400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икторина по стихам А.Л.Барт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5.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К какому стихотворению относится картинка ? Как зовут героя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. «Плакса» , Маша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          2. «Мячик» , Таня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          3. «Река» , Вер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508720" y="6535440"/>
            <a:ext cx="339408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tanya"/>
          <p:cNvPicPr/>
          <p:nvPr/>
        </p:nvPicPr>
        <p:blipFill>
          <a:blip r:embed="rId1"/>
          <a:stretch/>
        </p:blipFill>
        <p:spPr>
          <a:xfrm>
            <a:off x="2771640" y="1916280"/>
            <a:ext cx="2833920" cy="306540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44000" cy="36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Мячик», Таня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Наша Таня громко плачет: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ронила в речку мячик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- Тише, Танечка, не плачь: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Не утонет в речке мяч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47970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6.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К какому стихотворению    относится картинка ? Как зовут героя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.</a:t>
            </a:r>
            <a:r>
              <a:rPr b="0" i="1" lang="ja-JP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Жил на свете самосвал</a:t>
            </a:r>
            <a:r>
              <a:rPr b="0" i="1" lang="ja-JP" sz="18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, Алексей 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                   2. «Грузовик», Саша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                   3. «Песочница» , Толя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79920" y="5699160"/>
            <a:ext cx="23065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4" descr="d5fe6654b608745f76b357e5cf723d01"/>
          <p:cNvPicPr/>
          <p:nvPr/>
        </p:nvPicPr>
        <p:blipFill>
          <a:blip r:embed="rId1"/>
          <a:stretch/>
        </p:blipFill>
        <p:spPr>
          <a:xfrm>
            <a:off x="2700360" y="2133720"/>
            <a:ext cx="2336760" cy="225396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4400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0" i="1" lang="ja-JP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Жил на свете самосвал</a:t>
            </a:r>
            <a:r>
              <a:rPr b="0" i="1" lang="ja-JP" sz="24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, Алексей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2711160" y="2697120"/>
            <a:ext cx="364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Жил на свете самосвал,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н на стройке побывал,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катил с утра к воротам,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торожа спросили: — Кто там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………………………………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7.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Одно из самых замечательных произведений Барто, где отражена забота о детях, которых война осиротила?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885080" y="5876640"/>
            <a:ext cx="1008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527120" y="4437000"/>
            <a:ext cx="338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« В театре для детей.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2. «Дети нашего двор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3. «Звенигород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9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400"/>
            </a:br>
            <a:r>
              <a:rPr b="0" lang="ru-RU" sz="44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0" i="1" lang="ja-JP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6666"/>
                </a:solidFill>
                <a:latin typeface="Verdana"/>
              </a:rPr>
              <a:t>Звенигород</a:t>
            </a:r>
            <a:r>
              <a:rPr b="0" i="1" lang="ja-JP" sz="28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Picture 5" descr="71272083"/>
          <p:cNvPicPr/>
          <p:nvPr/>
        </p:nvPicPr>
        <p:blipFill>
          <a:blip r:embed="rId1"/>
          <a:stretch/>
        </p:blipFill>
        <p:spPr>
          <a:xfrm>
            <a:off x="395280" y="2708280"/>
            <a:ext cx="3960720" cy="2881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5076720" y="2561400"/>
            <a:ext cx="3168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етом весь Звенигород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лон птичьим свистом.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ам синицы прыгают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о садам тенистым.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ам дома со ставнями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а горе поставлены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Лавочка под клёнами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овый дом с балконами.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овый, двухэтажный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а пригорке дом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Тридцать юных граждан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оживают в нём. (...)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Здесь со всех концов страны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браны ребята: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тот дом их в дни войны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ивезли когда-то…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…………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933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8.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Продолжите стихотворение:</a:t>
            </a:r>
            <a:br>
              <a:rPr sz="4000"/>
            </a:br>
            <a:br>
              <a:rPr sz="4000"/>
            </a:br>
            <a:r>
              <a:rPr b="0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Дело было в январе,</a:t>
            </a:r>
            <a:br>
              <a:rPr sz="4000"/>
            </a:br>
            <a:r>
              <a:rPr b="0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Стояла ёлка на горе,</a:t>
            </a:r>
            <a:br>
              <a:rPr sz="4000"/>
            </a:br>
            <a:r>
              <a:rPr b="0" i="1" lang="ru-RU" sz="4000" spc="-1" strike="noStrike">
                <a:solidFill>
                  <a:srgbClr val="006666"/>
                </a:solidFill>
                <a:latin typeface="Verdana"/>
              </a:rPr>
              <a:t>…. . . . . . . . . . . . . . . 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80000" y="5589720"/>
            <a:ext cx="4906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35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               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Дело было в январе,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тояла елка на горе,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А возле этой елки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Бродили злые волки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8" name="Picture 5" descr="stihi-delo-bylo-v-janvare"/>
          <p:cNvPicPr/>
          <p:nvPr/>
        </p:nvPicPr>
        <p:blipFill>
          <a:blip r:embed="rId1"/>
          <a:stretch/>
        </p:blipFill>
        <p:spPr>
          <a:xfrm>
            <a:off x="4811760" y="1916280"/>
            <a:ext cx="3154320" cy="402876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9.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Продолжите стихотворение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:</a:t>
            </a:r>
            <a:br>
              <a:rPr sz="4000"/>
            </a:br>
            <a:br>
              <a:rPr sz="4000"/>
            </a:br>
            <a:r>
              <a:rPr b="0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Почему сегодня Петя</a:t>
            </a:r>
            <a:br>
              <a:rPr sz="4000"/>
            </a:br>
            <a:r>
              <a:rPr b="0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Просыпался десять раз?</a:t>
            </a:r>
            <a:br>
              <a:rPr sz="4000"/>
            </a:br>
            <a:r>
              <a:rPr b="0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…………………………………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32360" y="5950080"/>
            <a:ext cx="2300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4" descr="24340_hzqsacmb"/>
          <p:cNvPicPr/>
          <p:nvPr/>
        </p:nvPicPr>
        <p:blipFill>
          <a:blip r:embed="rId1"/>
          <a:stretch/>
        </p:blipFill>
        <p:spPr>
          <a:xfrm>
            <a:off x="3132000" y="4076640"/>
            <a:ext cx="1881360" cy="249228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              </a:t>
            </a: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чему сегодня Петя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    Просыпался десять раз?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Потому что он сегодня</a:t>
            </a:r>
            <a:br>
              <a:rPr sz="2800"/>
            </a:b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       Поступает в первый класс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3141720"/>
            <a:ext cx="696600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cc99ff"/>
                </a:solidFill>
                <a:latin typeface="Verdana"/>
              </a:rPr>
              <a:t>1.</a:t>
            </a:r>
            <a:r>
              <a:rPr b="0" lang="ru-RU" sz="3600" spc="-1" strike="noStrike">
                <a:solidFill>
                  <a:srgbClr val="31f76e"/>
                </a:solidFill>
                <a:latin typeface="Verdana"/>
              </a:rPr>
              <a:t>Как называлось первое    стихотворение, которое Агния Барто принесла в издательство?</a:t>
            </a:r>
            <a:br>
              <a:rPr sz="4800"/>
            </a:br>
            <a:br>
              <a:rPr sz="4800"/>
            </a:b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1.«О ребятах и мышатах»</a:t>
            </a: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2.«Здравствуй, солнце»</a:t>
            </a: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3.«Китайчонок Ван Ли»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380000" y="5166720"/>
            <a:ext cx="110340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543480" y="553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10.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 В стихотворении «Твой праздник» А.Л.Барто советует совершить определённое действие, чтобы завтрашний день наступил скорее. Что именно нужно сделать?</a:t>
            </a:r>
            <a:br>
              <a:rPr sz="40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1.Попросить солнышко, чтобы день поскорей закончился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2.Пораньше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лечь спать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3.Спеть колыбельную песню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32360" y="5733720"/>
            <a:ext cx="9046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Verdana"/>
              </a:rPr>
              <a:t>Пораньше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Verdana"/>
              </a:rPr>
              <a:t>лечь спать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58280" y="2621520"/>
            <a:ext cx="310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Чтоб скорей дождаться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втрашнего дня,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ети спать ложатся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но, без ог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……………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11. </a:t>
            </a:r>
            <a:r>
              <a:rPr b="1" lang="ru-RU" sz="3200" spc="-1" strike="noStrike">
                <a:solidFill>
                  <a:srgbClr val="31f76e"/>
                </a:solidFill>
                <a:latin typeface="Verdana"/>
              </a:rPr>
              <a:t>Отгадай, какая из картинок не относится к стихам Агнии Барто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Picture 6" descr="agnija-barto-mjachik"/>
          <p:cNvPicPr/>
          <p:nvPr/>
        </p:nvPicPr>
        <p:blipFill>
          <a:blip r:embed="rId1"/>
          <a:stretch/>
        </p:blipFill>
        <p:spPr>
          <a:xfrm>
            <a:off x="1979640" y="2349360"/>
            <a:ext cx="2160720" cy="1771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qdefault"/>
          <p:cNvPicPr/>
          <p:nvPr/>
        </p:nvPicPr>
        <p:blipFill>
          <a:blip r:embed="rId2"/>
          <a:stretch/>
        </p:blipFill>
        <p:spPr>
          <a:xfrm>
            <a:off x="5580000" y="436572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8eab76f6947b76be72512a9110b71798"/>
          <p:cNvPicPr/>
          <p:nvPr/>
        </p:nvPicPr>
        <p:blipFill>
          <a:blip r:embed="rId3"/>
          <a:stretch/>
        </p:blipFill>
        <p:spPr>
          <a:xfrm>
            <a:off x="4500720" y="2349360"/>
            <a:ext cx="2087280" cy="176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dlja_detej_agnija_barto_igrushki"/>
          <p:cNvPicPr/>
          <p:nvPr/>
        </p:nvPicPr>
        <p:blipFill>
          <a:blip r:embed="rId4"/>
          <a:stretch/>
        </p:blipFill>
        <p:spPr>
          <a:xfrm>
            <a:off x="1042920" y="4365720"/>
            <a:ext cx="1676520" cy="1677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184545"/>
          <p:cNvPicPr/>
          <p:nvPr/>
        </p:nvPicPr>
        <p:blipFill>
          <a:blip r:embed="rId5"/>
          <a:stretch/>
        </p:blipFill>
        <p:spPr>
          <a:xfrm>
            <a:off x="3348000" y="4365720"/>
            <a:ext cx="1871640" cy="167148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5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«Мойдодыр» , автор Корней Чуковски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Picture 5" descr="184545"/>
          <p:cNvPicPr/>
          <p:nvPr/>
        </p:nvPicPr>
        <p:blipFill>
          <a:blip r:embed="rId1"/>
          <a:stretch/>
        </p:blipFill>
        <p:spPr>
          <a:xfrm>
            <a:off x="2916360" y="3068640"/>
            <a:ext cx="3552840" cy="257652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12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 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Назовите имя героини стихотворения «Веревочка», научившейся прыгать на скакалке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Picture 6" descr="knFSsv2VqCY"/>
          <p:cNvPicPr/>
          <p:nvPr/>
        </p:nvPicPr>
        <p:blipFill>
          <a:blip r:embed="rId1"/>
          <a:stretch/>
        </p:blipFill>
        <p:spPr>
          <a:xfrm>
            <a:off x="3276720" y="2708280"/>
            <a:ext cx="2595600" cy="2736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3924360" y="566100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.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Лида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2. Даша</a:t>
            </a:r>
            <a:br>
              <a:rPr sz="1800"/>
            </a:b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3. Маш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388360" cy="16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Лида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74840" y="3069000"/>
            <a:ext cx="34070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………………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шла Лидочка вперед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ида прыгалку берет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—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ида, Лида! Вот так Лида!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аздаются голоса. —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смотрите, это Лид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качет целых полчаса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…………………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Источники использованной информаци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ния Барто «Стих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http://agniyabarto.ru/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f76e"/>
                </a:solidFill>
                <a:latin typeface="Verdana"/>
              </a:rPr>
              <a:t>До новых встреч!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59280" y="5373360"/>
            <a:ext cx="261468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4" descr="stihi-barto-06"/>
          <p:cNvPicPr/>
          <p:nvPr/>
        </p:nvPicPr>
        <p:blipFill>
          <a:blip r:embed="rId1"/>
          <a:stretch/>
        </p:blipFill>
        <p:spPr>
          <a:xfrm>
            <a:off x="2050920" y="2060640"/>
            <a:ext cx="4753080" cy="339552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380360" cy="19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ru-RU" sz="2400" spc="-1" strike="noStrike" u="sng">
                <a:solidFill>
                  <a:srgbClr val="006666"/>
                </a:solidFill>
                <a:uFillTx/>
                <a:latin typeface="Verdana"/>
              </a:rPr>
              <a:t>«Китайчонок Ван Ли»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18880" y="4084560"/>
            <a:ext cx="323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стране бамбука и чая,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 нашей столицы вдали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провинции южной Китая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живёт китайчонок Ван Л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………………………………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11" descr="456px-Barto_KitaichonokLi_04"/>
          <p:cNvPicPr/>
          <p:nvPr/>
        </p:nvPicPr>
        <p:blipFill>
          <a:blip r:embed="rId1"/>
          <a:stretch/>
        </p:blipFill>
        <p:spPr>
          <a:xfrm>
            <a:off x="3348000" y="2276640"/>
            <a:ext cx="2176560" cy="172692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2.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 Какую игрушку уронили на пол в самом известном стишке Агнии Барто 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1.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Мишку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2.Мышку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3.Книжку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27280" y="5949720"/>
            <a:ext cx="2916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44000" cy="181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400"/>
            </a:br>
            <a:br>
              <a:rPr sz="4400"/>
            </a:br>
            <a:r>
              <a:rPr b="0" i="1" lang="ru-RU" sz="2800" spc="-1" strike="noStrike" u="sng">
                <a:solidFill>
                  <a:srgbClr val="006666"/>
                </a:solidFill>
                <a:uFillTx/>
                <a:latin typeface="Verdana"/>
              </a:rPr>
              <a:t>Мишк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5" descr="barto_mishka"/>
          <p:cNvPicPr/>
          <p:nvPr/>
        </p:nvPicPr>
        <p:blipFill>
          <a:blip r:embed="rId1"/>
          <a:stretch/>
        </p:blipFill>
        <p:spPr>
          <a:xfrm>
            <a:off x="3276720" y="3141720"/>
            <a:ext cx="2705040" cy="261144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44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3.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Что кричала девочка чумазая, когда ей отмывали ладошки ?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 </a:t>
            </a:r>
            <a:br>
              <a:rPr sz="40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55640" y="5805360"/>
            <a:ext cx="26528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4" descr="0_76db4_ed7c3661_orig"/>
          <p:cNvPicPr/>
          <p:nvPr/>
        </p:nvPicPr>
        <p:blipFill>
          <a:blip r:embed="rId1"/>
          <a:stretch/>
        </p:blipFill>
        <p:spPr>
          <a:xfrm>
            <a:off x="3059280" y="3429000"/>
            <a:ext cx="2016000" cy="188424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1f76e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Verdana"/>
              </a:rPr>
              <a:t>- Не трогайте ладошки! Они не будут белые, они же загорелые!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4.</a:t>
            </a:r>
            <a:r>
              <a:rPr b="1" lang="ru-RU" sz="4000" spc="-1" strike="noStrike">
                <a:solidFill>
                  <a:srgbClr val="31f76e"/>
                </a:solidFill>
                <a:latin typeface="Verdana"/>
              </a:rPr>
              <a:t> Из какого произведения А.Л.Барто эти строки?</a:t>
            </a:r>
            <a:br>
              <a:rPr sz="4000"/>
            </a:br>
            <a:br>
              <a:rPr sz="4000"/>
            </a:br>
            <a:r>
              <a:rPr b="0" i="1" lang="ru-RU" sz="3600" spc="-1" strike="noStrike">
                <a:solidFill>
                  <a:srgbClr val="31f76e"/>
                </a:solidFill>
                <a:latin typeface="Verdana"/>
              </a:rPr>
              <a:t>«Но у мамы есть привычка</a:t>
            </a:r>
            <a:br>
              <a:rPr sz="3600"/>
            </a:br>
            <a:r>
              <a:rPr b="0" i="1" lang="ru-RU" sz="3600" spc="-1" strike="noStrike">
                <a:solidFill>
                  <a:srgbClr val="31f76e"/>
                </a:solidFill>
                <a:latin typeface="Verdana"/>
              </a:rPr>
              <a:t>Отвечать всегда не то:</a:t>
            </a:r>
            <a:br>
              <a:rPr sz="3600"/>
            </a:br>
            <a:r>
              <a:rPr b="0" i="1" lang="ru-RU" sz="3600" spc="-1" strike="noStrike">
                <a:solidFill>
                  <a:srgbClr val="31f76e"/>
                </a:solidFill>
                <a:latin typeface="Verdana"/>
              </a:rPr>
              <a:t>Говорю я ей про птичку,</a:t>
            </a:r>
            <a:br>
              <a:rPr sz="3600"/>
            </a:br>
            <a:r>
              <a:rPr b="0" i="1" lang="ru-RU" sz="3600" spc="-1" strike="noStrike">
                <a:solidFill>
                  <a:srgbClr val="31f76e"/>
                </a:solidFill>
                <a:latin typeface="Verdana"/>
              </a:rPr>
              <a:t>А она мне про пальто».</a:t>
            </a: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1.«Мама»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Снегирь»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3</a:t>
            </a: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.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«Про пальто и птичку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020000" y="5733720"/>
            <a:ext cx="166680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advTm="17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1f76e"/>
                </a:solidFill>
                <a:latin typeface="Verdana"/>
              </a:rPr>
              <a:t>Ответ:</a:t>
            </a:r>
            <a:br>
              <a:rPr sz="4400"/>
            </a:b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0" i="1" lang="ru-RU" sz="2800" spc="-1" strike="noStrike">
                <a:solidFill>
                  <a:srgbClr val="006666"/>
                </a:solidFill>
                <a:latin typeface="Verdana"/>
              </a:rPr>
              <a:t>Снегирь»</a:t>
            </a: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5" descr="4309"/>
          <p:cNvPicPr/>
          <p:nvPr/>
        </p:nvPicPr>
        <p:blipFill>
          <a:blip r:embed="rId1"/>
          <a:stretch/>
        </p:blipFill>
        <p:spPr>
          <a:xfrm>
            <a:off x="3132000" y="2565360"/>
            <a:ext cx="2990880" cy="338148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16:11:02Z</dcterms:created>
  <dc:creator>Ольга</dc:creator>
  <dc:description/>
  <dc:language>en-US</dc:language>
  <cp:lastModifiedBy>Кирилл Собаев</cp:lastModifiedBy>
  <dcterms:modified xsi:type="dcterms:W3CDTF">2018-02-07T20:04:16Z</dcterms:modified>
  <cp:revision>23</cp:revision>
  <dc:subject/>
  <dc:title>Слайд 1</dc:title>
</cp:coreProperties>
</file>