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5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7.jpeg" ContentType="image/jpe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9FB1-8690-49ED-A494-A664D2374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8914-3E64-4847-A9E7-55CD1CBF7C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EDF5-83BD-4868-9EAC-82AC86C9C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6D06-4DBB-4AB6-B9DC-75BC01701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6258-E3B7-4051-A47A-7EE26FD91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6C0-321A-437D-844D-614E890B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75C-17FE-4A00-955A-E8E28280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8A6-FD2B-4313-B755-1DA9BB96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081-D729-46F9-8759-5FED43C1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32D-810A-40CF-B958-314F8F0A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4D6-6EA5-41D3-81B4-22BE6FA3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941-9ECC-4409-9FE7-47EFFD29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518-8558-4335-BFE5-117AD5D0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EB4-09C3-41B0-99B7-0D38B9D5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9C4-C5EB-4920-9171-1AE2612C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2C5-D5B2-4C87-BC90-A596CCC3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7AE-783A-4392-9A98-D6A9294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420B-2E3E-4CAF-83FE-E7A76DB4C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Как будут учиться </a:t>
            </a:r>
            <a:br>
              <a:rPr sz="6600"/>
            </a:b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наши дети?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так, как учились м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8600" y="152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648320" y="15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85800" y="4800600"/>
            <a:ext cx="3733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76320" y="487692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2"/>
          <a:stretch/>
        </p:blipFill>
        <p:spPr>
          <a:xfrm>
            <a:off x="4724280" y="487692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5257800" y="4800600"/>
            <a:ext cx="388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52280" y="3232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4800600" y="32320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1" descr=""/>
          <p:cNvPicPr/>
          <p:nvPr/>
        </p:nvPicPr>
        <p:blipFill>
          <a:blip r:embed="rId3"/>
          <a:stretch/>
        </p:blipFill>
        <p:spPr>
          <a:xfrm>
            <a:off x="4724280" y="735120"/>
            <a:ext cx="3124440" cy="23288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"/>
          <p:cNvPicPr/>
          <p:nvPr/>
        </p:nvPicPr>
        <p:blipFill>
          <a:blip r:embed="rId4"/>
          <a:stretch/>
        </p:blipFill>
        <p:spPr>
          <a:xfrm>
            <a:off x="1295280" y="712800"/>
            <a:ext cx="28958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ое, чему я научилс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1-м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7424640" y="990720"/>
            <a:ext cx="1719360" cy="2960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0" y="1015920"/>
            <a:ext cx="8077320" cy="53960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457200" y="62625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6160" y="115920"/>
            <a:ext cx="78343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же означает название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4148280"/>
            <a:ext cx="51544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Век, в котором мы жив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5891040" y="4114800"/>
            <a:ext cx="30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Бескон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250920" y="5300640"/>
            <a:ext cx="874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Живем в настоящем, готовя будущее!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250920" y="1687680"/>
            <a:ext cx="6553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9cc00"/>
                </a:solidFill>
                <a:latin typeface="Arial"/>
              </a:rPr>
              <a:t>Школ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99cc00"/>
                </a:solidFill>
                <a:latin typeface="Arial"/>
              </a:rPr>
              <a:t>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3635280" y="2276640"/>
            <a:ext cx="475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5867280" y="7632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800" spc="-1" strike="noStrike">
                <a:solidFill>
                  <a:srgbClr val="99cc00"/>
                </a:solidFill>
                <a:latin typeface="Arial"/>
                <a:ea typeface="Arial"/>
              </a:rPr>
              <a:t>∞</a:t>
            </a:r>
            <a:endParaRPr b="0" lang="en-US" sz="29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 flipH="1">
            <a:off x="4140360" y="3048120"/>
            <a:ext cx="129528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>
            <a:off x="7020000" y="3048120"/>
            <a:ext cx="79200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76280" y="0"/>
            <a:ext cx="841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качества Вы хотите видеть у своего ребенка по окончании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828800"/>
            <a:ext cx="3124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ставить цель и добиваться 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бщ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адап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146480" y="1343160"/>
            <a:ext cx="1873440" cy="37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048120" y="180504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943600" y="20574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риен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амостоятельно добывать и применять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5410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ть заботиться о других, быть нравственным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охранить 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1295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ть хорошие, прочные зна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228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м, когда мы учились, главной задачей школы считалось…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2666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ам после школы приходилось часто слышать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Забудьте то, чему вас учили в школе!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«Школа учит не тому, что нужно в жизни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 мы говор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133720" y="39625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А этого мы не проходили..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PE01832_"/>
          <p:cNvPicPr/>
          <p:nvPr/>
        </p:nvPicPr>
        <p:blipFill>
          <a:blip r:embed="rId1"/>
          <a:stretch/>
        </p:blipFill>
        <p:spPr>
          <a:xfrm>
            <a:off x="228600" y="76212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152280" y="5334120"/>
            <a:ext cx="9220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В информационном обществе главными стали не знания, а умения ими пользова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885960" y="3429000"/>
            <a:ext cx="1095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8001000" cy="15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ть, давать знания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ть ум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путь вам больше нрав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788000" y="2873520"/>
            <a:ext cx="4356000" cy="386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08000" y="2892600"/>
            <a:ext cx="4537080" cy="3827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52280" y="30492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ва пути современной школ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55640" y="1133640"/>
            <a:ext cx="7777080" cy="5641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Если в новых условиях продолжать «накачивать» ученика знаниям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90720" y="211608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286000" y="4038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952880" y="32767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се предметы с 1-го по 11-й кла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09480" y="510552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заимодейств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00 авторов + 10 000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H="1">
            <a:off x="3200040" y="838080"/>
            <a:ext cx="114300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95680" y="838080"/>
            <a:ext cx="12193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4419720" y="838080"/>
            <a:ext cx="0" cy="3124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1"/>
          <a:stretch/>
        </p:blipFill>
        <p:spPr>
          <a:xfrm>
            <a:off x="3352680" y="4417920"/>
            <a:ext cx="2357640" cy="2440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5"/>
          <p:cNvSpPr/>
          <p:nvPr/>
        </p:nvSpPr>
        <p:spPr>
          <a:xfrm>
            <a:off x="5867280" y="51814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+ 20 000 школ + ученики и родители 85 регионо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523880" cy="151776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17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83" name="Group 18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84" name="Freeform 19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/>
                <a:ahLst/>
                <a:rect l="l" t="t" r="r" b="b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0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/>
                <a:ahLst/>
                <a:rect l="l" t="t" r="r" b="b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1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/>
                <a:ahLst/>
                <a:rect l="l" t="t" r="r" b="b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2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/>
                <a:ahLst/>
                <a:rect l="l" t="t" r="r" b="b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3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/>
                <a:ahLst/>
                <a:rect l="l" t="t" r="r" b="b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4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/>
                <a:ahLst/>
                <a:rect l="l" t="t" r="r" b="b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5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/>
                <a:ahLst/>
                <a:rect l="l" t="t" r="r" b="b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6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/>
                <a:ahLst/>
                <a:rect l="l" t="t" r="r" b="b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7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/>
                <a:ahLst/>
                <a:rect l="l" t="t" r="r" b="b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/>
                <a:ahLst/>
                <a:rect l="l" t="t" r="r" b="b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9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/>
                <a:ahLst/>
                <a:rect l="l" t="t" r="r" b="b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/>
                <a:ahLst/>
                <a:rect l="l" t="t" r="r" b="b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1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/>
                <a:ahLst/>
                <a:rect l="l" t="t" r="r" b="b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2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/>
                <a:ahLst/>
                <a:rect l="l" t="t" r="r" b="b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3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/>
                <a:ahLst/>
                <a:rect l="l" t="t" r="r" b="b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/>
                <a:ahLst/>
                <a:rect l="l" t="t" r="r" b="b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/>
                <a:ahLst/>
                <a:rect l="l" t="t" r="r" b="b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/>
                <a:ahLst/>
                <a:rect l="l" t="t" r="r" b="b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/>
                <a:ahLst/>
                <a:rect l="l" t="t" r="r" b="b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/>
                <a:ahLst/>
                <a:rect l="l" t="t" r="r" b="b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9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0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/>
                <a:ahLst/>
                <a:rect l="l" t="t" r="r" b="b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1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/>
                <a:ahLst/>
                <a:rect l="l" t="t" r="r" b="b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2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/>
                <a:ahLst/>
                <a:rect l="l" t="t" r="r" b="b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3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/>
                <a:ahLst/>
                <a:rect l="l" t="t" r="r" b="b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4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/>
                <a:ahLst/>
                <a:rect l="l" t="t" r="r" b="b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5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/>
                <a:ahLst/>
                <a:rect l="l" t="t" r="r" b="b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/>
                <a:ahLst/>
                <a:rect l="l" t="t" r="r" b="b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/>
                <a:ahLst/>
                <a:rect l="l" t="t" r="r" b="b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/>
                <a:ahLst/>
                <a:rect l="l" t="t" r="r" b="b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/>
                <a:ahLst/>
                <a:rect l="l" t="t" r="r" b="b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/>
                <a:ahLst/>
                <a:rect l="l" t="t" r="r" b="b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2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/>
                <a:ahLst/>
                <a:rect l="l" t="t" r="r" b="b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/>
                <a:ahLst/>
                <a:rect l="l" t="t" r="r" b="b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/>
                <a:ahLst/>
                <a:rect l="l" t="t" r="r" b="b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5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/>
                <a:ahLst/>
                <a:rect l="l" t="t" r="r" b="b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6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/>
                <a:ahLst/>
                <a:rect l="l" t="t" r="r" b="b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7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/>
                <a:ahLst/>
                <a:rect l="l" t="t" r="r" b="b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8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/>
                <a:ahLst/>
                <a:rect l="l" t="t" r="r" b="b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9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/>
                <a:ahLst/>
                <a:rect l="l" t="t" r="r" b="b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0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/>
                <a:ahLst/>
                <a:rect l="l" t="t" r="r" b="b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1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/>
                <a:ahLst/>
                <a:rect l="l" t="t" r="r" b="b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2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/>
                <a:ahLst/>
                <a:rect l="l" t="t" r="r" b="b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3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/>
                <a:ahLst/>
                <a:rect l="l" t="t" r="r" b="b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64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130" name="Freeform 65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/>
                <a:ahLst/>
                <a:rect l="l" t="t" r="r" b="b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/>
                <a:ahLst/>
                <a:rect l="l" t="t" r="r" b="b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/>
                <a:ahLst/>
                <a:rect l="l" t="t" r="r" b="b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/>
                <a:ahLst/>
                <a:rect l="l" t="t" r="r" b="b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/>
                <a:ahLst/>
                <a:rect l="l" t="t" r="r" b="b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/>
                <a:ahLst/>
                <a:rect l="l" t="t" r="r" b="b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/>
                <a:ahLst/>
                <a:rect l="l" t="t" r="r" b="b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/>
                <a:ahLst/>
                <a:rect l="l" t="t" r="r" b="b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/>
                <a:ahLst/>
                <a:rect l="l" t="t" r="r" b="b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/>
                <a:ahLst/>
                <a:rect l="l" t="t" r="r" b="b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/>
                <a:ahLst/>
                <a:rect l="l" t="t" r="r" b="b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76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/>
                <a:ahLst/>
                <a:rect l="l" t="t" r="r" b="b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77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/>
                <a:ahLst/>
                <a:rect l="l" t="t" r="r" b="b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8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/>
                <a:ahLst/>
                <a:rect l="l" t="t" r="r" b="b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79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/>
                <a:ahLst/>
                <a:rect l="l" t="t" r="r" b="b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0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/>
                <a:ahLst/>
                <a:rect l="l" t="t" r="r" b="b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81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/>
                <a:ahLst/>
                <a:rect l="l" t="t" r="r" b="b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2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/>
                <a:ahLst/>
                <a:rect l="l" t="t" r="r" b="b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3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/>
                <a:ahLst/>
                <a:rect l="l" t="t" r="r" b="b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4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/>
                <a:ahLst/>
                <a:rect l="l" t="t" r="r" b="b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85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6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/>
                <a:ahLst/>
                <a:rect l="l" t="t" r="r" b="b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/>
                <a:ahLst/>
                <a:rect l="l" t="t" r="r" b="b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/>
                <a:ahLst/>
                <a:rect l="l" t="t" r="r" b="b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/>
                <a:ahLst/>
                <a:rect l="l" t="t" r="r" b="b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/>
                <a:ahLst/>
                <a:rect l="l" t="t" r="r" b="b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/>
                <a:ahLst/>
                <a:rect l="l" t="t" r="r" b="b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/>
                <a:ahLst/>
                <a:rect l="l" t="t" r="r" b="b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/>
                <a:ahLst/>
                <a:rect l="l" t="t" r="r" b="b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/>
                <a:ahLst/>
                <a:rect l="l" t="t" r="r" b="b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/>
                <a:ahLst/>
                <a:rect l="l" t="t" r="r" b="b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7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/>
                <a:ahLst/>
                <a:rect l="l" t="t" r="r" b="b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8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/>
                <a:ahLst/>
                <a:rect l="l" t="t" r="r" b="b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9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/>
                <a:ahLst/>
                <a:rect l="l" t="t" r="r" b="b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0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/>
                <a:ahLst/>
                <a:rect l="l" t="t" r="r" b="b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1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/>
                <a:ahLst/>
                <a:rect l="l" t="t" r="r" b="b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2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/>
                <a:ahLst/>
                <a:rect l="l" t="t" r="r" b="b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3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/>
                <a:ahLst/>
                <a:rect l="l" t="t" r="r" b="b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4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/>
                <a:ahLst/>
                <a:rect l="l" t="t" r="r" b="b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5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/>
                <a:ahLst/>
                <a:rect l="l" t="t" r="r" b="b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6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/>
                <a:ahLst/>
                <a:rect l="l" t="t" r="r" b="b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/>
                <a:ahLst/>
                <a:rect l="l" t="t" r="r" b="b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/>
                <a:ahLst/>
                <a:rect l="l" t="t" r="r" b="b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/>
                <a:ahLst/>
                <a:rect l="l" t="t" r="r" b="b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110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176" name="Freeform 111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/>
                <a:ahLst/>
                <a:rect l="l" t="t" r="r" b="b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/>
                <a:ahLst/>
                <a:rect l="l" t="t" r="r" b="b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/>
                <a:ahLst/>
                <a:rect l="l" t="t" r="r" b="b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/>
                <a:ahLst/>
                <a:rect l="l" t="t" r="r" b="b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/>
                <a:ahLst/>
                <a:rect l="l" t="t" r="r" b="b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/>
                <a:ahLst/>
                <a:rect l="l" t="t" r="r" b="b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7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/>
                <a:ahLst/>
                <a:rect l="l" t="t" r="r" b="b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18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/>
                <a:ahLst/>
                <a:rect l="l" t="t" r="r" b="b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9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/>
                <a:ahLst/>
                <a:rect l="l" t="t" r="r" b="b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0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/>
                <a:ahLst/>
                <a:rect l="l" t="t" r="r" b="b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1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/>
                <a:ahLst/>
                <a:rect l="l" t="t" r="r" b="b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2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/>
                <a:ahLst/>
                <a:rect l="l" t="t" r="r" b="b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3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/>
                <a:ahLst/>
                <a:rect l="l" t="t" r="r" b="b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4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/>
                <a:ahLst/>
                <a:rect l="l" t="t" r="r" b="b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5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/>
                <a:ahLst/>
                <a:rect l="l" t="t" r="r" b="b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6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/>
                <a:ahLst/>
                <a:rect l="l" t="t" r="r" b="b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27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/>
                <a:ahLst/>
                <a:rect l="l" t="t" r="r" b="b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28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/>
                <a:ahLst/>
                <a:rect l="l" t="t" r="r" b="b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/>
                <a:ahLst/>
                <a:rect l="l" t="t" r="r" b="b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/>
                <a:ahLst/>
                <a:rect l="l" t="t" r="r" b="b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/>
                <a:ahLst/>
                <a:rect l="l" t="t" r="r" b="b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/>
                <a:ahLst/>
                <a:rect l="l" t="t" r="r" b="b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/>
                <a:ahLst/>
                <a:rect l="l" t="t" r="r" b="b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5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/>
                <a:ahLst/>
                <a:rect l="l" t="t" r="r" b="b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6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/>
                <a:ahLst/>
                <a:rect l="l" t="t" r="r" b="b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37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/>
                <a:ahLst/>
                <a:rect l="l" t="t" r="r" b="b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8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/>
                <a:ahLst/>
                <a:rect l="l" t="t" r="r" b="b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39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0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/>
                <a:ahLst/>
                <a:rect l="l" t="t" r="r" b="b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41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/>
                <a:ahLst/>
                <a:rect l="l" t="t" r="r" b="b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42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/>
                <a:ahLst/>
                <a:rect l="l" t="t" r="r" b="b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3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/>
                <a:ahLst/>
                <a:rect l="l" t="t" r="r" b="b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44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/>
                <a:ahLst/>
                <a:rect l="l" t="t" r="r" b="b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5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/>
                <a:ahLst/>
                <a:rect l="l" t="t" r="r" b="b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/>
                <a:ahLst/>
                <a:rect l="l" t="t" r="r" b="b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/>
                <a:ahLst/>
                <a:rect l="l" t="t" r="r" b="b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/>
                <a:ahLst/>
                <a:rect l="l" t="t" r="r" b="b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/>
                <a:ahLst/>
                <a:rect l="l" t="t" r="r" b="b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/>
                <a:ahLst/>
                <a:rect l="l" t="t" r="r" b="b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/>
                <a:ahLst/>
                <a:rect l="l" t="t" r="r" b="b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/>
                <a:ahLst/>
                <a:rect l="l" t="t" r="r" b="b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/>
                <a:ahLst/>
                <a:rect l="l" t="t" r="r" b="b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/>
                <a:ahLst/>
                <a:rect l="l" t="t" r="r" b="b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/>
                <a:ahLst/>
                <a:rect l="l" t="t" r="r" b="b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56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22" name="Freeform 157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/>
                <a:ahLst/>
                <a:rect l="l" t="t" r="r" b="b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58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/>
                <a:ahLst/>
                <a:rect l="l" t="t" r="r" b="b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9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/>
                <a:ahLst/>
                <a:rect l="l" t="t" r="r" b="b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60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/>
                <a:ahLst/>
                <a:rect l="l" t="t" r="r" b="b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61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/>
                <a:ahLst/>
                <a:rect l="l" t="t" r="r" b="b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62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/>
                <a:ahLst/>
                <a:rect l="l" t="t" r="r" b="b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63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/>
                <a:ahLst/>
                <a:rect l="l" t="t" r="r" b="b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64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/>
                <a:ahLst/>
                <a:rect l="l" t="t" r="r" b="b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65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/>
                <a:ahLst/>
                <a:rect l="l" t="t" r="r" b="b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66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/>
                <a:ahLst/>
                <a:rect l="l" t="t" r="r" b="b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7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/>
                <a:ahLst/>
                <a:rect l="l" t="t" r="r" b="b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8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/>
                <a:ahLst/>
                <a:rect l="l" t="t" r="r" b="b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9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/>
                <a:ahLst/>
                <a:rect l="l" t="t" r="r" b="b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0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/>
                <a:ahLst/>
                <a:rect l="l" t="t" r="r" b="b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1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/>
                <a:ahLst/>
                <a:rect l="l" t="t" r="r" b="b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2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/>
                <a:ahLst/>
                <a:rect l="l" t="t" r="r" b="b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3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/>
                <a:ahLst/>
                <a:rect l="l" t="t" r="r" b="b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/>
                <a:ahLst/>
                <a:rect l="l" t="t" r="r" b="b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/>
                <a:ahLst/>
                <a:rect l="l" t="t" r="r" b="b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6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/>
                <a:ahLst/>
                <a:rect l="l" t="t" r="r" b="b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77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78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/>
                <a:ahLst/>
                <a:rect l="l" t="t" r="r" b="b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79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/>
                <a:ahLst/>
                <a:rect l="l" t="t" r="r" b="b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80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/>
                <a:ahLst/>
                <a:rect l="l" t="t" r="r" b="b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81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/>
                <a:ahLst/>
                <a:rect l="l" t="t" r="r" b="b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82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/>
                <a:ahLst/>
                <a:rect l="l" t="t" r="r" b="b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83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/>
                <a:ahLst/>
                <a:rect l="l" t="t" r="r" b="b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4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/>
                <a:ahLst/>
                <a:rect l="l" t="t" r="r" b="b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85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86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/>
                <a:ahLst/>
                <a:rect l="l" t="t" r="r" b="b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87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/>
                <a:ahLst/>
                <a:rect l="l" t="t" r="r" b="b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88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/>
                <a:ahLst/>
                <a:rect l="l" t="t" r="r" b="b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9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/>
                <a:ahLst/>
                <a:rect l="l" t="t" r="r" b="b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0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/>
                <a:ahLst/>
                <a:rect l="l" t="t" r="r" b="b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91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/>
                <a:ahLst/>
                <a:rect l="l" t="t" r="r" b="b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2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/>
                <a:ahLst/>
                <a:rect l="l" t="t" r="r" b="b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3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/>
                <a:ahLst/>
                <a:rect l="l" t="t" r="r" b="b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4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/>
                <a:ahLst/>
                <a:rect l="l" t="t" r="r" b="b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5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/>
                <a:ahLst/>
                <a:rect l="l" t="t" r="r" b="b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6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/>
                <a:ahLst/>
                <a:rect l="l" t="t" r="r" b="b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7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/>
                <a:ahLst/>
                <a:rect l="l" t="t" r="r" b="b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98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/>
                <a:ahLst/>
                <a:rect l="l" t="t" r="r" b="b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99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/>
                <a:ahLst/>
                <a:rect l="l" t="t" r="r" b="b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00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/>
                <a:ahLst/>
                <a:rect l="l" t="t" r="r" b="b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01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/>
                <a:ahLst/>
                <a:rect l="l" t="t" r="r" b="b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304920" y="2286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5105520" y="228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762120" y="54849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1"/>
          <a:stretch/>
        </p:blipFill>
        <p:spPr>
          <a:xfrm>
            <a:off x="152280" y="561024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2"/>
          <a:stretch/>
        </p:blipFill>
        <p:spPr>
          <a:xfrm>
            <a:off x="5181480" y="5600880"/>
            <a:ext cx="530280" cy="495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>
            <a:off x="5791320" y="548496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04920" y="1255680"/>
            <a:ext cx="3657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3"/>
          <a:stretch/>
        </p:blipFill>
        <p:spPr>
          <a:xfrm>
            <a:off x="3657600" y="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2"/>
          <p:cNvSpPr/>
          <p:nvPr/>
        </p:nvSpPr>
        <p:spPr>
          <a:xfrm>
            <a:off x="4724280" y="121932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ет ситуацию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V="1">
            <a:off x="3505320" y="1599840"/>
            <a:ext cx="1295280" cy="10666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3505320" y="1600200"/>
            <a:ext cx="1218960" cy="1143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3581280" y="3657600"/>
            <a:ext cx="121932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685800" y="1522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105520" y="120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762120" y="5484960"/>
            <a:ext cx="441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52280" y="561024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5181480" y="5600880"/>
            <a:ext cx="530280" cy="495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7"/>
          <p:cNvSpPr/>
          <p:nvPr/>
        </p:nvSpPr>
        <p:spPr>
          <a:xfrm>
            <a:off x="5791320" y="5484960"/>
            <a:ext cx="358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152280" y="362916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спешный ученик тот – кто читает весь учебник и выполняет все задания – «от корки до кор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4343400" y="12351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и тексты в учебнике даны с избытком – для вы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5715000" y="2362320"/>
            <a:ext cx="2133720" cy="170820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6324480" y="3352680"/>
            <a:ext cx="9144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6248520" y="27432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 flipV="1">
            <a:off x="6781680" y="2057040"/>
            <a:ext cx="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267080" y="41464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0"/>
          <p:cNvSpPr/>
          <p:nvPr/>
        </p:nvSpPr>
        <p:spPr>
          <a:xfrm>
            <a:off x="6781680" y="3809880"/>
            <a:ext cx="0" cy="38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4" descr=""/>
          <p:cNvPicPr/>
          <p:nvPr/>
        </p:nvPicPr>
        <p:blipFill>
          <a:blip r:embed="rId3"/>
          <a:stretch/>
        </p:blipFill>
        <p:spPr>
          <a:xfrm>
            <a:off x="833400" y="1219320"/>
            <a:ext cx="2367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52280" y="763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5334120" y="763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8580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76320" y="522936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4800600" y="5257800"/>
            <a:ext cx="530280" cy="4953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7"/>
          <p:cNvSpPr/>
          <p:nvPr/>
        </p:nvSpPr>
        <p:spPr>
          <a:xfrm>
            <a:off x="5410080" y="518148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152280" y="2590920"/>
            <a:ext cx="3810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267080" y="2590920"/>
            <a:ext cx="4876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1" descr=""/>
          <p:cNvPicPr/>
          <p:nvPr/>
        </p:nvPicPr>
        <p:blipFill>
          <a:blip r:embed="rId3"/>
          <a:stretch/>
        </p:blipFill>
        <p:spPr>
          <a:xfrm>
            <a:off x="1447920" y="685800"/>
            <a:ext cx="2361960" cy="1806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"/>
          <p:cNvPicPr/>
          <p:nvPr/>
        </p:nvPicPr>
        <p:blipFill>
          <a:blip r:embed="rId4"/>
          <a:stretch/>
        </p:blipFill>
        <p:spPr>
          <a:xfrm>
            <a:off x="4390920" y="685800"/>
            <a:ext cx="269568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2-07T18:14:5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