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FE2-C1E2-4E65-BA15-B5E4E5C0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0EC-F3AB-4B18-B653-F499F91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935-46F2-44E5-A035-8850762A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3CE-AAA0-48CC-AD28-6CF116F3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E71B-EAFA-4DA6-B37D-064E77F1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487D-8B12-4E97-AE62-7ECD8EB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4768-64E0-4E67-9183-5905E4D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DD2-E37A-4AAE-A14D-699B749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7BC3-E94F-4727-AE92-B39AEF41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6820-E225-4039-9495-77F6770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E160-ED94-4070-B3D1-F771CB4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4E6-1A60-4EF8-AE74-FAC560A5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A98C-B90C-4D30-8C10-589FDC9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3746-E5E4-4841-9670-563429A2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2245-281E-4CE5-A938-50EC5CC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9B93-6A4D-43EB-A749-167FA55B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C6CA-1DCB-405A-B15A-2227BA16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261-4E64-48CB-9A6E-7EDBD09F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D9E-26E7-4487-B80B-C2DE587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53A-743C-4920-BB56-7D6FE613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0FA-92C7-4EF2-A8C7-057EF42C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148-3BB3-4F52-B219-CFC725A3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10D-4A2A-4674-B4E8-61E3411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272-4BCC-4783-B97D-9DBC264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D951-F9DF-4EB8-A5DF-F9F1AB11EF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756F-0A84-458E-9487-A9948F5F626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1258920" y="2494080"/>
            <a:ext cx="597708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761280" y="517680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9" descr="http://skachat-kartinki.ru/img/picture/Apr/19/853eaa775910c77e119a1a9d74f181b5/5.jpg"/>
          <p:cNvPicPr/>
          <p:nvPr/>
        </p:nvPicPr>
        <p:blipFill>
          <a:blip r:embed="rId1"/>
          <a:stretch/>
        </p:blipFill>
        <p:spPr>
          <a:xfrm>
            <a:off x="4032360" y="4316400"/>
            <a:ext cx="3593880" cy="2022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2d.by/wallpapers/b/bliny_i_hohloma.jpg"/>
          <p:cNvPicPr/>
          <p:nvPr/>
        </p:nvPicPr>
        <p:blipFill>
          <a:blip r:embed="rId2"/>
          <a:stretch/>
        </p:blipFill>
        <p:spPr>
          <a:xfrm>
            <a:off x="68400" y="34920"/>
            <a:ext cx="32796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Shirokaja_maslenica_068"/>
          <p:cNvPicPr/>
          <p:nvPr/>
        </p:nvPicPr>
        <p:blipFill>
          <a:blip r:embed="rId1"/>
          <a:stretch/>
        </p:blipFill>
        <p:spPr>
          <a:xfrm>
            <a:off x="324000" y="836640"/>
            <a:ext cx="67323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468360" y="1187640"/>
            <a:ext cx="727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Широкая Масленица, чего села в сан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Не гуляешь с нам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Я гуляла с вами, теперь села в са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Пела и плясала, больно я уст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Кончилось весельице, беритесь за дельц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Направляйте сошенку выехать на пашенку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6c"/>
                </a:solidFill>
                <a:latin typeface="Times New Roman"/>
              </a:rPr>
              <a:t>А со мной проститеся, чаем угостите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50920" y="54936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6c"/>
                </a:solidFill>
                <a:latin typeface="Arial"/>
              </a:rPr>
              <a:t>Самое главное - это блины! Блин - символ солнца. Такой же круглый и горячий. </a:t>
            </a:r>
            <a:r>
              <a:rPr b="0" lang="ru-RU" sz="1800" spc="-1" strike="noStrike">
                <a:solidFill>
                  <a:srgbClr val="eaea6c"/>
                </a:solidFill>
                <a:latin typeface="Arial"/>
              </a:rPr>
              <a:t>С пылу с жару подаются они на стол. С маслом, со сметаной, с икрой, грибами, севрюжиной или осетриной - выбирай на любой вкус. А, наевшись досыта – гуляй и развлекайся!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4577400" y="297180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!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8" descr="44big0"/>
          <p:cNvPicPr/>
          <p:nvPr/>
        </p:nvPicPr>
        <p:blipFill>
          <a:blip r:embed="rId1"/>
          <a:stretch/>
        </p:blipFill>
        <p:spPr>
          <a:xfrm>
            <a:off x="324000" y="2133720"/>
            <a:ext cx="3017520" cy="270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53aa5621f34b"/>
          <p:cNvPicPr/>
          <p:nvPr/>
        </p:nvPicPr>
        <p:blipFill>
          <a:blip r:embed="rId2"/>
          <a:stretch/>
        </p:blipFill>
        <p:spPr>
          <a:xfrm>
            <a:off x="3780000" y="2924280"/>
            <a:ext cx="3068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395280" y="549360"/>
            <a:ext cx="6769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едельник - встреча</a:t>
            </a:r>
            <a:endParaRPr b="1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1484280"/>
            <a:ext cx="7057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Times New Roman"/>
              </a:rPr>
              <a:t>На первый день масленицы русский народ справлял встречу Чистой масленицы - широкой боярыни. В старину дети с утра выходили на улицу строить снежные го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7" descr="1299159891_risunok10"/>
          <p:cNvPicPr/>
          <p:nvPr/>
        </p:nvPicPr>
        <p:blipFill>
          <a:blip r:embed="rId1"/>
          <a:stretch/>
        </p:blipFill>
        <p:spPr>
          <a:xfrm>
            <a:off x="1332000" y="3068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179280" y="1628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0b85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Verdana"/>
              </a:rPr>
              <a:t>На заигрыши с утра девицы и молодцы ходили в гости - покататься на горах, поесть блинов. Дети катались с гор во все дни масленицы – съезжали с гор на санях, на салазках, или на обледенелых рогожах.</a:t>
            </a:r>
            <a:r>
              <a:rPr b="0" lang="ru-RU" sz="2400" spc="-1" strike="noStrike">
                <a:solidFill>
                  <a:srgbClr val="eaea6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01d1843oc5d582b119859o8b2odcoodl"/>
          <p:cNvPicPr/>
          <p:nvPr/>
        </p:nvPicPr>
        <p:blipFill>
          <a:blip r:embed="rId1"/>
          <a:stretch/>
        </p:blipFill>
        <p:spPr>
          <a:xfrm>
            <a:off x="4643280" y="3716280"/>
            <a:ext cx="2829240" cy="28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yOGmevqa6_8"/>
          <p:cNvPicPr/>
          <p:nvPr/>
        </p:nvPicPr>
        <p:blipFill>
          <a:blip r:embed="rId2"/>
          <a:stretch/>
        </p:blipFill>
        <p:spPr>
          <a:xfrm>
            <a:off x="468360" y="3860640"/>
            <a:ext cx="3384360" cy="2556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12"/>
          <p:cNvSpPr txBox="1"/>
          <p:nvPr/>
        </p:nvSpPr>
        <p:spPr>
          <a:xfrm>
            <a:off x="684360" y="549360"/>
            <a:ext cx="5746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ник -заигры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68360" y="1989000"/>
            <a:ext cx="740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Тут СРЕДА подходит - "ЛАКОМКОЙ" зовётся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Каждая хозяюшка колдует у печи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Кулебяки, сырники - всё им удаётся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Пироги и блинчики - всё на стол мечи!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8" descr="%D0%90%D0%BF%D0%BE%D1%82%D0%B0%D1%82%D0%B0%D1%82%D0%B0%D1%82%D0%B0%D1%82"/>
          <p:cNvPicPr/>
          <p:nvPr/>
        </p:nvPicPr>
        <p:blipFill>
          <a:blip r:embed="rId1"/>
          <a:stretch/>
        </p:blipFill>
        <p:spPr>
          <a:xfrm>
            <a:off x="1908000" y="3500280"/>
            <a:ext cx="4681800" cy="3116520"/>
          </a:xfrm>
          <a:prstGeom prst="rect">
            <a:avLst/>
          </a:prstGeom>
          <a:ln w="0">
            <a:noFill/>
          </a:ln>
        </p:spPr>
      </p:pic>
      <p:sp>
        <p:nvSpPr>
          <p:cNvPr id="209" name="WordArt 9"/>
          <p:cNvSpPr txBox="1"/>
          <p:nvPr/>
        </p:nvSpPr>
        <p:spPr>
          <a:xfrm>
            <a:off x="971640" y="549360"/>
            <a:ext cx="5195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а- лаком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0" y="155736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6c"/>
                </a:solidFill>
                <a:latin typeface="Times New Roman"/>
              </a:rPr>
              <a:t>С четверга, недаром называвшегося «широким», масленичный разгул развертывался во всю ширь. Всем миром, в качестве участников или активных, заинтересованных зрителей, выходили на кулачные бои, возведение и взятие снежного города, на конские бега, катание по улица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7" descr="5354644"/>
          <p:cNvPicPr/>
          <p:nvPr/>
        </p:nvPicPr>
        <p:blipFill>
          <a:blip r:embed="rId1"/>
          <a:stretch/>
        </p:blipFill>
        <p:spPr>
          <a:xfrm>
            <a:off x="108000" y="3933720"/>
            <a:ext cx="3960720" cy="247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1265638207_17"/>
          <p:cNvPicPr/>
          <p:nvPr/>
        </p:nvPicPr>
        <p:blipFill>
          <a:blip r:embed="rId2"/>
          <a:stretch/>
        </p:blipFill>
        <p:spPr>
          <a:xfrm>
            <a:off x="4356000" y="4005360"/>
            <a:ext cx="3382920" cy="25365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1187280" y="476280"/>
            <a:ext cx="5689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г - разгу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6"/>
          <p:cNvSpPr txBox="1"/>
          <p:nvPr/>
        </p:nvSpPr>
        <p:spPr>
          <a:xfrm>
            <a:off x="684360" y="549360"/>
            <a:ext cx="59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ница-тещины вечер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24000" y="2205000"/>
            <a:ext cx="69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ПЯТНИЦА настала - "ВЕЧЕРА у ТЁЩИ"...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Тёща приглашает зятя на блины!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Есть с икрой и сёмгой, можно чуть попроще,</a:t>
            </a:r>
            <a:br>
              <a:rPr sz="2400"/>
            </a:br>
            <a:r>
              <a:rPr b="1" lang="ru-RU" sz="2400" spc="-1" strike="noStrike">
                <a:solidFill>
                  <a:srgbClr val="eaea6c"/>
                </a:solidFill>
                <a:latin typeface="Times New Roman"/>
              </a:rPr>
              <a:t>Со сметаной, мёдом, с маслом ели мы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9" descr="1920x1440_634254_%5bwww"/>
          <p:cNvPicPr/>
          <p:nvPr/>
        </p:nvPicPr>
        <p:blipFill>
          <a:blip r:embed="rId1"/>
          <a:stretch/>
        </p:blipFill>
        <p:spPr>
          <a:xfrm>
            <a:off x="2556000" y="4149720"/>
            <a:ext cx="33462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250920" y="476280"/>
            <a:ext cx="727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ббота-Золовкины посидел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79280" y="1989000"/>
            <a:ext cx="716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Близится СУББОТА - "ЗОЛОВКИ УГОЩЕНИЕ"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Вся родня встречается, водит хоровод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Праздник продолжается, общее веселье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Славно провожает Зимушку народ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7" descr="winter1"/>
          <p:cNvPicPr/>
          <p:nvPr/>
        </p:nvPicPr>
        <p:blipFill>
          <a:blip r:embed="rId1"/>
          <a:stretch/>
        </p:blipFill>
        <p:spPr>
          <a:xfrm>
            <a:off x="1835280" y="4005360"/>
            <a:ext cx="415764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755640" y="404640"/>
            <a:ext cx="689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кресенье -Прощеный де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11280" y="1413000"/>
            <a:ext cx="66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ВОСКРЕСЕНЬЕ -светлое быстро наступает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Облегчают душу все в "ПРОЩЁНЫЙ ДЕНЬ".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Чучело соломенное - Зимушку - сжигают,</a:t>
            </a:r>
            <a:br>
              <a:rPr sz="2400"/>
            </a:br>
            <a:r>
              <a:rPr b="1" i="1" lang="ru-RU" sz="2400" spc="-1" strike="noStrike">
                <a:solidFill>
                  <a:srgbClr val="eaea6c"/>
                </a:solidFill>
                <a:latin typeface="Times New Roman"/>
              </a:rPr>
              <a:t>Нарядив в тулупчик, валенки, ремень..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7" descr="0950653"/>
          <p:cNvPicPr/>
          <p:nvPr/>
        </p:nvPicPr>
        <p:blipFill>
          <a:blip r:embed="rId1"/>
          <a:stretch/>
        </p:blipFill>
        <p:spPr>
          <a:xfrm>
            <a:off x="2124000" y="3933720"/>
            <a:ext cx="298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6:16:43Z</dcterms:created>
  <dc:creator>Владимир</dc:creator>
  <dc:description/>
  <dc:language>en-US</dc:language>
  <cp:lastModifiedBy>Лена</cp:lastModifiedBy>
  <dcterms:modified xsi:type="dcterms:W3CDTF">2018-02-07T09:40:40Z</dcterms:modified>
  <cp:revision>3</cp:revision>
  <dc:subject/>
  <dc:title>Слайд 1</dc:title>
</cp:coreProperties>
</file>