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10D-468C-4B48-9286-19529195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2715480"/>
            <a:ext cx="75434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9F4-CA25-4870-9AC9-0225A3F4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450-BB71-45AE-8055-9B63E985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720" y="68580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3680" y="68580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271548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2720" y="271548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3680" y="271548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927-9591-4421-B8AF-62D3DA1D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5416-1AE6-4DD4-A955-82C6374B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935-7C96-447F-A1BB-098CA09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5622-01F6-4014-A4AB-4B2CB63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34B-527A-403F-B32D-27ED9C0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27D-0B1C-4741-A68F-5751A8C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132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47ED-3098-4B14-AC18-864DC4D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99B4-B1ED-4A25-BF89-790F2F1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B03-5812-4600-A70C-8C903B31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AFF2-2E97-44E7-8970-CA0113D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2715480"/>
            <a:ext cx="75434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ACFA-E966-446B-AAD8-20199D3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2715480"/>
            <a:ext cx="75434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0D86-4283-4470-8522-EC82476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8866-3BB0-4267-BB0B-D09F8322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720" y="68580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3680" y="68580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271548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720" y="271548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3680" y="2715480"/>
            <a:ext cx="24289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BA5A-B78C-4D54-AF48-0CB09AC0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FE3-6595-467D-BC57-B90E4203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B91-3B80-494B-A37C-E33F1A3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69F-1190-4F2A-8ED4-0B1E1AB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132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0B3-A6A3-4829-8C8D-C86E3AE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5DC-82F2-441D-B0E3-EE386AE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722-395B-4FB2-A078-5593E326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7440" y="685800"/>
            <a:ext cx="36810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2715480"/>
            <a:ext cx="75434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28B-D49C-44C3-9C3A-9309BFF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EEA1D1-60AA-4779-8587-649AAD00142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E7BAD8-3FBD-4B01-A38C-EF5958C27CD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9000" y="756360"/>
            <a:ext cx="6903720" cy="1969920"/>
          </a:xfrm>
          <a:prstGeom prst="rect">
            <a:avLst/>
          </a:prstGeom>
          <a:solidFill>
            <a:srgbClr val="f8f8f9"/>
          </a:solidFill>
          <a:ln w="0">
            <a:solidFill>
              <a:srgbClr val="a5a5aa"/>
            </a:solidFill>
          </a:ln>
        </p:spPr>
        <p:txBody>
          <a:bodyPr anchor="b">
            <a:noAutofit/>
          </a:bodyPr>
          <a:p>
            <a:pPr marL="18288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Методическая работа в ДОУ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240" y="5386680"/>
            <a:ext cx="7509240" cy="764280"/>
          </a:xfrm>
          <a:prstGeom prst="rect">
            <a:avLst/>
          </a:prstGeom>
          <a:gradFill rotWithShape="0">
            <a:gsLst>
              <a:gs pos="0">
                <a:srgbClr val="c3bcb6"/>
              </a:gs>
              <a:gs pos="100000">
                <a:srgbClr val="ad9085"/>
              </a:gs>
            </a:gsLst>
            <a:lin ang="5400000"/>
          </a:gradFill>
          <a:ln w="15840">
            <a:solidFill>
              <a:srgbClr val="726056"/>
            </a:solidFill>
            <a:round/>
          </a:ln>
          <a:effectLst>
            <a:outerShdw dist="12245" dir="5298918" blurRad="5076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35000"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. В. Доро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тарший 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МДОУ «Детский сад № 9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г. Петрозавод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Ольга\Desktop\000437380_1-140464068abf343aa156d783e6831f0d.png"/>
          <p:cNvPicPr/>
          <p:nvPr/>
        </p:nvPicPr>
        <p:blipFill>
          <a:blip r:embed="rId1"/>
          <a:stretch/>
        </p:blipFill>
        <p:spPr>
          <a:xfrm>
            <a:off x="756360" y="0"/>
            <a:ext cx="76921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7160"/>
            <a:ext cx="8229240" cy="7354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ормы методической работы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8440" y="1571040"/>
            <a:ext cx="8229240" cy="44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</a:t>
            </a:r>
            <a:r>
              <a:rPr b="1" lang="ru-RU" sz="2000" spc="-1" strike="noStrike">
                <a:solidFill>
                  <a:srgbClr val="303030"/>
                </a:solidFill>
                <a:latin typeface="Times New Roman"/>
              </a:rPr>
              <a:t>совершенствования коммуникативных навыков педагогов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планируются семинары-практикумы по основам педагогического общения, как средства  гумманизации процесса образования; 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нинги по овладению педагогами моделью личностно- ориентированного взаимодействия с педагогами; 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мастер-классы по организации родительских собраний и других современных форм взаимодействия с семьями воспитанников.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</a:t>
            </a:r>
            <a:r>
              <a:rPr b="1" lang="ru-RU" sz="2000" spc="-1" strike="noStrike">
                <a:solidFill>
                  <a:srgbClr val="303030"/>
                </a:solidFill>
                <a:latin typeface="Times New Roman"/>
              </a:rPr>
              <a:t>развития конструктивных навыков и умений  педагогов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 предполагается возможным применение такой формы методической работы, как фестиваль (выставка) методических разработок. 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111" name="Picture 2" descr="http://karasuk-mbdou8.ucoz.ru/metod_mater.png"/>
          <p:cNvPicPr/>
          <p:nvPr/>
        </p:nvPicPr>
        <p:blipFill>
          <a:blip r:embed="rId1"/>
          <a:stretch/>
        </p:blipFill>
        <p:spPr>
          <a:xfrm>
            <a:off x="7282080" y="407160"/>
            <a:ext cx="1404360" cy="15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9560" y="3574440"/>
            <a:ext cx="7489440" cy="259740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Times New Roman"/>
              </a:rPr>
              <a:t>Методическое сопровождение осуществляется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Times New Roman"/>
              </a:rPr>
              <a:t>  на диагностико-прогностической основе через: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- систему мониторинга, направленной на отслеживание уровня профессиональной компетентности педагогов ДОУ 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и качества образования,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- привлечение педагогов ДОО к участию в конкурсных проектах, 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- создание портфолио каждого педагога, 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2720" y="685800"/>
            <a:ext cx="7332840" cy="25390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marL="274320" indent="-274320" algn="just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Актуальная задача методической работы – совершенствовать методы индивидуальной работы  с педагогами.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У каждого педагога свой уровень педагогического мастерства. Важно  не только знать этот уровень. Но и подвести педагога к объективной самооценке.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2680" y="525600"/>
            <a:ext cx="7447680" cy="12031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 методика изучения      затруднений педагог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(автор Я. С. Турбовский)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2680" y="2011680"/>
            <a:ext cx="7447680" cy="33220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numCol="1" spcCol="0" anchor="t">
            <a:normAutofit fontScale="93000"/>
          </a:bodyPr>
          <a:p>
            <a:pPr marL="254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ка предполагает анкетирование педагогов 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выявления реальных трудностей.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кета: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в Вашей  работе получается очень хорошо и каким опытом Вы можете поделиться с коллегами?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в Вашей работе с детьми получается хорошо?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чем Вы испытываете затруднения?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4904640"/>
            <a:ext cx="7449120" cy="4899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 основании опроса составляется карта педагогического мастерства коллектива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Объект 5"/>
          <p:cNvGraphicFramePr/>
          <p:nvPr/>
        </p:nvGraphicFramePr>
        <p:xfrm>
          <a:off x="914400" y="884880"/>
          <a:ext cx="7391160" cy="3846600"/>
        </p:xfrm>
        <a:graphic>
          <a:graphicData uri="http://schemas.openxmlformats.org/drawingml/2006/table">
            <a:tbl>
              <a:tblPr/>
              <a:tblGrid>
                <a:gridCol w="320040"/>
                <a:gridCol w="2635920"/>
                <a:gridCol w="1478160"/>
                <a:gridCol w="1478160"/>
                <a:gridCol w="1478160"/>
              </a:tblGrid>
              <a:tr h="109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Вопрос к самооценке организации педагогического проце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Могу поделиться опы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Испытываю затруд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7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и проведение режимных мо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69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Подготовка и провед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Подготовка и проведение досуг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Разработка и реализация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Проведение педагогической диагностики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7"/>
          <p:cNvSpPr/>
          <p:nvPr/>
        </p:nvSpPr>
        <p:spPr>
          <a:xfrm>
            <a:off x="914400" y="415800"/>
            <a:ext cx="7391160" cy="3639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оценка профессиональных навыков воспит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Таблица 8"/>
          <p:cNvGraphicFramePr/>
          <p:nvPr/>
        </p:nvGraphicFramePr>
        <p:xfrm>
          <a:off x="914400" y="5374800"/>
          <a:ext cx="7391160" cy="827640"/>
        </p:xfrm>
        <a:graphic>
          <a:graphicData uri="http://schemas.openxmlformats.org/drawingml/2006/table">
            <a:tbl>
              <a:tblPr/>
              <a:tblGrid>
                <a:gridCol w="453600"/>
                <a:gridCol w="3241800"/>
                <a:gridCol w="1847520"/>
                <a:gridCol w="18475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ФИО воспита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Стаж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Результаты самооценки по проблем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2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08440"/>
            <a:ext cx="8302320" cy="8715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ика изучения затруднений педагогов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3960" y="1352520"/>
            <a:ext cx="7900560" cy="46191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итогам анкетирования составляется карта педагогического мастерства и на ее основе планируется система методической работы с воспитателями на год. В ней предусматривается: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методическая помощь, кому и какими силами, в какой форме будет оказана (взаимопосещения, перекрестные посещения, наставничество, работа в паре, консультации и т.д.)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кого из воспитателей и какой опыт будет изучаться и обобщаться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азработке какой проблемы будет создана творческая группа воспитателей.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31920"/>
            <a:ext cx="8314920" cy="11253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ели эффектив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езультата методической работы: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831680"/>
            <a:ext cx="8457840" cy="49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5000"/>
          </a:bodyPr>
          <a:p>
            <a:pPr marL="555480" indent="-276840" algn="just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зультаты развития за отведенное время соответствуют/приближаются оптимальному уровню без перегрузки воспитанников;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555480" indent="-276840" algn="just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циональные затраты времени, когда рост мастерства воспитателей происходит при разумных затратах времени и усилий на методическую работу и самообразование  (без перегрузки педагогов этими видами деятельности);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555480" indent="-276840" algn="just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тимулирующая роль методической работы: в коллективе улучшается психологический климат, растет творческая активность педагогов и их удовлетворенность результатами своего труда.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278640"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630720" indent="-352080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вышение профессиональной компетентности педагогов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630720" indent="-352080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ктивизация педагогической рефлексии собственной профессиональной деятельности; 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630720" indent="-352080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амореализация педагога в профессиональной деятельности.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278640"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555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стинная оценка эффективности методической работы дается по конечному результату, а не по числу проведенных мероприя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й.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555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9520" y="685800"/>
            <a:ext cx="7705440" cy="552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Список литературы: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К. Ю. Белая.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Методическая работа в ДОУ: анализ, планирование. Формы и методы/методическое пособие . – М.: ТЦ Сфера, 2012.       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А.А. 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опровождение профессиональной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успешности педагога ДОУ методическое пособие / А.А. Майер. – М.: ТЦ Сфера, 2012. 128с.        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ерспективы реализации ФГОС дошкольного образования как условие формирования социального опыта детей: материалы Всероссийской научно-практической конференции, г. Кемерово, 19-20 февраля 2014 года: в 2 ч./ред. Кол.: Е.А. Пахомова, А.В. Чепкасов, О.Г. Красношлыкова и др. – Кемерово: Изд-во КРИПКиПРО, 2014. – Ч.1. – 288с.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303030"/>
                </a:solidFill>
                <a:latin typeface="Times New Roman"/>
              </a:rPr>
              <a:t>Троян, А.Н. 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Управление дошкольными образовательными учреждениями : учебное пособие / А.Н. Троян. – Магнитогорск, 2001. – 276с.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2080" y="2302560"/>
            <a:ext cx="7773480" cy="37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marL="251280" indent="-25128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 вступлением в силу ФЗ от 29.12.2012г. № 273-ФЗ «Об образовании в Российской Федерации» дошкольное образование получило статус первого самостоятельного уровня общего образования. 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едметом регулирования стандарта являются отношения в сфере образования, возникающие при реализации образовательной программы дошкольного образования.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ДОУ предоставляет образовательную услугу. Под качеством образования понимается качество услуг. Соответственно повышение качества услуги является управленческой целью дошкольной организации. 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240" cy="782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ческая работа в ДОУ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874520"/>
            <a:ext cx="8240400" cy="371952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новная цель управления методической работой -  эффективное и планомерное использование сил, средств, времени и людских ресурсов для достижения оптимального результата в инновационной (внедренческой деятельности)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новная цель проектирования  методической работы в ДОУ  -  повышение качества и уровня образовательных услуг.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240" cy="782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методической работы в ДОУ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762120" y="685800"/>
            <a:ext cx="7543440" cy="58503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овых условиях методическая служба ДОУ работает над повышением компетентности педагогов, которая позволит им организовать образовательную деятельность в соответствии с Законом об образов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и и компетенции педагога – это одна из ключевых точек стандарта. В документе прописаны различные компетенции, которые необходимы для того, чтобы педагоги могли работать по этому стандарту. На основании этих компетенций необходимо строится система подготовки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м методической работы в современных условиях является педагог, выступающий как самостоятельный творец свое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240" cy="7822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ическая работа в ДОУ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5640" cy="5173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етодическая работа в образовательной организаци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– это целостная, основанная на достижениях науки, передового опыта и конкретном анализе затруднений педагогов, система взаимосвязанных мер и мероприятий, направленных на всестороннее повышение профессионального мастерства каждого педагога и развитие творческого потенциала всего педагогического коллектива в целом, на достижение качественных результатов образования, воспитания и развития детей.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38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Управление  методической работой представляет собой целенаправленное, сознательное взаимодействие всех участников целостного педагогического процесса на основе познания его объективных закономерностей 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(Ю. К. Бабанский).</a:t>
            </a: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77120"/>
            <a:ext cx="8229240" cy="13435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Факторы, определяющие актуальные векторы 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методической работы  в ДОУ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1000"/>
            <a:ext cx="8229240" cy="49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задачи, стоящие перед  ДОУ в инновационной (внедренческой) деятельности;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езультаты диагностики профессиональной деятельности педагогов и результаты работы ДОУ в целом;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личественный и качественный состав педагогического коллектива (уровень образованности педагогов, их профессиональную компетентность, готовность к внедрению инноваций );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ложившиеся  традиции; приоритеты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атериальные, моральные, психологические и другие условия.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631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ирование методической деятельности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880" y="1082160"/>
            <a:ext cx="8481960" cy="56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ru-RU" sz="2200" spc="-1" strike="noStrike" u="sng">
                <a:solidFill>
                  <a:srgbClr val="303030"/>
                </a:solidFill>
                <a:uFillTx/>
                <a:latin typeface="Times New Roman"/>
              </a:rPr>
              <a:t>осуществляется с учетом: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ограмма инновационной деятельности ОУ/Программа развития ДОУ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Целевая программа повышения квалификации педагогических работников;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иказы, локальные акты, должностные инструкции;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Правовое обеспечение процесса инновационной методической работы, системы повышения квалификации педагогов ОУ;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Анализ результатов деятельности предыдущего интервала;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Изучение и интерпретация образовательных потребностей педагогов ДОУ.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4800"/>
            <a:ext cx="8229240" cy="804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b">
            <a:normAutofit fontScale="4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              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Алгоритм планирования методической работы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0040" y="1272240"/>
            <a:ext cx="8096400" cy="523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Times New Roman"/>
              </a:rPr>
              <a:t>Определение целей            Формулирование задач на текущий период                  Прогнозирование ожидаемого  результата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пределение необходимых и достаточных условий: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Ресурсы (кадровые, материальные, финансовые, методические) 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остроение системы методических мероприятий, обеспечивающих :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тбор инновационного содержания образования.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тбор продуктивных форм методической работы.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существление индивидуального подхода к воспитателям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Контроль за выполнением плана и методических мероприятий Административный контрол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Самоконтроль.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Взаимоконтроль 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Times New Roman"/>
              </a:rPr>
              <a:t>Внесение соответствующих корректив в план и деятельность ДОУ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 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Стрелка вправо 3"/>
          <p:cNvSpPr/>
          <p:nvPr/>
        </p:nvSpPr>
        <p:spPr>
          <a:xfrm>
            <a:off x="2765520" y="995400"/>
            <a:ext cx="488880" cy="241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5" name="Стрелка вправо 4"/>
          <p:cNvSpPr/>
          <p:nvPr/>
        </p:nvSpPr>
        <p:spPr>
          <a:xfrm>
            <a:off x="8042400" y="1015920"/>
            <a:ext cx="488880" cy="241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939240"/>
            <a:ext cx="7549200" cy="7146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ормы методической работы 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2094840"/>
            <a:ext cx="7482600" cy="39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303030"/>
                </a:solidFill>
                <a:latin typeface="Times New Roman"/>
              </a:rPr>
              <a:t>Для педагогов, занимающихся инновационной деятельностью, планируются: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-   проведение проблемно- деловых игр по  приоритетным направлениям деятельности образовательного учреждения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-    педагогические мастерские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-    мастер–классы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работа в составе творческих групп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-     педагогические ринги;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-     педагогические чтения.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108" name="Picture 2" descr="http://karasuk-mbdou8.ucoz.ru/metod_mater.png"/>
          <p:cNvPicPr/>
          <p:nvPr/>
        </p:nvPicPr>
        <p:blipFill>
          <a:blip r:embed="rId1"/>
          <a:stretch/>
        </p:blipFill>
        <p:spPr>
          <a:xfrm>
            <a:off x="6481440" y="3580920"/>
            <a:ext cx="2104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647</TotalTime>
  <Application>LibreOffice/7.4.7.2$Linux_X86_64 LibreOffice_project/40$Build-2</Application>
  <AppVersion>15.0000</AppVersion>
  <Words>897</Words>
  <Paragraphs>136</Paragraphs>
  <Company>k.belaya@yandex.r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3:23:15Z</dcterms:created>
  <dc:creator>Ксения Белая</dc:creator>
  <dc:description/>
  <dc:language>en-US</dc:language>
  <cp:lastModifiedBy>Ольга</cp:lastModifiedBy>
  <dcterms:modified xsi:type="dcterms:W3CDTF">2018-02-07T20:45:42Z</dcterms:modified>
  <cp:revision>77</cp:revision>
  <dc:subject/>
  <dc:title>Методическая деятельность в комплекс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