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C9A-431A-4C46-B22B-06C22519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5E3-7A60-4F1F-85F6-F944D44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4EC-E080-4968-B051-C31D0E3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0A8-4DB1-40B0-8AF3-F18A872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733-7359-48CA-A553-051BFDB7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20AA-E1B9-4F09-9E87-8534868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686B-F890-4F0F-86F4-5B02B7D3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5BD9-E79B-434C-8173-FF23CFE5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80D-4B91-42A6-987E-F337A23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6B1-758E-4CC3-8A53-115CBA3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E5D-8967-4ED3-ADC1-BCABF6C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79C-A5E0-41F6-A0BE-8BD89705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32E-A366-4F1B-BF3B-ADD8DE8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214-8498-46B4-9AF6-05993BE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4C3-345B-4ED6-841B-28AB7A4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A38-DC22-4DC2-9AFC-145B9EE3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8156-B9DB-4BD8-B6DE-36340D18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CA3F-4505-43A9-B915-62E4AAA6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D0CE-2CB8-4C1C-8A29-1280E276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CC6B-4A98-48ED-8F0D-842CE8FC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1AB1-D963-496D-98FD-403A34DF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5BAC-5BBC-4109-986E-A957F7A2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197-1F10-4D13-838D-E3FD3AB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0FF5-9244-476C-B236-43F4D4E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8B7B-8D83-473A-8E4F-1D56417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006C-5FD0-436A-9DE6-423994E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569D-0F97-4EE1-9187-F71C614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24D3-1F61-461E-89B7-32C98CF0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8E5E-65A7-4236-92EE-BCDEC9CB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680E-3D41-4FE0-975B-F5D8CAD0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ED78F-D8DD-4ECC-B9AC-97556EC6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601C-7FE8-4DDE-A279-A8A9480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6E1F-3328-4FAD-A9C8-DC035B3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AC3-4ED1-492F-A58C-CEC98F7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08E3-1775-420F-BD74-CF2DB80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7420-9821-496A-8865-185FC49B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DAD7-8B96-4D1C-BD29-0C46A7E3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36C9-261F-46CC-A82E-FDEC2FA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2C51E-8B5E-400A-8C9C-61053B5D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7900-0523-4B8C-A642-9BBA06A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E6C2-F284-4DAF-BD05-15095E9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7D13-88B3-4D13-A7FA-D0894099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8200-220F-4F1F-979A-9B9CC11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EA5-22C1-4767-98AB-1656880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D54-2387-4C2E-8640-07F3786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DDC-BD60-45D6-8E36-1BD2933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834-8792-4436-9EE1-B70501DA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10E-441F-4678-8B34-9580B58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4F89-029D-42AA-91D0-DFDCE772453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0D15-0D78-44C3-A106-9DC0256B66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D26-4FBF-4C25-A6DB-C0F54066E9B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727-A50C-4465-A4E3-1AD46661E86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471600" y="9684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90c226"/>
                </a:solidFill>
                <a:latin typeface="Trebuchet MS"/>
              </a:rPr>
              <a:t>Общая характеристика одноклеточных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6273720" y="2314440"/>
            <a:ext cx="4991040" cy="4159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"/>
          <p:cNvPicPr/>
          <p:nvPr/>
        </p:nvPicPr>
        <p:blipFill>
          <a:blip r:embed="rId2"/>
          <a:stretch/>
        </p:blipFill>
        <p:spPr>
          <a:xfrm>
            <a:off x="181080" y="9360"/>
            <a:ext cx="5048280" cy="46101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914400" y="5189400"/>
            <a:ext cx="43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Солнечник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38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227160" y="636480"/>
            <a:ext cx="87850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103320" y="1519200"/>
            <a:ext cx="9536040" cy="3238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476280" y="33480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Эвглены зеленой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1609560" y="0"/>
            <a:ext cx="71089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244440" y="739800"/>
            <a:ext cx="9245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8187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7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-23760" y="4398840"/>
            <a:ext cx="6383160" cy="22082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141120" y="1415880"/>
            <a:ext cx="659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аминиферы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2"/>
          <a:stretch/>
        </p:blipFill>
        <p:spPr>
          <a:xfrm>
            <a:off x="4776840" y="181080"/>
            <a:ext cx="6621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6972480" y="2894040"/>
            <a:ext cx="5065560" cy="38005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6764400" cy="41432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297000" y="4610160"/>
            <a:ext cx="58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ляри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52:19Z</dcterms:created>
  <dc:creator>Григорий Булатов</dc:creator>
  <dc:description/>
  <dc:language>en-US</dc:language>
  <cp:lastModifiedBy>Григорий Булатов</cp:lastModifiedBy>
  <dcterms:modified xsi:type="dcterms:W3CDTF">2016-12-06T19:29:46Z</dcterms:modified>
  <cp:revision>4</cp:revision>
  <dc:subject/>
  <dc:title>Общая характеристика одноклеточных</dc:title>
</cp:coreProperties>
</file>