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811-ECBA-4C70-BEDF-FF7322E1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6C2-F0D5-45BF-99D2-F85A718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843-B043-415B-BBFE-FA678555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197-D5EB-4346-8F77-1F9B59C4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3C4-8396-4A4B-A599-C1DC9C2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1D0-D61F-47C7-98D8-3602C3F4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633-882B-490D-84CF-9B68326A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17E-6838-4DDD-AB04-C485049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218-7F48-494F-B58D-39D35BC1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D20-999A-4956-A074-550B33B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2CC-278B-4B10-9234-DB989F4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F15-17E4-475C-AFC2-FF5555B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D34C-EB29-4B34-BAE3-1A4E8A91E4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858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«ПИСЬМО </a:t>
            </a:r>
            <a:br>
              <a:rPr sz="6600"/>
            </a:br>
            <a:r>
              <a:rPr b="1" i="1" lang="ru-RU" sz="6600" spc="-1" strike="noStrike">
                <a:solidFill>
                  <a:srgbClr val="c00000"/>
                </a:solidFill>
                <a:latin typeface="Arial"/>
              </a:rPr>
              <a:t>В БУДУЩЕ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28520" y="2786040"/>
            <a:ext cx="7000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Коллектив авторов 6 «Б» класса МБОУ «Лицей № 4» г.о. Королёв Московской обл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Гладкова Анаста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Гоголева Анаста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Николаева Ма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Слав Ди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Харченко Ел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Рук. проекта - заместитель директора по воспитательной работ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Елена Геннадьевна Хоть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329680" cy="6286680"/>
          </a:xfrm>
          <a:prstGeom prst="rect">
            <a:avLst/>
          </a:prstGeom>
          <a:noFill/>
          <a:ln w="9360">
            <a:solidFill>
              <a:srgbClr val="fadebc">
                <a:alpha val="76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Здравствуй, я!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Удивлен?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Признаюсь, я тоже. 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колько тебе – мне сейчас? На календаре 2038 год… Наверно мы уже летаем к другим галактикам. А в школах уроки задают в виртуальной реальности.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А помнишь наш лицей, класс? Как мы дружили, сколько разных придумок у нас бы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Я все время думаю о том, что не знаю войны, не видел ее, но до сих пор, я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наю,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чем нужно знать о войне,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ачем нужна память о тех, к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2143080"/>
            <a:ext cx="8501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Шел в бой за за Родину, выстоял и победил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На века, безымянным канул в фашистском плену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Ложился под машины на переправах вместо понтонных мостов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Бросался на фашистскую амбразуру грудью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Заживо сгорел в концлагерях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Взрывал в партизанских отрядах мосты с фашистскими эшелонами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Ради жизни для тебя и для меня отдал свою жизнь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ownloads\137_volgograd51.jpg"/>
          <p:cNvPicPr/>
          <p:nvPr/>
        </p:nvPicPr>
        <p:blipFill>
          <a:blip r:embed="rId1"/>
          <a:stretch/>
        </p:blipFill>
        <p:spPr>
          <a:xfrm>
            <a:off x="0" y="614376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Знаю это потому, что мы сейчас, в 2038 году читаем это письмо. 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А если бы тогда, те мальчишки и девчонки не отстояли нашу Родину?… 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трашно подумать…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Но я знаю, что даже через века, память о тех, кто жизнь свою отдал за тебя и меня, останется в наших сердцах!</a:t>
            </a:r>
            <a:br>
              <a:rPr sz="36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СПОМНИМ ИХ ПОИМЕННО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User\Downloads\img12_11-05-58.jpg"/>
          <p:cNvPicPr/>
          <p:nvPr/>
        </p:nvPicPr>
        <p:blipFill>
          <a:blip r:embed="rId1"/>
          <a:stretch/>
        </p:blipFill>
        <p:spPr>
          <a:xfrm>
            <a:off x="4429080" y="1928880"/>
            <a:ext cx="4357800" cy="2930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4929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азведчик штаба бригад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м. К.К. Рокоссов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За смелость и отвагу в боях награждё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рденом Отечественной войны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степени,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медаля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За отвагу»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(раненый, поднял партизан в атаку) и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«За боевые заслуги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озвращаясь из разведки, Марат и командир разведки штаба бригады Ларин рано утром приехали в деревню Хоромицкие, где надо было встретиться со связным. Не прошло и получаса, как раздались выстрелы. Деревню окружила цепь немцев. Ларина убили сразу. Марат, отстреливаясь, залег в ложбинке. Он был тяжело ранен. Пока были патроны, держал оборону, а когда магазин опустел, взял одну из висевших на поясе гранат и бросил во врагов. Немцы почти не стреляли, хотели взять его жи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А второй гранатой, когда они подошли совсем близко,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ОДОРВАЛ СЕБ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месте с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ser\Desktop\red_star_PNG4.png"/>
          <p:cNvPicPr/>
          <p:nvPr/>
        </p:nvPicPr>
        <p:blipFill>
          <a:blip r:embed="rId2"/>
          <a:stretch/>
        </p:blipFill>
        <p:spPr>
          <a:xfrm>
            <a:off x="285840" y="142920"/>
            <a:ext cx="928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4009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User\Downloads\image (1)"/>
          <p:cNvPicPr/>
          <p:nvPr/>
        </p:nvPicPr>
        <p:blipFill>
          <a:blip r:embed="rId1"/>
          <a:stretch/>
        </p:blipFill>
        <p:spPr>
          <a:xfrm>
            <a:off x="5500800" y="1500120"/>
            <a:ext cx="3124080" cy="391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5357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частвовала в распространении листовок среди населения и диверсиях против захватчиков. Работая в столовой курсов переподготовки немецких офицеров, по указанию подполья отравила пищу (погибло более ста офицер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 августа 1943 года разведчица партизанского отряда им. К. Е. Ворошил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 декабре 1943 года, возвращаясь с задания по выяснению причин провала организации «Юные мстители», схвачена в одной из деревень и опознана некой Анной Храповиц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а одном из допросов в гестапо деревни Горяны (ныне Полоцкого района Витебской области Белоруссии), схватив со стола пистолет следователя, застрелила его и ещё двух гитлеровцев, пыталась бежать, была схвачена. После этого её пытали больше месяца, пытаясь получить какую-либо информацию о партиза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Утром 10 января 1944 года её РАССТРЕЛЯЛИ в тюрьме города Полоц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User\Desktop\red_star_PNG4.png"/>
          <p:cNvPicPr/>
          <p:nvPr/>
        </p:nvPicPr>
        <p:blipFill>
          <a:blip r:embed="rId2"/>
          <a:stretch/>
        </p:blipFill>
        <p:spPr>
          <a:xfrm>
            <a:off x="428760" y="285840"/>
            <a:ext cx="928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472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ОЛОДЯ ДУБИ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User\Downloads\original (2).jpg"/>
          <p:cNvPicPr/>
          <p:nvPr/>
        </p:nvPicPr>
        <p:blipFill>
          <a:blip r:embed="rId1"/>
          <a:stretch/>
        </p:blipFill>
        <p:spPr>
          <a:xfrm>
            <a:off x="5500800" y="1285920"/>
            <a:ext cx="3360600" cy="4500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5214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оевал в партизанском отряде в каменоломнях Старого Карантина (Камыш бурун) вблизи Керчи. Настойчивый и отважный мальчик добился того, чтобы его приняли в партизаны. Володю партизаны любили, для них он был общим сын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о своими друзьями, Толей Ковалёвым и Ваней Гриценко, Володя Дубинин ходил в разведку. Юные разведчики доставляли ценные сведения о расположении частей врага, о численности немецких войск . Партизаны, опираясь на эти данные, планировали свои боевые операции. Разведка помогла в декабре 1941 года отряду дать достойный отпор карателям. В штольнях во время боя Володя Дубинин подносил солдатам боеприпасы, а после заменил тяжелораненого бой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же после освобождения Керчи Володя Дубинин вызвался помогать сапёрам при разминировании подходов к каменоломням. От взрыва мины погибли сапёр и помогавший ему Володя Дубин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Юный разведчик Володя Дубинин был ПОСМЕРТНО награждён орденом Красного зна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Desktop\red_star_PNG4.png"/>
          <p:cNvPicPr/>
          <p:nvPr/>
        </p:nvPicPr>
        <p:blipFill>
          <a:blip r:embed="rId2"/>
          <a:stretch/>
        </p:blipFill>
        <p:spPr>
          <a:xfrm>
            <a:off x="428760" y="285840"/>
            <a:ext cx="928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3296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ЛАРИСА (ЛАРА)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User\Downloads\%D0%9C%D0%B8%D1%85%D0%B5%D0%B5%D0%BD%D0%BA%D0%BE+%D0%9B%D0%B0%D1%80%D0%B8%D1%81%D0%B0.jpg"/>
          <p:cNvPicPr/>
          <p:nvPr/>
        </p:nvPicPr>
        <p:blipFill>
          <a:blip r:embed="rId1"/>
          <a:stretch/>
        </p:blipFill>
        <p:spPr>
          <a:xfrm>
            <a:off x="5925960" y="1857240"/>
            <a:ext cx="2868840" cy="3880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64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 августе 1943 года партизанский отряд, в котором состояла Лара, принимал активное участие в «рельсовой войне». Партизаны стали регулярно взрывать железнодорожные линии, мосты и пускать под откос немецкие эшел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Лара, к этому времени уже отлично проявившая себя в разведке и обладавшая хорошим «чутьём» местности, была переведена в бригаду Ахременкова, целью которой было именно ведение диверсионной деятельности на железной доро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 подрыве одного из поездов участвовала и Лара, вызвавшись в помощницы одному из подрывников, которому было поручено взорвать железнодорожный мост через реку на линии Полоцк – Нев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Уже опытная разведчица, Лариса и в этот раз выполнила возложенное на неё задание по сбору информации о режиме охраны моста и возможности его минирования. Благодаря участию Лары удалось вывести из строя не только мост, но и проходивший по нему эшелон против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В начале ноября 1943 года Лариса и ещё двое партизан пошли на разведку в деревню Игнатово и остановились в доме у проверенного человека. Внезапно появились враги (как выяснится позже), партизанскую явку сдал один из местных ж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 ноября 1943 года Лариса Михеенко после допроса, сопровождавшегося пытками и издевательствами, была РАССТРЕЛЯ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User\Desktop\red_star_PNG4.png"/>
          <p:cNvPicPr/>
          <p:nvPr/>
        </p:nvPicPr>
        <p:blipFill>
          <a:blip r:embed="rId2"/>
          <a:stretch/>
        </p:blipFill>
        <p:spPr>
          <a:xfrm>
            <a:off x="428760" y="285840"/>
            <a:ext cx="928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3T09:05:12Z</dcterms:created>
  <dc:creator>Хотько</dc:creator>
  <dc:description/>
  <dc:language>en-US</dc:language>
  <cp:lastModifiedBy>Хотько</cp:lastModifiedBy>
  <dcterms:modified xsi:type="dcterms:W3CDTF">2018-02-07T09:08:18Z</dcterms:modified>
  <cp:revision>43</cp:revision>
  <dc:subject/>
  <dc:title>«ПИСЬМО  В БУДУЩЕЕ»</dc:title>
</cp:coreProperties>
</file>