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AC9-D21B-4F54-B2CB-FA7A5ED1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C22-9999-427C-881E-912D0FE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7AE-1D27-4780-8549-43B331A7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3CF-332E-42CA-BB3C-83554FC5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454-D3E1-43E5-8D24-B73CD46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9FC-02F0-4E32-844A-69ECADF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ED4-F1FC-462D-ACCD-E70F2CF3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40B-BDC4-4E89-A976-666B89A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046-A4DF-46AB-ACD3-D5F4EDE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48A-F893-4BCD-BF3B-B826853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4B0-DC72-4058-B9ED-31230E9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2F6-5C30-4FBB-92DF-8B8F5BA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8DFC-C6E2-46C2-93F7-5CC176397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 за деньги не купиш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2000" cy="693432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еселый витами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Не могу я быть оди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У меня полно друзе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С нами дети здоров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Расскажу вам, не та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Как полезен я, друзь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Я в морковке, в чесно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В рыбе я и в моло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Съешь меня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И подрастеш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Я для зрения хорош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0_7b733_cfab5c9a_XL"/>
          <p:cNvPicPr/>
          <p:nvPr/>
        </p:nvPicPr>
        <p:blipFill>
          <a:blip r:embed="rId1"/>
          <a:stretch/>
        </p:blipFill>
        <p:spPr>
          <a:xfrm>
            <a:off x="250920" y="1413000"/>
            <a:ext cx="4128840" cy="46116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10927"/>
                </a:moveTo>
                <a:lnTo>
                  <a:pt x="17806" y="3920"/>
                </a:lnTo>
                <a:lnTo>
                  <a:pt x="17806" y="179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а, хлеб, яйцо и сыр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со, птица и кефир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ожжи, курага, орехи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для Вас секрет успеха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 горохе тоже 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 пользы от мен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важно спозаранк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ъесть за завтраком овсянк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рный хлеб полезен нам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не только по утрам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_675b7_9475329a_orig"/>
          <p:cNvPicPr/>
          <p:nvPr/>
        </p:nvPicPr>
        <p:blipFill>
          <a:blip r:embed="rId1"/>
          <a:stretch/>
        </p:blipFill>
        <p:spPr>
          <a:xfrm>
            <a:off x="155520" y="1413000"/>
            <a:ext cx="4192560" cy="43956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10934"/>
                </a:moveTo>
                <a:lnTo>
                  <a:pt x="17806" y="3927"/>
                </a:lnTo>
                <a:lnTo>
                  <a:pt x="17806" y="179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ничку ты сорвёшь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ягодке меня найдёш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 смородине, в капуст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яблоке живу и в лу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  в фасоли и в картошк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мидоре и в горошке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ростуды и ангин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ют апельсин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а лучше съесть лим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ь и очень кислый 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_9e916_fbcdf200_XL"/>
          <p:cNvPicPr/>
          <p:nvPr/>
        </p:nvPicPr>
        <p:blipFill>
          <a:blip r:embed="rId1"/>
          <a:stretch/>
        </p:blipFill>
        <p:spPr>
          <a:xfrm>
            <a:off x="0" y="1268280"/>
            <a:ext cx="4344840" cy="3929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– полезный витами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м, друзья, необходим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морскую рыбу ес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 силён, как Геркулес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рыбий жир полюбиш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чом тогда ты будешь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в икре я и в яйц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сле, в сыре, в молоке.</a:t>
            </a: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1330114864_bukva-d"/>
          <p:cNvPicPr/>
          <p:nvPr/>
        </p:nvPicPr>
        <p:blipFill>
          <a:blip r:embed="rId1"/>
          <a:stretch/>
        </p:blipFill>
        <p:spPr>
          <a:xfrm>
            <a:off x="0" y="620640"/>
            <a:ext cx="4356000" cy="4896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172360" y="5877000"/>
            <a:ext cx="827280" cy="755640"/>
          </a:xfrm>
          <a:custGeom>
            <a:avLst/>
            <a:gdLst>
              <a:gd name="textAreaLeft" fmla="*/ 48960 w 827280"/>
              <a:gd name="textAreaRight" fmla="*/ 778320 w 8272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47" h="21600">
                <a:moveTo>
                  <a:pt x="0" y="0"/>
                </a:moveTo>
                <a:lnTo>
                  <a:pt x="23647" y="0"/>
                </a:lnTo>
                <a:lnTo>
                  <a:pt x="23647" y="21600"/>
                </a:lnTo>
                <a:lnTo>
                  <a:pt x="0" y="21600"/>
                </a:lnTo>
                <a:close/>
              </a:path>
              <a:path fill="lightenLess" w="23647" h="21600">
                <a:moveTo>
                  <a:pt x="0" y="0"/>
                </a:moveTo>
                <a:lnTo>
                  <a:pt x="23647" y="0"/>
                </a:lnTo>
                <a:lnTo>
                  <a:pt x="22247" y="1400"/>
                </a:lnTo>
                <a:lnTo>
                  <a:pt x="1400" y="1400"/>
                </a:lnTo>
                <a:close/>
              </a:path>
              <a:path fill="darken" w="23647" h="21600">
                <a:moveTo>
                  <a:pt x="23647" y="0"/>
                </a:moveTo>
                <a:lnTo>
                  <a:pt x="23647" y="21600"/>
                </a:lnTo>
                <a:lnTo>
                  <a:pt x="22247" y="20200"/>
                </a:lnTo>
                <a:lnTo>
                  <a:pt x="22247" y="1400"/>
                </a:lnTo>
                <a:close/>
              </a:path>
              <a:path fill="darkenLess" w="23647" h="21600">
                <a:moveTo>
                  <a:pt x="23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7" y="20200"/>
                </a:lnTo>
                <a:close/>
              </a:path>
              <a:path fill="lighten" w="23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7" h="21600">
                <a:moveTo>
                  <a:pt x="4817" y="10800"/>
                </a:moveTo>
                <a:lnTo>
                  <a:pt x="18830" y="3794"/>
                </a:lnTo>
                <a:lnTo>
                  <a:pt x="1883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332000" y="333360"/>
            <a:ext cx="6408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доровительная 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059280" y="1773360"/>
            <a:ext cx="2663640" cy="1368360"/>
          </a:xfrm>
          <a:prstGeom prst="wedgeRoundRectCallout">
            <a:avLst>
              <a:gd name="adj1" fmla="val -63171"/>
              <a:gd name="adj2" fmla="val 50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вершки-ко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0edc737bc589bfc9b400154d0d22c9f2"/>
          <p:cNvPicPr/>
          <p:nvPr/>
        </p:nvPicPr>
        <p:blipFill>
          <a:blip r:embed="rId1"/>
          <a:stretch/>
        </p:blipFill>
        <p:spPr>
          <a:xfrm>
            <a:off x="3132000" y="3573360"/>
            <a:ext cx="3059280" cy="305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risunok10"/>
          <p:cNvPicPr/>
          <p:nvPr/>
        </p:nvPicPr>
        <p:blipFill>
          <a:blip r:embed="rId2"/>
          <a:stretch/>
        </p:blipFill>
        <p:spPr>
          <a:xfrm>
            <a:off x="0" y="2637000"/>
            <a:ext cx="3828960" cy="300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smesharik_6"/>
          <p:cNvPicPr/>
          <p:nvPr/>
        </p:nvPicPr>
        <p:blipFill>
          <a:blip r:embed="rId3"/>
          <a:stretch/>
        </p:blipFill>
        <p:spPr>
          <a:xfrm>
            <a:off x="5724360" y="1341360"/>
            <a:ext cx="3708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91615620_Nyus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Выноска-облако 9"/>
          <p:cNvSpPr/>
          <p:nvPr/>
        </p:nvSpPr>
        <p:spPr>
          <a:xfrm flipH="1">
            <a:off x="538920" y="333360"/>
            <a:ext cx="3132360" cy="1555920"/>
          </a:xfrm>
          <a:prstGeom prst="cloudCallout">
            <a:avLst>
              <a:gd name="adj1" fmla="val -61620"/>
              <a:gd name="adj2" fmla="val 5868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уснотища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300720" y="260280"/>
            <a:ext cx="2592360" cy="865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оги Нюше сдел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ьный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3e66d1a52b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9"/>
          <p:cNvSpPr/>
          <p:nvPr/>
        </p:nvSpPr>
        <p:spPr>
          <a:xfrm>
            <a:off x="250920" y="333360"/>
            <a:ext cx="864072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 о правильном пит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раз в день нужно питать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2-3 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4-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1 раз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0_6faaf_e7be2743_XL.png"/>
          <p:cNvPicPr/>
          <p:nvPr/>
        </p:nvPicPr>
        <p:blipFill>
          <a:blip r:embed="rId1"/>
          <a:stretch/>
        </p:blipFill>
        <p:spPr>
          <a:xfrm>
            <a:off x="0" y="3997440"/>
            <a:ext cx="3780000" cy="2646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a0e90_3393b239_XL.png"/>
          <p:cNvPicPr/>
          <p:nvPr/>
        </p:nvPicPr>
        <p:blipFill>
          <a:blip r:embed="rId2"/>
          <a:stretch/>
        </p:blipFill>
        <p:spPr>
          <a:xfrm>
            <a:off x="6443640" y="2349360"/>
            <a:ext cx="231156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продукты находятся на первой сту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рамиды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 Соль, сахар, ма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 Мясо, молоко, 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Хлеб, макаронные изделия, к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5" descr="847316_m.png"/>
          <p:cNvPicPr/>
          <p:nvPr/>
        </p:nvPicPr>
        <p:blipFill>
          <a:blip r:embed="rId1"/>
          <a:stretch/>
        </p:blipFill>
        <p:spPr>
          <a:xfrm>
            <a:off x="324000" y="2565360"/>
            <a:ext cx="251136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продуктах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количество витами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онфеты, сах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Мясо, сметана тв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Фрукты, овощи, я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82417606_large_b_13.png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31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90440"/>
            <a:ext cx="864216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некоторые 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ывают вред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у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Они вкус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В них  находятся красите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ие доба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ое содержание сах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Они   облад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ыми свой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0_a0eab_d71016b0_XL.png"/>
          <p:cNvPicPr/>
          <p:nvPr/>
        </p:nvPicPr>
        <p:blipFill>
          <a:blip r:embed="rId1"/>
          <a:stretch/>
        </p:blipFill>
        <p:spPr>
          <a:xfrm>
            <a:off x="6300720" y="1251000"/>
            <a:ext cx="259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продукты нужно употреб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ищу чащ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Слад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Фрукты 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Бутерб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0007-013-Kto-pervym-prishel-v-gosti-k-pinu.png"/>
          <p:cNvPicPr/>
          <p:nvPr/>
        </p:nvPicPr>
        <p:blipFill>
          <a:blip r:embed="rId1"/>
          <a:stretch/>
        </p:blipFill>
        <p:spPr>
          <a:xfrm>
            <a:off x="539640" y="2708280"/>
            <a:ext cx="221148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полезнее всего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рые овощи и фру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 Они вкусно пах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В них больше всего витам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не надо ва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лл.png"/>
          <p:cNvPicPr/>
          <p:nvPr/>
        </p:nvPicPr>
        <p:blipFill>
          <a:blip r:embed="rId1"/>
          <a:stretch/>
        </p:blipFill>
        <p:spPr>
          <a:xfrm>
            <a:off x="0" y="4581360"/>
            <a:ext cx="2341440" cy="1933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правило 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людать при приеме пищ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огда я е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меюсь и машу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Когда я е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разговариваю с прия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Когда я ем –  я глух и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82417696_large_s_7.png"/>
          <p:cNvPicPr/>
          <p:nvPr/>
        </p:nvPicPr>
        <p:blipFill>
          <a:blip r:embed="rId1"/>
          <a:stretch/>
        </p:blipFill>
        <p:spPr>
          <a:xfrm>
            <a:off x="6948360" y="2276640"/>
            <a:ext cx="1974960" cy="253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тносится к полезным продукт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офе, чипсы, «Мар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Сыр, рыба, гр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Торт, конфеты, соси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69492193.png"/>
          <p:cNvPicPr/>
          <p:nvPr/>
        </p:nvPicPr>
        <p:blipFill>
          <a:blip r:embed="rId1"/>
          <a:stretch/>
        </p:blipFill>
        <p:spPr>
          <a:xfrm>
            <a:off x="250920" y="407664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4_kopat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2050920" y="2890800"/>
            <a:ext cx="49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496960" y="671040"/>
            <a:ext cx="4811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авное в жизни -  это здоров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детства попробуйте это пон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авная ценность- это здоровь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го не купить, но легко потер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ши болезни расскажут пото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мы живём и что мы жуё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ортом тело своё укрепляйт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щу полезную употребляйт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090993c702d0b6425c939e2e844eac9c"/>
          <p:cNvPicPr/>
          <p:nvPr/>
        </p:nvPicPr>
        <p:blipFill>
          <a:blip r:embed="rId1"/>
          <a:stretch/>
        </p:blipFill>
        <p:spPr>
          <a:xfrm>
            <a:off x="5796000" y="3716280"/>
            <a:ext cx="2124000" cy="24289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1"/>
          <p:cNvSpPr txBox="1"/>
          <p:nvPr/>
        </p:nvSpPr>
        <p:spPr>
          <a:xfrm>
            <a:off x="1187280" y="476280"/>
            <a:ext cx="7344000" cy="311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корых встреч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36440"/>
            <a:ext cx="8785440" cy="658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http://izhevsk.ru/forums/icons/forum_pictures/004175/4175181.jpg"/>
          <p:cNvPicPr/>
          <p:nvPr/>
        </p:nvPicPr>
        <p:blipFill>
          <a:blip r:embed="rId1"/>
          <a:stretch/>
        </p:blipFill>
        <p:spPr>
          <a:xfrm>
            <a:off x="0" y="20520"/>
            <a:ext cx="9685440" cy="6837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900000" y="981000"/>
            <a:ext cx="460872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«В г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Смешарикам!!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ff1d156ac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372360" y="107316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372360" y="981000"/>
            <a:ext cx="2158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580000" y="3357720"/>
            <a:ext cx="3144960" cy="30240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443640" y="692280"/>
            <a:ext cx="2305080" cy="2520720"/>
          </a:xfrm>
          <a:prstGeom prst="wedgeRoundRectCallout">
            <a:avLst>
              <a:gd name="adj1" fmla="val -78032"/>
              <a:gd name="adj2" fmla="val 27583"/>
              <a:gd name="adj3" fmla="val 16667"/>
            </a:avLst>
          </a:prstGeom>
          <a:solidFill>
            <a:srgbClr val="ffff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, помогите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раться в клад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"/>
          <p:cNvGrpSpPr/>
          <p:nvPr/>
        </p:nvGrpSpPr>
        <p:grpSpPr>
          <a:xfrm>
            <a:off x="0" y="0"/>
            <a:ext cx="8892720" cy="6857640"/>
            <a:chOff x="0" y="0"/>
            <a:chExt cx="8892720" cy="6857640"/>
          </a:xfrm>
        </p:grpSpPr>
        <p:sp>
          <p:nvSpPr>
            <p:cNvPr id="55" name="Pyr1"/>
            <p:cNvSpPr/>
            <p:nvPr/>
          </p:nvSpPr>
          <p:spPr>
            <a:xfrm>
              <a:off x="3460320" y="0"/>
              <a:ext cx="1993320" cy="1519920"/>
            </a:xfrm>
            <a:custGeom>
              <a:avLst/>
              <a:gdLst>
                <a:gd name="textAreaLeft" fmla="*/ 498240 w 1993320"/>
                <a:gd name="textAreaRight" fmla="*/ 1495080 w 1993320"/>
                <a:gd name="textAreaTop" fmla="*/ 830520 h 1519920"/>
                <a:gd name="textAreaBottom" fmla="*/ 1449720 h 15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yr2"/>
            <p:cNvSpPr/>
            <p:nvPr/>
          </p:nvSpPr>
          <p:spPr>
            <a:xfrm>
              <a:off x="2306160" y="1519920"/>
              <a:ext cx="4291200" cy="1783080"/>
            </a:xfrm>
            <a:custGeom>
              <a:avLst/>
              <a:gdLst>
                <a:gd name="textAreaLeft" fmla="*/ 1149840 w 4291200"/>
                <a:gd name="textAreaRight" fmla="*/ 3141360 w 4291200"/>
                <a:gd name="textAreaTop" fmla="*/ 41760 h 1783080"/>
                <a:gd name="textAreaBottom" fmla="*/ 1741320 h 178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yr3"/>
            <p:cNvSpPr/>
            <p:nvPr/>
          </p:nvSpPr>
          <p:spPr>
            <a:xfrm>
              <a:off x="1164600" y="3303360"/>
              <a:ext cx="6573960" cy="1780920"/>
            </a:xfrm>
            <a:custGeom>
              <a:avLst/>
              <a:gdLst>
                <a:gd name="textAreaLeft" fmla="*/ 1609920 w 6573960"/>
                <a:gd name="textAreaRight" fmla="*/ 4964040 w 6573960"/>
                <a:gd name="textAreaTop" fmla="*/ 41760 h 1780920"/>
                <a:gd name="textAreaBottom" fmla="*/ 1739160 h 17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yr4"/>
            <p:cNvSpPr/>
            <p:nvPr/>
          </p:nvSpPr>
          <p:spPr>
            <a:xfrm>
              <a:off x="0" y="5074920"/>
              <a:ext cx="8892720" cy="1782720"/>
            </a:xfrm>
            <a:custGeom>
              <a:avLst/>
              <a:gdLst>
                <a:gd name="textAreaLeft" fmla="*/ 1351800 w 8892720"/>
                <a:gd name="textAreaRight" fmla="*/ 7127280 w 8892720"/>
                <a:gd name="textAreaTop" fmla="*/ 41760 h 1782720"/>
                <a:gd name="textAreaBottom" fmla="*/ 1740960 h 17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5" descr="http://kantrust.ru/wp-content/uploads/2012/02/Secret_pechka1-300x248.jpg"/>
          <p:cNvPicPr/>
          <p:nvPr/>
        </p:nvPicPr>
        <p:blipFill>
          <a:blip r:embed="rId1"/>
          <a:stretch/>
        </p:blipFill>
        <p:spPr>
          <a:xfrm>
            <a:off x="755640" y="508464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http://img.lenta.ru/news/2007/03/19/macaroni/picture.jpg"/>
          <p:cNvPicPr/>
          <p:nvPr/>
        </p:nvPicPr>
        <p:blipFill>
          <a:blip r:embed="rId2"/>
          <a:stretch/>
        </p:blipFill>
        <p:spPr>
          <a:xfrm>
            <a:off x="3203640" y="5157720"/>
            <a:ext cx="2158920" cy="151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http://img0.liveinternet.ru/images/attach/c/1/62/897/62897265_23.jpg"/>
          <p:cNvPicPr/>
          <p:nvPr/>
        </p:nvPicPr>
        <p:blipFill>
          <a:blip r:embed="rId3"/>
          <a:stretch/>
        </p:blipFill>
        <p:spPr>
          <a:xfrm>
            <a:off x="5508720" y="508464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1241513814_3"/>
          <p:cNvPicPr/>
          <p:nvPr/>
        </p:nvPicPr>
        <p:blipFill>
          <a:blip r:embed="rId4"/>
          <a:stretch/>
        </p:blipFill>
        <p:spPr>
          <a:xfrm>
            <a:off x="1619280" y="3500280"/>
            <a:ext cx="2043000" cy="153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s24511071"/>
          <p:cNvPicPr/>
          <p:nvPr/>
        </p:nvPicPr>
        <p:blipFill>
          <a:blip r:embed="rId5"/>
          <a:stretch/>
        </p:blipFill>
        <p:spPr>
          <a:xfrm>
            <a:off x="3708360" y="3429000"/>
            <a:ext cx="1603440" cy="155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i?id=635963984-08-72&amp;n=21"/>
          <p:cNvPicPr/>
          <p:nvPr/>
        </p:nvPicPr>
        <p:blipFill>
          <a:blip r:embed="rId6"/>
          <a:stretch/>
        </p:blipFill>
        <p:spPr>
          <a:xfrm>
            <a:off x="5364000" y="3573360"/>
            <a:ext cx="177192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i?id=544169802-53-72&amp;n=21"/>
          <p:cNvPicPr/>
          <p:nvPr/>
        </p:nvPicPr>
        <p:blipFill>
          <a:blip r:embed="rId7"/>
          <a:stretch/>
        </p:blipFill>
        <p:spPr>
          <a:xfrm>
            <a:off x="2843280" y="1844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enuel010_0"/>
          <p:cNvPicPr/>
          <p:nvPr/>
        </p:nvPicPr>
        <p:blipFill>
          <a:blip r:embed="rId8"/>
          <a:stretch/>
        </p:blipFill>
        <p:spPr>
          <a:xfrm>
            <a:off x="4572000" y="1773360"/>
            <a:ext cx="1512720" cy="146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1256569324_1205674807_piramida"/>
          <p:cNvPicPr/>
          <p:nvPr/>
        </p:nvPicPr>
        <p:blipFill>
          <a:blip r:embed="rId9"/>
          <a:stretch/>
        </p:blipFill>
        <p:spPr>
          <a:xfrm>
            <a:off x="3132000" y="0"/>
            <a:ext cx="2592360" cy="1628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7"/>
          <p:cNvSpPr/>
          <p:nvPr/>
        </p:nvSpPr>
        <p:spPr>
          <a:xfrm>
            <a:off x="179280" y="76500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а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516720" y="549360"/>
            <a:ext cx="208764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тание дол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02"/>
          <p:cNvPicPr/>
          <p:nvPr/>
        </p:nvPicPr>
        <p:blipFill>
          <a:blip r:embed="rId1"/>
          <a:stretch/>
        </p:blipFill>
        <p:spPr>
          <a:xfrm>
            <a:off x="-973080" y="-506520"/>
            <a:ext cx="10117080" cy="73645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/>
          <p:cNvSpPr/>
          <p:nvPr/>
        </p:nvSpPr>
        <p:spPr>
          <a:xfrm>
            <a:off x="6588000" y="-171360"/>
            <a:ext cx="2376720" cy="3529080"/>
          </a:xfrm>
          <a:prstGeom prst="wedgeRoundRectCallout">
            <a:avLst>
              <a:gd name="adj1" fmla="val -63962"/>
              <a:gd name="adj2" fmla="val 16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588000" y="0"/>
            <a:ext cx="23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омное вам спасибо. А теперь немного отдохнит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мотрите од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интересную историю которая приключилась со смешар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01"/>
          <p:cNvPicPr/>
          <p:nvPr/>
        </p:nvPicPr>
        <p:blipFill>
          <a:blip r:embed="rId2"/>
          <a:stretch/>
        </p:blipFill>
        <p:spPr>
          <a:xfrm>
            <a:off x="-1000080" y="-571680"/>
            <a:ext cx="10144080" cy="742968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фильм 7"/>
          <p:cNvSpPr/>
          <p:nvPr/>
        </p:nvSpPr>
        <p:spPr>
          <a:xfrm>
            <a:off x="8317080" y="6308640"/>
            <a:ext cx="502920" cy="351000"/>
          </a:xfrm>
          <a:custGeom>
            <a:avLst/>
            <a:gdLst>
              <a:gd name="textAreaLeft" fmla="*/ 22680 w 502920"/>
              <a:gd name="textAreaRight" fmla="*/ 480240 w 5029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0939" h="21600">
                <a:moveTo>
                  <a:pt x="0" y="0"/>
                </a:moveTo>
                <a:lnTo>
                  <a:pt x="30939" y="0"/>
                </a:lnTo>
                <a:lnTo>
                  <a:pt x="30939" y="21600"/>
                </a:lnTo>
                <a:lnTo>
                  <a:pt x="0" y="21600"/>
                </a:lnTo>
                <a:close/>
              </a:path>
              <a:path fill="lightenLess" w="30939" h="21600">
                <a:moveTo>
                  <a:pt x="0" y="0"/>
                </a:moveTo>
                <a:lnTo>
                  <a:pt x="30939" y="0"/>
                </a:lnTo>
                <a:lnTo>
                  <a:pt x="29539" y="1400"/>
                </a:lnTo>
                <a:lnTo>
                  <a:pt x="1400" y="1400"/>
                </a:lnTo>
                <a:close/>
              </a:path>
              <a:path fill="darken" w="30939" h="21600">
                <a:moveTo>
                  <a:pt x="30939" y="0"/>
                </a:moveTo>
                <a:lnTo>
                  <a:pt x="30939" y="21600"/>
                </a:lnTo>
                <a:lnTo>
                  <a:pt x="29539" y="20200"/>
                </a:lnTo>
                <a:lnTo>
                  <a:pt x="29539" y="1400"/>
                </a:lnTo>
                <a:close/>
              </a:path>
              <a:path fill="darkenLess" w="30939" h="21600">
                <a:moveTo>
                  <a:pt x="30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39" y="20200"/>
                </a:lnTo>
                <a:close/>
              </a:path>
              <a:path fill="lighten" w="30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39" h="21600">
                <a:moveTo>
                  <a:pt x="8463" y="7301"/>
                </a:moveTo>
                <a:lnTo>
                  <a:pt x="9377" y="7301"/>
                </a:lnTo>
                <a:lnTo>
                  <a:pt x="9760" y="7667"/>
                </a:lnTo>
                <a:lnTo>
                  <a:pt x="18969" y="7667"/>
                </a:lnTo>
                <a:lnTo>
                  <a:pt x="19526" y="8224"/>
                </a:lnTo>
                <a:lnTo>
                  <a:pt x="19526" y="8772"/>
                </a:lnTo>
                <a:lnTo>
                  <a:pt x="21371" y="8772"/>
                </a:lnTo>
                <a:lnTo>
                  <a:pt x="21736" y="8224"/>
                </a:lnTo>
                <a:lnTo>
                  <a:pt x="22476" y="8224"/>
                </a:lnTo>
                <a:lnTo>
                  <a:pt x="22476" y="13376"/>
                </a:lnTo>
                <a:lnTo>
                  <a:pt x="21736" y="13376"/>
                </a:lnTo>
                <a:lnTo>
                  <a:pt x="21371" y="12828"/>
                </a:lnTo>
                <a:lnTo>
                  <a:pt x="19526" y="12828"/>
                </a:lnTo>
                <a:lnTo>
                  <a:pt x="19526" y="14107"/>
                </a:lnTo>
                <a:lnTo>
                  <a:pt x="9943" y="14107"/>
                </a:lnTo>
                <a:lnTo>
                  <a:pt x="9943" y="9877"/>
                </a:lnTo>
                <a:lnTo>
                  <a:pt x="9760" y="9877"/>
                </a:lnTo>
                <a:lnTo>
                  <a:pt x="9377" y="10243"/>
                </a:lnTo>
                <a:lnTo>
                  <a:pt x="8463" y="10243"/>
                </a:lnTo>
                <a:close/>
              </a:path>
            </a:pathLst>
          </a:custGeom>
          <a:solidFill>
            <a:srgbClr val="00ff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read.ru/images/illustrations/13232941612798477743.jpe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7948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5219640" y="1557360"/>
            <a:ext cx="2952720" cy="1942920"/>
          </a:xfrm>
          <a:prstGeom prst="cloudCallout">
            <a:avLst>
              <a:gd name="adj1" fmla="val -70592"/>
              <a:gd name="adj2" fmla="val 526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ы знаете какие витамины живут в полезных продукт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539640" y="1773360"/>
            <a:ext cx="3168720" cy="2016000"/>
          </a:xfrm>
          <a:prstGeom prst="cloudCallout">
            <a:avLst>
              <a:gd name="adj1" fmla="val 52555"/>
              <a:gd name="adj2" fmla="val 30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быть здоровым и сильным нужно правильно пит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81193220_kop_1"/>
          <p:cNvPicPr/>
          <p:nvPr/>
        </p:nvPicPr>
        <p:blipFill>
          <a:blip r:embed="rId1"/>
          <a:stretch/>
        </p:blipFill>
        <p:spPr>
          <a:xfrm>
            <a:off x="250920" y="316548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4"/>
          <p:cNvSpPr/>
          <p:nvPr/>
        </p:nvSpPr>
        <p:spPr>
          <a:xfrm>
            <a:off x="324000" y="1268280"/>
            <a:ext cx="3457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2484360" y="2421000"/>
            <a:ext cx="3384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4284720" y="3500280"/>
            <a:ext cx="3313080" cy="77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356000" y="4653000"/>
            <a:ext cx="3313080" cy="69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3780000" y="1268280"/>
            <a:ext cx="579240" cy="792360"/>
          </a:xfrm>
          <a:custGeom>
            <a:avLst/>
            <a:gdLst>
              <a:gd name="textAreaLeft" fmla="*/ 37440 w 579240"/>
              <a:gd name="textAreaRight" fmla="*/ 541800 w 579240"/>
              <a:gd name="textAreaTop" fmla="*/ 37440 h 792360"/>
              <a:gd name="textAreaBottom" fmla="*/ 754920 h 792360"/>
            </a:gdLst>
            <a:ahLst/>
            <a:rect l="textAreaLeft" t="textAreaTop" r="textAreaRight" b="textAreaBottom"/>
            <a:pathLst>
              <a:path w="21600" h="29542">
                <a:moveTo>
                  <a:pt x="0" y="0"/>
                </a:moveTo>
                <a:lnTo>
                  <a:pt x="21600" y="0"/>
                </a:lnTo>
                <a:lnTo>
                  <a:pt x="21600" y="29542"/>
                </a:lnTo>
                <a:lnTo>
                  <a:pt x="0" y="29542"/>
                </a:lnTo>
                <a:close/>
              </a:path>
              <a:path fill="lightenLess" w="21600" h="29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42">
                <a:moveTo>
                  <a:pt x="21600" y="0"/>
                </a:moveTo>
                <a:lnTo>
                  <a:pt x="21600" y="29542"/>
                </a:lnTo>
                <a:lnTo>
                  <a:pt x="20200" y="28142"/>
                </a:lnTo>
                <a:lnTo>
                  <a:pt x="20200" y="1400"/>
                </a:lnTo>
                <a:close/>
              </a:path>
              <a:path fill="darkenLess" w="21600" h="29542">
                <a:moveTo>
                  <a:pt x="21600" y="29542"/>
                </a:moveTo>
                <a:lnTo>
                  <a:pt x="0" y="29542"/>
                </a:lnTo>
                <a:lnTo>
                  <a:pt x="1400" y="28142"/>
                </a:lnTo>
                <a:lnTo>
                  <a:pt x="20200" y="28142"/>
                </a:lnTo>
                <a:close/>
              </a:path>
              <a:path fill="lighten" w="21600" h="29542">
                <a:moveTo>
                  <a:pt x="0" y="29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42"/>
                </a:lnTo>
                <a:close/>
              </a:path>
              <a:path fill="darken" w="21600" h="29542">
                <a:moveTo>
                  <a:pt x="3794" y="7765"/>
                </a:moveTo>
                <a:lnTo>
                  <a:pt x="17806" y="14771"/>
                </a:lnTo>
                <a:lnTo>
                  <a:pt x="3794" y="217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7"/>
          <p:cNvSpPr/>
          <p:nvPr/>
        </p:nvSpPr>
        <p:spPr>
          <a:xfrm>
            <a:off x="5857920" y="2428920"/>
            <a:ext cx="633240" cy="712800"/>
          </a:xfrm>
          <a:custGeom>
            <a:avLst/>
            <a:gdLst>
              <a:gd name="textAreaLeft" fmla="*/ 41040 w 633240"/>
              <a:gd name="textAreaRight" fmla="*/ 592200 w 633240"/>
              <a:gd name="textAreaTop" fmla="*/ 41040 h 712800"/>
              <a:gd name="textAreaBottom" fmla="*/ 671760 h 712800"/>
            </a:gdLst>
            <a:ahLst/>
            <a:rect l="textAreaLeft" t="textAreaTop" r="textAreaRight" b="textAreaBottom"/>
            <a:pathLst>
              <a:path w="21600" h="24312">
                <a:moveTo>
                  <a:pt x="0" y="0"/>
                </a:moveTo>
                <a:lnTo>
                  <a:pt x="21600" y="0"/>
                </a:lnTo>
                <a:lnTo>
                  <a:pt x="21600" y="24312"/>
                </a:lnTo>
                <a:lnTo>
                  <a:pt x="0" y="24312"/>
                </a:lnTo>
                <a:close/>
              </a:path>
              <a:path fill="lightenLess" w="21600" h="243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12">
                <a:moveTo>
                  <a:pt x="21600" y="0"/>
                </a:moveTo>
                <a:lnTo>
                  <a:pt x="21600" y="24312"/>
                </a:lnTo>
                <a:lnTo>
                  <a:pt x="20200" y="22912"/>
                </a:lnTo>
                <a:lnTo>
                  <a:pt x="20200" y="1400"/>
                </a:lnTo>
                <a:close/>
              </a:path>
              <a:path fill="darkenLess" w="21600" h="24312">
                <a:moveTo>
                  <a:pt x="21600" y="24312"/>
                </a:moveTo>
                <a:lnTo>
                  <a:pt x="0" y="24312"/>
                </a:lnTo>
                <a:lnTo>
                  <a:pt x="1400" y="22912"/>
                </a:lnTo>
                <a:lnTo>
                  <a:pt x="20200" y="22912"/>
                </a:lnTo>
                <a:close/>
              </a:path>
              <a:path fill="lighten" w="21600" h="24312">
                <a:moveTo>
                  <a:pt x="0" y="243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12"/>
                </a:lnTo>
                <a:close/>
              </a:path>
              <a:path fill="darken" w="21600" h="24312">
                <a:moveTo>
                  <a:pt x="3794" y="5150"/>
                </a:moveTo>
                <a:lnTo>
                  <a:pt x="17806" y="12156"/>
                </a:lnTo>
                <a:lnTo>
                  <a:pt x="3794" y="1916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7596360" y="3500280"/>
            <a:ext cx="618840" cy="792360"/>
          </a:xfrm>
          <a:custGeom>
            <a:avLst/>
            <a:gdLst>
              <a:gd name="textAreaLeft" fmla="*/ 39960 w 618840"/>
              <a:gd name="textAreaRight" fmla="*/ 578880 w 618840"/>
              <a:gd name="textAreaTop" fmla="*/ 39960 h 792360"/>
              <a:gd name="textAreaBottom" fmla="*/ 752400 h 792360"/>
            </a:gdLst>
            <a:ahLst/>
            <a:rect l="textAreaLeft" t="textAreaTop" r="textAreaRight" b="textAreaBottom"/>
            <a:pathLst>
              <a:path w="21600" h="27653">
                <a:moveTo>
                  <a:pt x="0" y="0"/>
                </a:moveTo>
                <a:lnTo>
                  <a:pt x="21600" y="0"/>
                </a:lnTo>
                <a:lnTo>
                  <a:pt x="21600" y="27653"/>
                </a:lnTo>
                <a:lnTo>
                  <a:pt x="0" y="27653"/>
                </a:lnTo>
                <a:close/>
              </a:path>
              <a:path fill="lightenLess" w="21600" h="276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53">
                <a:moveTo>
                  <a:pt x="21600" y="0"/>
                </a:moveTo>
                <a:lnTo>
                  <a:pt x="21600" y="27653"/>
                </a:lnTo>
                <a:lnTo>
                  <a:pt x="20200" y="26253"/>
                </a:lnTo>
                <a:lnTo>
                  <a:pt x="20200" y="1400"/>
                </a:lnTo>
                <a:close/>
              </a:path>
              <a:path fill="darkenLess" w="21600" h="27653">
                <a:moveTo>
                  <a:pt x="21600" y="27653"/>
                </a:moveTo>
                <a:lnTo>
                  <a:pt x="0" y="27653"/>
                </a:lnTo>
                <a:lnTo>
                  <a:pt x="1400" y="26253"/>
                </a:lnTo>
                <a:lnTo>
                  <a:pt x="20200" y="26253"/>
                </a:lnTo>
                <a:close/>
              </a:path>
              <a:path fill="lighten" w="21600" h="27653">
                <a:moveTo>
                  <a:pt x="0" y="276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53"/>
                </a:lnTo>
                <a:close/>
              </a:path>
              <a:path fill="darken" w="21600" h="27653">
                <a:moveTo>
                  <a:pt x="3794" y="6820"/>
                </a:moveTo>
                <a:lnTo>
                  <a:pt x="17806" y="13827"/>
                </a:lnTo>
                <a:lnTo>
                  <a:pt x="3794" y="208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9"/>
          <p:cNvSpPr/>
          <p:nvPr/>
        </p:nvSpPr>
        <p:spPr>
          <a:xfrm>
            <a:off x="7596360" y="4643280"/>
            <a:ext cx="576000" cy="7146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4600"/>
              <a:gd name="textAreaBottom" fmla="*/ 677520 h 714600"/>
            </a:gdLst>
            <a:ahLst/>
            <a:rect l="textAreaLeft" t="textAreaTop" r="textAreaRight" b="textAreaBottom"/>
            <a:pathLst>
              <a:path w="21600" h="26794">
                <a:moveTo>
                  <a:pt x="0" y="0"/>
                </a:moveTo>
                <a:lnTo>
                  <a:pt x="21600" y="0"/>
                </a:lnTo>
                <a:lnTo>
                  <a:pt x="21600" y="26794"/>
                </a:lnTo>
                <a:lnTo>
                  <a:pt x="0" y="26794"/>
                </a:lnTo>
                <a:close/>
              </a:path>
              <a:path fill="lightenLess" w="21600" h="26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94">
                <a:moveTo>
                  <a:pt x="21600" y="0"/>
                </a:moveTo>
                <a:lnTo>
                  <a:pt x="21600" y="26794"/>
                </a:lnTo>
                <a:lnTo>
                  <a:pt x="20200" y="25394"/>
                </a:lnTo>
                <a:lnTo>
                  <a:pt x="20200" y="1400"/>
                </a:lnTo>
                <a:close/>
              </a:path>
              <a:path fill="darkenLess" w="21600" h="26794">
                <a:moveTo>
                  <a:pt x="21600" y="26794"/>
                </a:moveTo>
                <a:lnTo>
                  <a:pt x="0" y="26794"/>
                </a:lnTo>
                <a:lnTo>
                  <a:pt x="1400" y="25394"/>
                </a:lnTo>
                <a:lnTo>
                  <a:pt x="20200" y="25394"/>
                </a:lnTo>
                <a:close/>
              </a:path>
              <a:path fill="lighten" w="21600" h="26794">
                <a:moveTo>
                  <a:pt x="0" y="26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94"/>
                </a:lnTo>
                <a:close/>
              </a:path>
              <a:path fill="darken" w="21600" h="26794">
                <a:moveTo>
                  <a:pt x="3794" y="6391"/>
                </a:moveTo>
                <a:lnTo>
                  <a:pt x="17806" y="13397"/>
                </a:lnTo>
                <a:lnTo>
                  <a:pt x="3794" y="2040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0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3920"/>
                </a:moveTo>
                <a:lnTo>
                  <a:pt x="17806" y="10927"/>
                </a:lnTo>
                <a:lnTo>
                  <a:pt x="3794" y="179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Лента лицом вверх 13"/>
          <p:cNvSpPr/>
          <p:nvPr/>
        </p:nvSpPr>
        <p:spPr>
          <a:xfrm>
            <a:off x="1258920" y="189000"/>
            <a:ext cx="6626160" cy="1008000"/>
          </a:xfrm>
          <a:custGeom>
            <a:avLst/>
            <a:gdLst>
              <a:gd name="textAreaLeft" fmla="*/ 1656360 w 6626160"/>
              <a:gd name="textAreaRight" fmla="*/ 4969800 w 6626160"/>
              <a:gd name="textAreaTop" fmla="*/ 0 h 1008000"/>
              <a:gd name="textAreaBottom" fmla="*/ 84024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де жив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5:00:59Z</dcterms:created>
  <dc:creator>User</dc:creator>
  <dc:description/>
  <dc:language>en-US</dc:language>
  <cp:lastModifiedBy>User</cp:lastModifiedBy>
  <dcterms:modified xsi:type="dcterms:W3CDTF">2018-01-30T15:07:01Z</dcterms:modified>
  <cp:revision>34</cp:revision>
  <dc:subject/>
  <dc:title>Слайд 1</dc:title>
</cp:coreProperties>
</file>