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D69A2-B98D-4E73-B267-16BAF56B0F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2DF46-C1F2-48C8-82F5-6815A5B64E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3C5-2972-4AF7-AFE4-5A8042B5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EB9-8282-4170-84FF-5C2676B4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D78-B2CC-4BBE-9824-F84A975A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91A-6CC3-4932-B474-7EEC877B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E8D-739B-410B-92F9-AD7A72B5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2CA-03CE-4B31-ABB8-5B43ECE3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03C-11A8-4325-BE83-EE379D5B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80E-C660-4D83-86A9-57279A97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454-2CFA-487D-B43B-5BD1F453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044-24FF-41A7-B664-6CFE77A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FD1-3F56-4BF8-AEAF-5C9BC1F6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D72-0C11-404C-9F95-C92F3266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C82A4F-2951-482D-B844-A9C6B84D04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376360" y="226440"/>
            <a:ext cx="6767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вас, родите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384720" y="1200960"/>
            <a:ext cx="432108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Что надо знать о ФГОС родителя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1332000"/>
            <a:ext cx="4272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327640" y="125892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63640" y="5796000"/>
            <a:ext cx="4176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287280" y="586728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5256360" y="586728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5977080" y="5940360"/>
            <a:ext cx="4103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87280" y="1979640"/>
            <a:ext cx="403236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ряет, как поняли («повтори!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208480" y="1979640"/>
            <a:ext cx="487224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.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здает ситуацию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Учен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3887640" y="2195640"/>
            <a:ext cx="12844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3887640" y="2987640"/>
            <a:ext cx="129564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3887640" y="3780000"/>
            <a:ext cx="13446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3816360" y="4788000"/>
            <a:ext cx="14050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1079640" y="5229000"/>
            <a:ext cx="756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яется и 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431640" y="1258920"/>
            <a:ext cx="26895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400720" y="118728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92000" y="5219640"/>
            <a:ext cx="48722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требуйте, чтобы ребенок читал и выполнял все, что есть в учебник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287280" y="529272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5688000" y="543564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6408720" y="5219640"/>
            <a:ext cx="39481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ужно учиться выбирать главное и интересно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87280" y="2124000"/>
            <a:ext cx="439596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Успешный ученик тот – кто читает весь учебник и выполняет все задания – «от корки до кор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968720" y="2124000"/>
            <a:ext cx="51120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я и тексты в учебнике   даны с избытком – для выб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68720" y="3274920"/>
            <a:ext cx="53769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1152360" y="4642920"/>
            <a:ext cx="7561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87280" y="133200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753080" y="125892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19280" y="5364000"/>
            <a:ext cx="4116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4240" y="5764320"/>
            <a:ext cx="583920" cy="53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4968720" y="579600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5688000" y="5435640"/>
            <a:ext cx="4116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60360" y="2124000"/>
            <a:ext cx="420048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703760" y="2050920"/>
            <a:ext cx="537696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152360" y="4858920"/>
            <a:ext cx="7561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719280" y="4859280"/>
            <a:ext cx="41162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84240" y="5375160"/>
            <a:ext cx="583920" cy="53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5208480" y="537516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5796000" y="4932360"/>
            <a:ext cx="42847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16000" y="2266920"/>
            <a:ext cx="4608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968720" y="2266920"/>
            <a:ext cx="45356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7280" y="133200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753080" y="125892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1079640" y="3924000"/>
            <a:ext cx="756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1064880"/>
            <a:ext cx="90694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Требования к результат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539640" y="2351160"/>
            <a:ext cx="907272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апредмет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универсальные учебные действ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02920" y="1279440"/>
            <a:ext cx="9394920" cy="547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ценка личност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ерсонифицирована, качест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ценка предмет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онифицирована, количественная, по 5-ти балльной ш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ценка метапредмет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онифицирована, количественная, накопительная, набранные баллы переводятся в отметку по 5-ти балльной ш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ртфолио достиж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чащего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325440" y="4708440"/>
            <a:ext cx="900108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  <a:ea typeface="Dotum"/>
              </a:rPr>
              <a:t>Никто не может показать миру, каков я есть, ярче, чем это смог сделать я с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  <a:ea typeface="Dotum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mbria"/>
                <a:ea typeface="Dotum"/>
              </a:rPr>
              <a:t>Эрнест Хемингуэ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9280" y="177948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зделы Портфоли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  1  «Самопрезентаци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  2  «Портфолио документов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  3  «Портфолио работ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 4  «Портфолио отзыв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1331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Что такое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Федеральный государственный стандар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843280"/>
            <a:ext cx="906948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- совокупность требований, которые обязательно должна выполнить каждая школа, организуя процесс обучен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25440" y="1279440"/>
            <a:ext cx="95011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деральные государственные образовательные стандарт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чальног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щего образования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тверждены в 2009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54160" y="2994120"/>
            <a:ext cx="95011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деральные государственные образовательные стандарт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новног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щего образова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тверждены в 2010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254160" y="5137200"/>
            <a:ext cx="950112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деральные государственные образовательные стандарт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реднего (полного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щего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тверждены в 2012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6"/>
          <p:cNvGraphicFramePr/>
          <p:nvPr/>
        </p:nvGraphicFramePr>
        <p:xfrm>
          <a:off x="968400" y="993600"/>
          <a:ext cx="10449000" cy="694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993600"/>
                    <a:ext cx="10449000" cy="694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422360"/>
            <a:ext cx="9069480" cy="8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5080" y="2422080"/>
            <a:ext cx="9320040" cy="45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ндарты  первого                                      Стандарты втор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оления                                                       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ировать, давать знания                      Развивать у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яется метод об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 объяснительного на деятельностны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цениваются не только предметные знания, но, прежде всего, метапредметные и личностные результаты, умения и навык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3"/>
          <p:cNvGraphicFramePr/>
          <p:nvPr/>
        </p:nvGraphicFramePr>
        <p:xfrm>
          <a:off x="539640" y="1136520"/>
          <a:ext cx="9215640" cy="599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36520"/>
                    <a:ext cx="9215640" cy="59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6360" y="1279080"/>
            <a:ext cx="90694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62699"/>
                </a:solidFill>
                <a:latin typeface="Arial"/>
              </a:rPr>
              <a:t>Деятельностный подход – концептуальная основа нового станда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любых умений, способностей, личностных качеств, т.е. умения учиться в целом, возможно только в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611280" y="2351160"/>
            <a:ext cx="89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ный характер нового стандарта – указание на реальные виды деятельности,  которыми учащийся    должен овладеть за период 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922040"/>
            <a:ext cx="9069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Что такое интегрированный подход к обуч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2994120"/>
            <a:ext cx="9069480" cy="25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ный подход к обучению предполагает активное использование знаний, полученных при изучении одного предмета, на уроках по другим предме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6360" y="1186920"/>
            <a:ext cx="906912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Что такое внеурочная деятельность, каковы ее особеннос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2339640"/>
            <a:ext cx="9361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иться требуемых образовательных  результатов только на уроке нельзя. Поэтому очень важно, чтобы ребенок посещал специальные занятия во внеуро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внеурочную деятельность могут входи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ия в кружках и секциях по интерес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е занятия педагога с детьми, требующими психолого-педагогической  и коррекционной поддерж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, кружки, секции, олимпиады, соревн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овые исследования и выполнение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>user</dc:creator>
  <dc:description/>
  <dc:language>en-US</dc:language>
  <cp:lastModifiedBy>user</cp:lastModifiedBy>
  <dcterms:modified xsi:type="dcterms:W3CDTF">2013-03-13T13:25:40Z</dcterms:modified>
  <cp:revision>43</cp:revision>
  <dc:subject/>
  <dc:title>Слайд 1</dc:title>
</cp:coreProperties>
</file>