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click.wav" ContentType="audio/x-wav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F85-B96E-4931-A852-2D330F86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570-2CD7-4E57-B605-5D631115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F29-587B-430B-867E-C1605151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712-8865-4339-9C31-D8525A15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595-B9B4-437B-B7FE-6D2999A1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EA4-CA91-4191-9B7C-36029299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E87-B33F-4983-AEC6-3478E01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861-D177-42DB-8FDF-52BF66C9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79C-CBCD-47EA-8C7D-ECC11020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130-C3DF-4E53-A42C-C702FDF2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DAC-BF29-4231-8703-D2D05E0B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0EE-1326-41A7-A2D8-0206A49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C37-8629-4E39-8440-029876B54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b50"/>
                </a:solidFill>
                <a:latin typeface="Arial"/>
              </a:rPr>
              <a:t>Т.А. Корованенко</a:t>
            </a:r>
            <a:br>
              <a:rPr sz="3200"/>
            </a:br>
            <a:r>
              <a:rPr b="0" lang="ru-RU" sz="3200" spc="-1" strike="noStrike">
                <a:solidFill>
                  <a:srgbClr val="224b50"/>
                </a:solidFill>
                <a:latin typeface="Arial"/>
              </a:rPr>
              <a:t>«Русский как язык русской культуры</a:t>
            </a:r>
            <a:r>
              <a:rPr b="0" lang="ru-RU" sz="4000" spc="-1" strike="noStrike">
                <a:solidFill>
                  <a:srgbClr val="224b5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Творческая деятельность иностранных и двуязычных учащихся МШГУ на уроках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и изобразительного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b50"/>
                </a:solidFill>
                <a:latin typeface="Arial"/>
              </a:rPr>
              <a:t>Иллюстрации литературно-художественных проектов выполнены под руковод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b50"/>
                </a:solidFill>
                <a:latin typeface="Arial"/>
              </a:rPr>
              <a:t>Терешкиной  Ю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рмарка игрушек</a:t>
            </a:r>
            <a:br>
              <a:rPr sz="44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мотивам произведений русской класс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_1563"/>
          <p:cNvPicPr/>
          <p:nvPr/>
        </p:nvPicPr>
        <p:blipFill>
          <a:blip r:embed="rId1"/>
          <a:stretch/>
        </p:blipFill>
        <p:spPr>
          <a:xfrm>
            <a:off x="762120" y="12952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IMG_1509"/>
          <p:cNvPicPr/>
          <p:nvPr/>
        </p:nvPicPr>
        <p:blipFill>
          <a:blip r:embed="rId2"/>
          <a:stretch/>
        </p:blipFill>
        <p:spPr>
          <a:xfrm>
            <a:off x="4495680" y="3429000"/>
            <a:ext cx="4221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лицеиста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аписано пером, не вырубишь и топор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Лет"/>
          <p:cNvPicPr/>
          <p:nvPr/>
        </p:nvPicPr>
        <p:blipFill>
          <a:blip r:embed="rId1"/>
          <a:stretch/>
        </p:blipFill>
        <p:spPr>
          <a:xfrm>
            <a:off x="5575320" y="160020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" descr=""/>
          <p:cNvPicPr/>
          <p:nvPr/>
        </p:nvPicPr>
        <p:blipFill>
          <a:blip r:embed="rId2"/>
          <a:stretch/>
        </p:blipFill>
        <p:spPr>
          <a:xfrm>
            <a:off x="409680" y="1424160"/>
            <a:ext cx="3082680" cy="25174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"/>
          <p:cNvPicPr/>
          <p:nvPr/>
        </p:nvPicPr>
        <p:blipFill>
          <a:blip r:embed="rId3"/>
          <a:stretch/>
        </p:blipFill>
        <p:spPr>
          <a:xfrm>
            <a:off x="3425760" y="3638520"/>
            <a:ext cx="35146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этическое и артистическое состяз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Лет"/>
          <p:cNvPicPr/>
          <p:nvPr/>
        </p:nvPicPr>
        <p:blipFill>
          <a:blip r:embed="rId1"/>
          <a:stretch/>
        </p:blipFill>
        <p:spPr>
          <a:xfrm>
            <a:off x="457200" y="1676520"/>
            <a:ext cx="3683160" cy="552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Учит"/>
          <p:cNvPicPr/>
          <p:nvPr/>
        </p:nvPicPr>
        <p:blipFill>
          <a:blip r:embed="rId2"/>
          <a:stretch/>
        </p:blipFill>
        <p:spPr>
          <a:xfrm>
            <a:off x="4191120" y="1600200"/>
            <a:ext cx="4514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10800000">
            <a:off x="4572000" y="3786120"/>
            <a:ext cx="7632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DSC00073"/>
          <p:cNvPicPr/>
          <p:nvPr/>
        </p:nvPicPr>
        <p:blipFill>
          <a:blip r:embed="rId1"/>
          <a:stretch/>
        </p:blipFill>
        <p:spPr>
          <a:xfrm>
            <a:off x="380880" y="1600200"/>
            <a:ext cx="4953240" cy="3714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DSC00090"/>
          <p:cNvPicPr/>
          <p:nvPr/>
        </p:nvPicPr>
        <p:blipFill>
          <a:blip r:embed="rId2"/>
          <a:stretch/>
        </p:blipFill>
        <p:spPr>
          <a:xfrm>
            <a:off x="4952880" y="23623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дублера – день национальной культуры на русск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День уч"/>
          <p:cNvPicPr/>
          <p:nvPr/>
        </p:nvPicPr>
        <p:blipFill>
          <a:blip r:embed="rId1"/>
          <a:stretch/>
        </p:blipFill>
        <p:spPr>
          <a:xfrm>
            <a:off x="228600" y="1600200"/>
            <a:ext cx="3371760" cy="449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День уч"/>
          <p:cNvPicPr/>
          <p:nvPr/>
        </p:nvPicPr>
        <p:blipFill>
          <a:blip r:embed="rId2"/>
          <a:stretch/>
        </p:blipFill>
        <p:spPr>
          <a:xfrm>
            <a:off x="3581280" y="160020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День уч"/>
          <p:cNvPicPr/>
          <p:nvPr/>
        </p:nvPicPr>
        <p:blipFill>
          <a:blip r:embed="rId3"/>
          <a:stretch/>
        </p:blipFill>
        <p:spPr>
          <a:xfrm>
            <a:off x="6095880" y="35812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179280" y="26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нь-краса (сборник стих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351320" y="4581360"/>
            <a:ext cx="46083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Эмили Мори, 8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(СШ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«Осень-красна дев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263520" y="620640"/>
            <a:ext cx="8772480" cy="76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нтегрированный литературно-художественный про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ект осуществлен иностранными учащимися в 200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литературным и художественно-изобразительным языком рассказали о том, какой они видят нашу северную ос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Карина О Берни,                т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де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8 лет, </a:t>
            </a:r>
            <a:r>
              <a:rPr b="1" i="1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(США)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а, как жар-птиц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Оформление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етает из свет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293e0"/>
                </a:solidFill>
                <a:latin typeface="Times New Roman"/>
                <a:ea typeface="Times New Roman"/>
              </a:rPr>
              <a:t>обложки –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источке-колесниц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вышивка,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сех одеть в на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т</a:t>
            </a: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екстильная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лать на маскарады!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апплик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й проект иностранных учащихся «Осень краса и ее чудеса» был отмечен дипломом победителя городского конкурса самодельных книг «Мы-граждане России» в номинации «Сохраним наш мир» за оригинальное оформ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1974600" cy="2733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1892160" cy="2952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79280" y="26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катулка сказо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356000" y="5300640"/>
            <a:ext cx="46087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Бартош Яхимчик</a:t>
            </a:r>
            <a:r>
              <a:rPr b="0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(Чехия) «Сказка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Потерянном вре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(или как Коля Бутербродович победил Хранителя вечности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263520" y="476280"/>
            <a:ext cx="8772480" cy="85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нтегрированный литературно-художественный проект, посвященный творчеству Евгения Львовича Швар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ект осуществлен русскоязычными и иностранными учащимися в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Ребята сочиняли сказки в стиле Е. Шварца, создавали буквицу и иллюстрации  к своим сочинениям. Совместный проект «Шкатулка сказок» был представлен на конкурс «Новая старая сказка», отдельные сочинения ребят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опубликованы в журнале «Костер» №9 за 2006г.  и сбор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детских творческих работ « Сочиня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переводим, рисуем» (выпуск 2)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Луи Вигне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Анри Вигн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(Бельгия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Оформ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шкатулк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апплик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бере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6696000" y="3029040"/>
            <a:ext cx="2268720" cy="29923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4500720" y="3137040"/>
            <a:ext cx="2097000" cy="21636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3"/>
          <a:stretch/>
        </p:blipFill>
        <p:spPr>
          <a:xfrm>
            <a:off x="2157480" y="3751200"/>
            <a:ext cx="2198520" cy="2990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263520" y="1159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ербург глазами иностран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95280" y="5516640"/>
            <a:ext cx="460836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66"/>
                </a:solidFill>
                <a:latin typeface="Times New Roman"/>
                <a:ea typeface="Lucida Sans Unicode"/>
              </a:rPr>
              <a:t>Габриель Вульф, 13 лет (Шотландия), «Цвета и краски  Петербург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263520" y="476280"/>
            <a:ext cx="87724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нтегрированный литературно-художественный про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ект осуществлен иностранными учащимися в 200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чинения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темы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я первая встреча с Петербургом», «Памятники Петербурга»,  «Цвета и краски Петербурга», «Музыка Петербурга», «Петербургская погода», «Петербургские животные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 - ребята делились своими впечатлениями о Санкт-Петербурге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й художественный образ, созданный на уроках РКИ, воплощался  красках и становился художественным изобразительным образом на уроках ИЗ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2774880" cy="20163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5292720" y="5516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Джонатан Мори ,  9 лет (СШ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«Город огня и све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1258920" y="3500280"/>
            <a:ext cx="2881440" cy="20210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179280" y="61657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Работы иностранных учащихся изданы в сборнике детских творческих работ «Сочиняем, переводим, рисуем…», выпуск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15328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блокады- день памят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3" descr=""/>
          <p:cNvPicPr/>
          <p:nvPr/>
        </p:nvPicPr>
        <p:blipFill>
          <a:blip r:embed="rId1"/>
          <a:stretch/>
        </p:blipFill>
        <p:spPr>
          <a:xfrm>
            <a:off x="457200" y="1101600"/>
            <a:ext cx="3962520" cy="28195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"/>
          <p:cNvPicPr/>
          <p:nvPr/>
        </p:nvPicPr>
        <p:blipFill>
          <a:blip r:embed="rId2"/>
          <a:stretch/>
        </p:blipFill>
        <p:spPr>
          <a:xfrm>
            <a:off x="4800600" y="1050840"/>
            <a:ext cx="3790800" cy="28447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" descr=""/>
          <p:cNvPicPr/>
          <p:nvPr/>
        </p:nvPicPr>
        <p:blipFill>
          <a:blip r:embed="rId3"/>
          <a:stretch/>
        </p:blipFill>
        <p:spPr>
          <a:xfrm>
            <a:off x="2743200" y="4076640"/>
            <a:ext cx="4495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йские игры в С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талисман Олимпийских игр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ешествие олимпийского ог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чем я думал, когда нес олимпийский фак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565big"/>
          <p:cNvPicPr/>
          <p:nvPr/>
        </p:nvPicPr>
        <p:blipFill>
          <a:blip r:embed="rId1"/>
          <a:stretch/>
        </p:blipFill>
        <p:spPr>
          <a:xfrm>
            <a:off x="2895480" y="3657600"/>
            <a:ext cx="2762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390600" y="-30240"/>
            <a:ext cx="8240760" cy="1438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050920" y="1484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alace Script MT"/>
              </a:rPr>
              <a:t>Moi et Pouchk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3143160" cy="19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туся\Desktop\08.11.2011\doc643.bmp"/>
          <p:cNvPicPr/>
          <p:nvPr/>
        </p:nvPicPr>
        <p:blipFill>
          <a:blip r:embed="rId3"/>
          <a:stretch/>
        </p:blipFill>
        <p:spPr>
          <a:xfrm>
            <a:off x="684360" y="836640"/>
            <a:ext cx="199692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туся\Desktop\08.11.2011\doc639.bmp"/>
          <p:cNvPicPr/>
          <p:nvPr/>
        </p:nvPicPr>
        <p:blipFill>
          <a:blip r:embed="rId4"/>
          <a:stretch/>
        </p:blipFill>
        <p:spPr>
          <a:xfrm>
            <a:off x="6912000" y="260280"/>
            <a:ext cx="2232000" cy="346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туся\Desktop\08.11.2011\doc644.bmp"/>
          <p:cNvPicPr/>
          <p:nvPr/>
        </p:nvPicPr>
        <p:blipFill>
          <a:blip r:embed="rId5"/>
          <a:stretch/>
        </p:blipFill>
        <p:spPr>
          <a:xfrm>
            <a:off x="6012000" y="3645000"/>
            <a:ext cx="2305080" cy="3027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6"/>
          <a:stretch/>
        </p:blipFill>
        <p:spPr>
          <a:xfrm>
            <a:off x="395280" y="4508640"/>
            <a:ext cx="3048120" cy="1971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9"/>
          <p:cNvSpPr/>
          <p:nvPr/>
        </p:nvSpPr>
        <p:spPr>
          <a:xfrm>
            <a:off x="-606600" y="3716280"/>
            <a:ext cx="43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alace Script MT"/>
              </a:rPr>
              <a:t>Festival “Thé russ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7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63680" y="-30240"/>
            <a:ext cx="8242200" cy="1438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4643280" y="1413000"/>
            <a:ext cx="40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ce Script MT"/>
              </a:rPr>
              <a:t>Cours de russe langue étrang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ce Script MT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Palace Script MT"/>
              </a:rPr>
              <a:t>Ma belle langue, mon russ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3152880" cy="1362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611280" y="3213000"/>
            <a:ext cx="33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ce Script MT"/>
              </a:rPr>
              <a:t>Moi, mon nom et mon pré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туся\Desktop\08.11.2011\doc640.bmp"/>
          <p:cNvPicPr/>
          <p:nvPr/>
        </p:nvPicPr>
        <p:blipFill>
          <a:blip r:embed="rId3"/>
          <a:stretch/>
        </p:blipFill>
        <p:spPr>
          <a:xfrm>
            <a:off x="5219640" y="2708280"/>
            <a:ext cx="3745080" cy="2717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4932360" y="566100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ce Script MT"/>
              </a:rPr>
              <a:t>Mon hymne à une rose ro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1332000" y="4149720"/>
            <a:ext cx="3325680" cy="23749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угие творчески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 rot="10800000">
            <a:off x="457200" y="3809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 045"/>
          <p:cNvPicPr/>
          <p:nvPr/>
        </p:nvPicPr>
        <p:blipFill>
          <a:blip r:embed="rId1"/>
          <a:stretch/>
        </p:blipFill>
        <p:spPr>
          <a:xfrm>
            <a:off x="3429000" y="11430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 046"/>
          <p:cNvPicPr/>
          <p:nvPr/>
        </p:nvPicPr>
        <p:blipFill>
          <a:blip r:embed="rId2"/>
          <a:stretch/>
        </p:blipFill>
        <p:spPr>
          <a:xfrm>
            <a:off x="457200" y="1523880"/>
            <a:ext cx="2924280" cy="4005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 047"/>
          <p:cNvPicPr/>
          <p:nvPr/>
        </p:nvPicPr>
        <p:blipFill>
          <a:blip r:embed="rId3"/>
          <a:stretch/>
        </p:blipFill>
        <p:spPr>
          <a:xfrm>
            <a:off x="5506920" y="3352680"/>
            <a:ext cx="3637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 «Моя Росс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28600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 портрет рус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28600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ческий календарь Нового года и грамматические риф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28600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0" y="371484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кольный театр «Колоб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мой фрагмент сказ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DSC09664"/>
          <p:cNvPicPr/>
          <p:nvPr/>
        </p:nvPicPr>
        <p:blipFill>
          <a:blip r:embed="rId2"/>
          <a:stretch/>
        </p:blipFill>
        <p:spPr>
          <a:xfrm>
            <a:off x="4191120" y="220968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75" name="Заголовок 1"/>
          <p:cNvSpPr/>
          <p:nvPr/>
        </p:nvSpPr>
        <p:spPr>
          <a:xfrm>
            <a:off x="0" y="2362320"/>
            <a:ext cx="419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А. Крылов «Стрекоза и Муравей». Продолжение басн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Стрекозе с приглашением к обед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рые и нов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1</dc:creator>
  <dc:description/>
  <dc:language>en-US</dc:language>
  <cp:lastModifiedBy>Teacher</cp:lastModifiedBy>
  <dcterms:modified xsi:type="dcterms:W3CDTF">2018-02-07T08:52:4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