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A63A-2EDA-45C2-AAF1-7D1575BB6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7675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9520" y="4098240"/>
            <a:ext cx="7675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C8B4-9CC5-4F69-9AFD-6D234B34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9520" y="409824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2520" y="409824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4474-BF51-4C1D-B692-40E3A154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760" y="182520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0360" y="182520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9520" y="409824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760" y="409824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0360" y="409824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6572-9304-4262-9104-7658FB8F0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D980-C85F-4F25-BDF2-6AE95C2B3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9520" y="1825200"/>
            <a:ext cx="76755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92A1-C0D4-4CD9-97AF-959B6F4F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7675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70F3-C01F-43D9-B746-8DDB4198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9C07-86B0-401D-9EA0-E8550F20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E1BB-B8C4-4D2C-AD2C-4DF09076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6D00-611D-4A93-9973-24522EC3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9520" y="409824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FA28-063A-4DB7-9EF1-2F45CA27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9520" y="1825200"/>
            <a:ext cx="76755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941D-0B08-4A3F-8B08-35CC76F1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72520" y="409824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A5D1-A985-407D-A777-5977E7C0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9520" y="4098240"/>
            <a:ext cx="7675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C065-9A7E-47B7-B98F-071B6651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7675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9520" y="4098240"/>
            <a:ext cx="7675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2328-D8D0-4D0D-81FC-C7178A60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9520" y="409824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72520" y="409824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74FC-E74B-4342-A80F-BDD93FE6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34760" y="182520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30360" y="182520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9520" y="409824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34760" y="409824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30360" y="409824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1E87-5ED3-4EB8-9694-06206D4BB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7675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1116-BAA7-4AC5-AEC6-52A97728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5AC9-6961-43C9-8C2C-18AB3F2B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F43D-DC45-453E-BB10-9C30EB6A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3F65-50A1-454A-85A1-BC9BDF3C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9520" y="409824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37FB-C300-400D-BCD5-80A2E8F1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2520" y="409824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C4B6-AF3F-4696-8B67-44A47193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9520" y="4098240"/>
            <a:ext cx="7675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7D16-1B7D-40C1-ADE4-0BBA694A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9520" y="1825200"/>
            <a:ext cx="7675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4274-D480-4C57-AC19-BE4CD6F51D68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833400" y="78732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7827840" y="2743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9520" y="1825200"/>
            <a:ext cx="7675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9028-8CAC-4813-B9A2-F94EF21B4065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одержимое 2" descr=""/>
          <p:cNvPicPr/>
          <p:nvPr/>
        </p:nvPicPr>
        <p:blipFill>
          <a:blip r:embed="rId2"/>
          <a:stretch/>
        </p:blipFill>
        <p:spPr>
          <a:xfrm>
            <a:off x="542880" y="401760"/>
            <a:ext cx="8217000" cy="597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1258920" y="765000"/>
          <a:ext cx="6265800" cy="4516560"/>
        </p:xfrm>
        <a:graphic>
          <a:graphicData uri="http://schemas.openxmlformats.org/drawingml/2006/table">
            <a:tbl>
              <a:tblPr/>
              <a:tblGrid>
                <a:gridCol w="419040"/>
                <a:gridCol w="417600"/>
                <a:gridCol w="417600"/>
                <a:gridCol w="417240"/>
                <a:gridCol w="417600"/>
                <a:gridCol w="417600"/>
                <a:gridCol w="374760"/>
                <a:gridCol w="460080"/>
                <a:gridCol w="417600"/>
                <a:gridCol w="417600"/>
                <a:gridCol w="417600"/>
                <a:gridCol w="417240"/>
                <a:gridCol w="419400"/>
                <a:gridCol w="417240"/>
                <a:gridCol w="417600"/>
              </a:tblGrid>
              <a:tr h="660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a52a2a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</a:tr>
              <a:tr h="577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a52a2a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a52a2a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</a:tr>
              <a:tr h="415800"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a52a2a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</a:tr>
              <a:tr h="809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a52a2a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a52a2a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</a:tr>
              <a:tr h="833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75b"/>
                    </a:solidFill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34920" y="642960"/>
            <a:ext cx="554508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во и </a:t>
            </a:r>
            <a:br>
              <a:rPr sz="4800"/>
            </a:br>
            <a:r>
              <a:rPr b="1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го лексическое </a:t>
            </a:r>
            <a:br>
              <a:rPr sz="4800"/>
            </a:br>
            <a:r>
              <a:rPr b="1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чение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23640" y="404280"/>
            <a:ext cx="82803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4000" spc="-1" strike="noStrike">
                <a:solidFill>
                  <a:srgbClr val="005c00"/>
                </a:solidFill>
                <a:latin typeface="Times New Roman"/>
                <a:ea typeface="Times New Roman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Прямоугольник 1"/>
          <p:cNvSpPr/>
          <p:nvPr/>
        </p:nvSpPr>
        <p:spPr>
          <a:xfrm>
            <a:off x="252360" y="765000"/>
            <a:ext cx="867564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ного слов на земле.  Есть дневные слова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 них весеннего неба сквозит сине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Есть ночные слова, о которых мы днё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споминаем с улыбкой и со стыд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Есть слова – словно раны, слова – словно суд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 ними в плен не сдаются и в плен не беру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ловом можно убить, словом можно спаст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ловом можно полки за собой повести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Monotype Corsiv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900000" y="549360"/>
            <a:ext cx="7056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00b0f0"/>
                </a:solidFill>
                <a:latin typeface="Corbel"/>
              </a:rPr>
              <a:t>Сколько слов в русском языке?</a:t>
            </a:r>
            <a:endParaRPr b="0" lang="en-US" sz="37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7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00b0f0"/>
                </a:solidFill>
                <a:latin typeface="Corbel"/>
              </a:rPr>
              <a:t>В современном русском языке около 200 000 слов. Иностранные слова (30 000), новые слова (5000), научные термины, жаргоны (10 000), устаревшие слова (30 000), имена собственные и прозвища (25 000), слова-однодневки, которые невозможно сосчитать, диалектные слова </a:t>
            </a:r>
            <a:endParaRPr b="0" lang="en-US" sz="37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00b0f0"/>
                </a:solidFill>
                <a:latin typeface="Corbel"/>
              </a:rPr>
              <a:t>(около200 000). </a:t>
            </a:r>
            <a:endParaRPr b="0" lang="en-US" sz="37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7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55640" y="208080"/>
            <a:ext cx="7632720" cy="62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4000" spc="-1" strike="noStrike">
                <a:solidFill>
                  <a:srgbClr val="005c00"/>
                </a:solidFill>
                <a:latin typeface="Times New Roman"/>
                <a:ea typeface="Times New Roman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4000" spc="-1" strike="noStrike">
                <a:solidFill>
                  <a:srgbClr val="005c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ксика</a:t>
            </a:r>
            <a:r>
              <a:rPr b="1" i="1" lang="ru-RU" sz="4000" spc="-1" strike="noStrike">
                <a:solidFill>
                  <a:srgbClr val="005c00"/>
                </a:solidFill>
                <a:latin typeface="Times New Roman"/>
                <a:ea typeface="Times New Roman"/>
              </a:rPr>
              <a:t> – это словарный состав языка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005c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5c00"/>
                </a:solidFill>
                <a:latin typeface="Times New Roman"/>
                <a:ea typeface="Times New Roman"/>
              </a:rPr>
              <a:t>Лексика изучается в специальном разделе науки о языке –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ксикологии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50560" y="404280"/>
            <a:ext cx="4321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</a:t>
            </a:r>
            <a:r>
              <a:rPr b="0" i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ожка — это ложка,</a:t>
            </a:r>
            <a:br>
              <a:rPr sz="2800"/>
            </a:br>
            <a:r>
              <a:rPr b="0" i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ожкой суп едят.</a:t>
            </a:r>
            <a:br>
              <a:rPr sz="2800"/>
            </a:br>
            <a:r>
              <a:rPr b="0" i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ошка — это кошка,</a:t>
            </a:r>
            <a:br>
              <a:rPr sz="2800"/>
            </a:br>
            <a:r>
              <a:rPr b="0" i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У кошки семь котят.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Тряпка — это тряпка,</a:t>
            </a:r>
            <a:br>
              <a:rPr sz="2800"/>
            </a:br>
            <a:r>
              <a:rPr b="0" i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Тряпкой вытру пол.</a:t>
            </a:r>
            <a:br>
              <a:rPr sz="2800"/>
            </a:br>
            <a:r>
              <a:rPr b="0" i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Шапка — это шапка,</a:t>
            </a:r>
            <a:br>
              <a:rPr sz="2800"/>
            </a:br>
            <a:r>
              <a:rPr b="0" i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Оделся и пошел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Содержимое 2"/>
          <p:cNvSpPr/>
          <p:nvPr/>
        </p:nvSpPr>
        <p:spPr>
          <a:xfrm>
            <a:off x="4356000" y="404640"/>
            <a:ext cx="439272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А я придумал слово,</a:t>
            </a:r>
            <a:br>
              <a:rPr sz="2800"/>
            </a:br>
            <a:r>
              <a:rPr b="0" i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мешное слово — плим.</a:t>
            </a:r>
            <a:br>
              <a:rPr sz="2800"/>
            </a:br>
            <a:r>
              <a:rPr b="0" i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Я повторяю снова:</a:t>
            </a:r>
            <a:br>
              <a:rPr sz="2800"/>
            </a:br>
            <a:r>
              <a:rPr b="0" i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лим, плим, плим!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се прыгает и скачет -</a:t>
            </a:r>
            <a:br>
              <a:rPr sz="2800"/>
            </a:br>
            <a:r>
              <a:rPr b="0" i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лим, плим, плим!</a:t>
            </a:r>
            <a:br>
              <a:rPr sz="2800"/>
            </a:br>
            <a:r>
              <a:rPr b="0" i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 ничего не значит -</a:t>
            </a:r>
            <a:br>
              <a:rPr sz="2800"/>
            </a:br>
            <a:r>
              <a:rPr b="0" i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лим, плим, пл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Содержимое 2"/>
          <p:cNvSpPr/>
          <p:nvPr/>
        </p:nvSpPr>
        <p:spPr>
          <a:xfrm>
            <a:off x="446040" y="4510080"/>
            <a:ext cx="82296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Удалось ли мальчику придумать» новое слов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Узнали ли вы новое слово, прослушав это стихотворени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3"/>
          <p:cNvSpPr/>
          <p:nvPr/>
        </p:nvSpPr>
        <p:spPr>
          <a:xfrm>
            <a:off x="468360" y="3860640"/>
            <a:ext cx="77756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000" y="485640"/>
            <a:ext cx="432108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Содержимое 2"/>
          <p:cNvSpPr/>
          <p:nvPr/>
        </p:nvSpPr>
        <p:spPr>
          <a:xfrm>
            <a:off x="6134040" y="430200"/>
            <a:ext cx="23986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Содержимое 2"/>
          <p:cNvSpPr/>
          <p:nvPr/>
        </p:nvSpPr>
        <p:spPr>
          <a:xfrm>
            <a:off x="2903400" y="3282840"/>
            <a:ext cx="30736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лади́мир Ива́нович  Даль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1801 -1872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усский учёный, писатель и лексикограф, составитель «Толкового словаря живого великорусского язык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C:\Users\MSI FX603\Desktop\i.jpg"/>
          <p:cNvPicPr/>
          <p:nvPr/>
        </p:nvPicPr>
        <p:blipFill>
          <a:blip r:embed="rId2"/>
          <a:stretch/>
        </p:blipFill>
        <p:spPr>
          <a:xfrm>
            <a:off x="468360" y="417600"/>
            <a:ext cx="2473200" cy="27241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2"/>
          <p:cNvSpPr/>
          <p:nvPr/>
        </p:nvSpPr>
        <p:spPr>
          <a:xfrm>
            <a:off x="468360" y="3184560"/>
            <a:ext cx="2435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ргей Иванович Ожег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1900—1964) лингвист,        лексикограф,      доктор филологических наук, профессо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C:\Users\MSI FX603\Desktop\i (1).jpg"/>
          <p:cNvPicPr/>
          <p:nvPr/>
        </p:nvPicPr>
        <p:blipFill>
          <a:blip r:embed="rId3"/>
          <a:stretch/>
        </p:blipFill>
        <p:spPr>
          <a:xfrm>
            <a:off x="3232080" y="430200"/>
            <a:ext cx="2565360" cy="2736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MSI FX603\Desktop\i (2).jpg"/>
          <p:cNvPicPr/>
          <p:nvPr/>
        </p:nvPicPr>
        <p:blipFill>
          <a:blip r:embed="rId4"/>
          <a:stretch/>
        </p:blipFill>
        <p:spPr>
          <a:xfrm>
            <a:off x="6146640" y="455760"/>
            <a:ext cx="2373480" cy="275256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15"/>
          <p:cNvSpPr/>
          <p:nvPr/>
        </p:nvSpPr>
        <p:spPr>
          <a:xfrm>
            <a:off x="6024600" y="3301920"/>
            <a:ext cx="24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6"/>
          <p:cNvSpPr/>
          <p:nvPr/>
        </p:nvSpPr>
        <p:spPr>
          <a:xfrm>
            <a:off x="5819760" y="3330720"/>
            <a:ext cx="27129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митрий Николаевич Уша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1873– 194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усский языкове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8" descr="http://strollingsteak.com/images/56363a0fb511f.jpg"/>
          <p:cNvPicPr/>
          <p:nvPr/>
        </p:nvPicPr>
        <p:blipFill>
          <a:blip r:embed="rId5"/>
          <a:stretch/>
        </p:blipFill>
        <p:spPr>
          <a:xfrm>
            <a:off x="3219480" y="973080"/>
            <a:ext cx="2732040" cy="3584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http://cat.convdocs.org/pars_docs/refs/164/163397/163397_html_31a8f31b.jpg"/>
          <p:cNvPicPr/>
          <p:nvPr/>
        </p:nvPicPr>
        <p:blipFill>
          <a:blip r:embed="rId6"/>
          <a:stretch/>
        </p:blipFill>
        <p:spPr>
          <a:xfrm>
            <a:off x="351000" y="954000"/>
            <a:ext cx="2786040" cy="3603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http://dusseldorf24.eu/pics/85609-drayver-dlya-myshki-h7-r4.jpg"/>
          <p:cNvPicPr/>
          <p:nvPr/>
        </p:nvPicPr>
        <p:blipFill>
          <a:blip r:embed="rId7"/>
          <a:stretch/>
        </p:blipFill>
        <p:spPr>
          <a:xfrm>
            <a:off x="6056280" y="947880"/>
            <a:ext cx="2782800" cy="3603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рина</dc:creator>
  <dc:description/>
  <dc:language>en-US</dc:language>
  <cp:lastModifiedBy>ПК</cp:lastModifiedBy>
  <dcterms:modified xsi:type="dcterms:W3CDTF">2016-12-17T22:41:11Z</dcterms:modified>
  <cp:revision>72</cp:revision>
  <dc:subject/>
  <dc:title>Слайд 1</dc:title>
</cp:coreProperties>
</file>