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34B0-981D-4FCC-98E9-A575B436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C171-6228-486B-8D3E-9B3D679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4F84-537F-4A99-99DF-95478FD3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E588-F363-4AAC-966F-136174A1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D42-0E2F-42F0-9CB4-6756F578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B134-B357-4E06-86DF-6112E26F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EEB6-92B9-42C7-97DA-BD3885D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2A4-42BA-4B96-B294-D5200AFC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A2EE-3CC5-476B-891A-80F8D9D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4ACD-E484-4362-A861-402EF15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669-5CE7-4240-8BE3-9A599E7E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739A-FBBB-4CA7-AC84-D9C4F7A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5ECD-6E41-4C16-8782-1FA1B19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E9C-76A2-49C8-B537-8C589DD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F030-54A2-4595-8EAA-4CCA068D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1DB0-529D-4C2C-8A74-CB3A270C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EA0-181A-44B9-A287-9EAFE210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9654-9181-42B9-8577-9F9F9F96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BBC2-88B0-4C80-84D0-A344C2F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92D3-8006-42B1-9666-476E083A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5304-F5C6-4841-A63E-579BC89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8A0E-4E28-454A-9ABB-7068A00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9051-D3BC-4719-9AC9-1A3CFB9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AC7D-E324-40C2-97C8-6272333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B58-4F4A-462D-AEAA-90CEE3F5A4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BDD-00D8-4EFC-AD7B-CAB359E5A8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3071520"/>
            <a:ext cx="60199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Причины агрессии</a:t>
            </a:r>
            <a:br>
              <a:rPr sz="5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родительское собрание)</a:t>
            </a:r>
            <a:br>
              <a:rPr sz="5000"/>
            </a:br>
            <a:br>
              <a:rPr sz="5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фликты между родителями, раз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демонстративная агресс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лечение внимания к своей персоне); формирование агрессивной модели «выяснения отнош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XP\Рабочий стол\виртуальное общение\Виртуальное общение - картинки\1_N19.jpg"/>
          <p:cNvPicPr/>
          <p:nvPr/>
        </p:nvPicPr>
        <p:blipFill>
          <a:blip r:embed="rId1"/>
          <a:stretch/>
        </p:blipFill>
        <p:spPr>
          <a:xfrm>
            <a:off x="1685880" y="2249640"/>
            <a:ext cx="57722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мимо этого, </a:t>
            </a:r>
            <a:r>
              <a:rPr b="0" i="1" lang="ru-RU" sz="3200" spc="-1" strike="noStrike">
                <a:solidFill>
                  <a:srgbClr val="f10000"/>
                </a:solidFill>
                <a:latin typeface="Arial"/>
              </a:rPr>
              <a:t>обстоятельств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ровоцирующими агрессию, (в детском возрасте) являют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56880"/>
            <a:ext cx="8229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привлечь к себе внимание сверстников (мальчик вырывает книгу у девочки, разбрасывает игрушки и начинает громко лая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мление достоинств другого с тем, чтобы подчеркнуть свое превосходство (заметив, что партнер расстроился из-за того, что у него не хватает деталей, мальчик начинает  кричать:  «Ха-ха-ха, так тебе и надо, у тебя ничего не получится, ты плакса и нытик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защититься и отомст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быть главным (после неудачной попытки занять первое место в строю мальчик отталкивает опередившего, хватает его за волосы и пытается стукнуть головой о стен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олучить желанный предмет (прямое насилие над сверстником из-за игруш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ткрытое письмо</a:t>
            </a:r>
            <a:br>
              <a:rPr sz="3200"/>
            </a:b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агрессивных детей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   хоти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нам  не делали постоянно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ам можно кричать, а нам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елать то, что хочется нам, а не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ы считаете виноватыми нас, а не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 вы научили нас справляться с гне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чему нельзя ломать игрушки, давать сдачи, громко кричать,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изжать, обзываться, если очень хоч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о больше всего мы хот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бы нас люб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сть рецептов избавления от г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85960"/>
            <a:ext cx="4040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НАЛАДЬТЕ ВЗАИМООТНОШЕНИЯ СО СВОИМ РЕБЁНКОМ, ЧТОБЫ ОН  ЧУВСТВОВАЛ СЕБЯ С ВАМИ СПОКОЙНО И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171468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те своего ребенка, проводите вместе с ним как можно больше ВРЕМЕНИ, делитесь с ним своим опытом, рассказывайте ему о своём детстве, детских поступках, победах и неудачах, каждому своему ребёнку уделяйте своё время и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СЛЕДИТЕ ЗА СОБОЙ, КОГДА ВЫ НАХОДИТЕСЬ ПОД ДЕЙСТВИЕМ СТРЕССА И ВАС ЛЕГКО ВЫВЕСТИ ИЗ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1071720"/>
            <a:ext cx="40417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ожите или отмените совместные дела с ребенком, старайтесь не прикасаться к ребенку в минуты разд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857160"/>
            <a:ext cx="40402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3. ЕСЛИ ВЫ РАССТРОЕНЫ, ТО ДЕТИ ДОЛЖНЫ ЗНАТЬ О ВАШЕ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4720" y="857160"/>
            <a:ext cx="4041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детям прямо о своих чувствах, желаниях и потребностях: «Я очень расстроена», «Хочу побыть одна», «Поиграй, пожалуйста, один», На работе были трудные дела», «Поиграй один, я немного успокою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4. В ТЕ МИНУТЫ, КОГДЫ ВЫ РАССТРОЕНЫ И РАЗДРАЖЕНЫ, СДЕЛАЙТЕ ДЛЯ СЕБЯ ЧТО-ТО ПРИЯТНОЕ, ЧТО ВАС МОЖЕТ УСПОК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е теплую ванну, душ, попейте чай, позвоните друзьям, сделайте массаж лица и головы, просто расслабьтесь в удобном кресле, включите любую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928440"/>
            <a:ext cx="40402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5. СТАРАЙТЕСЬ ПРЕДВИДЕТЬ И ПРЕДОТВРАТИТЬ ВОЗМОЖНЫЕ НЕПРИЯТНОСТИ, КОТОРЫЕ МОГУТ ВЫЗВАТЬ ВАШ ГН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4720" y="928440"/>
            <a:ext cx="4041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вайте и не разрешайте ребенку играть с вещами и предметами, которыми вы дорожите. Не позволяйте выводить себя из равновесия, умейте предчувствовать собственный эмоциональный срыв и не допускайте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. СПЕЦИАЛЬНО СТАРАЙТЕСЬ ПРЕДУСМОТРЕТЬ ВСЕ НЮАНСЫ И ВОЗМОЖНОСТИ ПРЕДСТОЯЩЕГО СОБЫТИЯ И ПОДГОТОВЬТ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1143000"/>
            <a:ext cx="404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йте силы и возможности вашего ребенка, проговаривайте важные визиты, и предусмотрите варианты игры или утоления жажды или голода при длительных визитах и поез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\\192.168.200.1\Students\1 курс психологи\олимпиада\психология\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57168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ыбки =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723960" y="450072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40384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роявление агрессии в детских и учебных заведениях является проблемой, которая все больше волнует учителей 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barrel_cactus_hw"/>
          <p:cNvPicPr/>
          <p:nvPr/>
        </p:nvPicPr>
        <p:blipFill>
          <a:blip r:embed="rId1"/>
          <a:stretch/>
        </p:blipFill>
        <p:spPr>
          <a:xfrm>
            <a:off x="5051520" y="198108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755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грессивность имеет качественную и количественную характеристику. Как и всякое свойство , она имеет различную степень выраженности, от полного отсутствия до его преде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Каждая личность должна обладать определенной степенью агресс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сутствие агрессивности приводит к пассивности, ведомост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Чрезмерное развитие агрессивности - к высокой конфлик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45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95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45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агрессия - это следствие действия разного рода причин. Агрессию могут спровоцир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 наследственно-характер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ледственно-конституциональная предрасположенность к агрессивному поведению; психопатоподобное, эпилептоидное, аффективно-возбудимое поведение родителей или родственник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би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грессивное поведение связывают с установлением биохимических, гормональных механизмов, влияющих на развитие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некоторые соматические заболевания, заболевания головного мозга, органические пораж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нимальная мозговая дисфункция, травма головного мозга и т. п.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лияние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социального окру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и каких же условиях у детей возникает агрессия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71760"/>
            <a:ext cx="5186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Родители систематически проявл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изическую или вербальную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к ребенк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роявления у ребенка защитной агрессивности или подражания модели поведения родителей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ребенок часто конфликтует, дерется, на занятиях и урок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рикивает и т. п.; применяет агрессивную модель поведения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с14"/>
          <p:cNvPicPr/>
          <p:nvPr/>
        </p:nvPicPr>
        <p:blipFill>
          <a:blip r:embed="rId1"/>
          <a:stretch/>
        </p:blipFill>
        <p:spPr>
          <a:xfrm>
            <a:off x="5715000" y="2071800"/>
            <a:ext cx="3168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42960"/>
            <a:ext cx="468648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Родители примен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ишком сур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соотносимые с проступк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каз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агрессивности у ребенка повышается, возрастает готовность к агрессивным действия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реактивной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(ответной) агрессивности в более старшем возрасте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явления защитной агресс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0ZPB1CAJXJ00DCA15MI84CAJQBVT2CARPCB9TCAJFEDEOCA4HB9T3CAM7TNVFCAD122G3CAP4ZNF8CAK0FG8ZCAQ9DK9NCAL2JOF7CA5PWNWJCAGTC8ZPCAK58G36CAMC9GRICAKYGJGGCA18F72NCA8NG795"/>
          <p:cNvPicPr/>
          <p:nvPr/>
        </p:nvPicPr>
        <p:blipFill>
          <a:blip r:embed="rId1"/>
          <a:stretch/>
        </p:blipFill>
        <p:spPr>
          <a:xfrm>
            <a:off x="5429160" y="1357200"/>
            <a:ext cx="3313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928800"/>
            <a:ext cx="440064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обращают вним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агрессивное поведение, вспыльчивость ребенка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контролируют его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все­дозволенность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агрессивности в дальнейшем как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типичной поведенчес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1"/>
          <p:cNvPicPr/>
          <p:nvPr/>
        </p:nvPicPr>
        <p:blipFill>
          <a:blip r:embed="rId1"/>
          <a:stretch/>
        </p:blipFill>
        <p:spPr>
          <a:xfrm>
            <a:off x="4929120" y="2714760"/>
            <a:ext cx="3886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9968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д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ребенк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ност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самостоятельному выбо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позволяют ребенку заявить о себе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рещ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ые форм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ения детского гне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ребенок избегает открытого проявления гнева, систематически подавляет свои эмоции =&gt; деструктивная агрессивность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насмешки над окружающим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буждение к агрессивным действиям других,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воровство, внезапные вспышки гн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Users\а\Pictures\1.jpg"/>
          <p:cNvPicPr/>
          <p:nvPr/>
        </p:nvPicPr>
        <p:blipFill>
          <a:blip r:embed="rId1"/>
          <a:stretch/>
        </p:blipFill>
        <p:spPr>
          <a:xfrm>
            <a:off x="2071800" y="3929040"/>
            <a:ext cx="4929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760" y="42876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яют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окружающим в присутствии ребен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отрицательно высказываются по поводу соседей по коммунальной квартире или по поводу пе­дагогического стиля в детском саду и т. д.) =&gt; у ребенка закрепляется уверенность, что окружающие люди являются виновниками всех их бед =&gt; вероятно, что дошкольник возьмет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эту модель за осно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своего дальней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повед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я агр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06317_20020329122458"/>
          <p:cNvPicPr/>
          <p:nvPr/>
        </p:nvPicPr>
        <p:blipFill>
          <a:blip r:embed="rId1"/>
          <a:stretch/>
        </p:blipFill>
        <p:spPr>
          <a:xfrm>
            <a:off x="4500720" y="3571920"/>
            <a:ext cx="3857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1:17:11Z</dcterms:created>
  <dc:creator>*</dc:creator>
  <dc:description/>
  <dc:language>en-US</dc:language>
  <cp:lastModifiedBy>Пользователь Windows</cp:lastModifiedBy>
  <dcterms:modified xsi:type="dcterms:W3CDTF">2016-11-03T07:09:18Z</dcterms:modified>
  <cp:revision>18</cp:revision>
  <dc:subject/>
  <dc:title>Игры в тигры. </dc:title>
</cp:coreProperties>
</file>