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3B2-4D0C-4967-A77C-018C165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94B-6FEC-4327-A37B-7A9CC545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D6B-54E4-4EEC-BCC0-B3F33466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415-B3ED-471D-8BDA-ADFB1748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ADE-BC58-429E-BFD7-5A1A6A39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4B6-27B5-4985-B2DE-EFD7BB6F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FD5-20BE-45FF-A29A-CBAA657B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8114-2267-42FC-B399-4DF52B4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4736-9A00-4625-9594-94A8DBE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D8B0-1F4D-429D-8AE9-EE4F3475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427-2835-474C-8C60-F314180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49D-91E6-4B30-AFAA-C19C0ECF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C163-207E-40D1-960C-9762D7B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7C90-0B57-4FBA-A2A7-0428C37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2EEA-D6B4-4468-8499-7F0B9D2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9AF-7F69-47A0-B6AB-6B21B8DA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C9E-7037-4364-BD3D-C43A12D9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7C1-5BF0-4F8B-80BC-5BF4C7F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2FC-DC24-494A-B5C7-4C58B16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091-4390-4DE8-B40B-317DF1C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4CE-11C2-434B-9AD1-4254CAA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71B-8F19-4C0C-A4F3-1532BEF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1BC-158B-45FD-89B6-8E68012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C00-9FE9-41C0-82F9-2A72C8E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33E6-A491-4811-9316-EA47A64217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5BDD-7990-40F8-899D-7826BEF4B2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8480" y="1052640"/>
            <a:ext cx="865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Особенности организа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уроков обществозн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 рамках реализаци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истемно-деятельностног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подхода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е проблемных задач на уроках истории и обществознания позволяет «оживить» уроки, сделать их более интересными, привлечь к работе большую часть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95480" y="78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80" y="1125360"/>
            <a:ext cx="922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ведений науки, не следует сообщать учащему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его надо привести к тому, чтобы он сам их находи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деятельно ими овладевал. Такой метод обу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илучший, самый трудный, самый ред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ностью объясняется редкость его примен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ложение, считывание, диктовка против него дет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бава. Зато такие приёмы никуда и не годятся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.Дистерве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 – это метод обучения, при котором ребёнок не получает знания в готовом виде, а добывает их сам в процессе собственной учебно-познава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58520"/>
            <a:ext cx="822960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субъектом – быть хозяином своей деятельнос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вить цел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ать зада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чать за результ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9720" y="549360"/>
            <a:ext cx="771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ю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но-деятельностного подх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итание личности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субъекта жизне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непреры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цело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минимак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вари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нцип творчеств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50760" y="6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ализация технологии деятельностного метод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ктическом преподавании обеспечи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дующей системой дидактических принцип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08404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еполаг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ализация ц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результатов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60" y="404640"/>
            <a:ext cx="91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истемно – деятельностном  обучении ребенку отводится ро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го субъекта, взаимодействующего с окружающ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едой. Это взаимодействие включает все этапы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ный метод обучения - есть совокупность действий, приемов, направленных на усвоение знаний через активную мыслительную деятельность, содержащую постановку и решение продуктивно – познавательных вопросов и задач, содержащих противореч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Этапы проблемного об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715320" indent="-71532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ff99"/>
                </a:solidFill>
                <a:latin typeface="Arial"/>
              </a:rPr>
              <a:t>Разработка проблемных вопро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1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опрос должен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5320" indent="-715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ожным, сопряженным с противореч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5320" indent="-715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влекательным, но соответствующим логике нау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5320" indent="-715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мким, способным охватить широкий круг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5320" indent="-715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едполагающим научный спо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5320" indent="-7153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здающий затруднения, необходимые для проблемн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. Перевод проблемного вопроса в    проблемную ситуацию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углубление проблемного вопро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поиск разных граней его ре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сопоставление разных вариантов отве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3440" y="277920"/>
            <a:ext cx="7623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III</a:t>
            </a:r>
            <a:r>
              <a:rPr b="1" lang="ru-RU" sz="4400" spc="-1" strike="noStrike">
                <a:solidFill>
                  <a:srgbClr val="99ff99"/>
                </a:solidFill>
                <a:latin typeface="Arial"/>
              </a:rPr>
              <a:t>. Формы решения проблемных ситуаци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кусс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ный сп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лемная лек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следовательская работа с историческими, правовыми документами, текстами, материалами проблемного на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50:54Z</dcterms:created>
  <dc:creator>ЗК</dc:creator>
  <dc:description/>
  <dc:language>en-US</dc:language>
  <cp:lastModifiedBy>ЗК</cp:lastModifiedBy>
  <dcterms:modified xsi:type="dcterms:W3CDTF">2012-11-15T10:23:46Z</dcterms:modified>
  <cp:revision>9</cp:revision>
  <dc:subject/>
  <dc:title>Особенности организации уроков обществознании в рамках реализации системно-деятельностного подхода </dc:title>
</cp:coreProperties>
</file>