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779-1987-4A33-851A-976598F2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645-4A19-45FC-BBE8-A7BEB11B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614-6F58-4967-BE81-A0DCD943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FBE-5D5B-49C5-BF7F-C5E23CBE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17E-0FDE-4071-B8AE-BAFFA5B2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819-DEA2-4043-8715-CFF4FE86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F039-3D69-47DF-99B8-0672E3C0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0CD-A7BC-4B9A-99E4-93B481D6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F3D-D86E-4323-ADDF-6EFC9797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776-AD3F-4B82-8F8C-8493317F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443-CE69-4384-868A-8D272C9E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FE5-98E6-4D4D-A1E9-42026835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364E-4FCC-4DD6-8EB9-9E19EF5462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kadnikova"/>
          <p:cNvPicPr/>
          <p:nvPr/>
        </p:nvPicPr>
        <p:blipFill>
          <a:blip r:embed="rId1"/>
          <a:stretch/>
        </p:blipFill>
        <p:spPr>
          <a:xfrm>
            <a:off x="4356000" y="692280"/>
            <a:ext cx="4208400" cy="54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0" y="2276640"/>
            <a:ext cx="428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стреча с  писателе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атьяной Владимировно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адников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46576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2014-08-03-35947"/>
          <p:cNvPicPr/>
          <p:nvPr/>
        </p:nvPicPr>
        <p:blipFill>
          <a:blip r:embed="rId2"/>
          <a:stretch/>
        </p:blipFill>
        <p:spPr>
          <a:xfrm>
            <a:off x="0" y="5283360"/>
            <a:ext cx="165564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275112,xcitefun-outstanding-clouds-manipulation-art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article125086"/>
          <p:cNvPicPr/>
          <p:nvPr/>
        </p:nvPicPr>
        <p:blipFill>
          <a:blip r:embed="rId2"/>
          <a:stretch/>
        </p:blipFill>
        <p:spPr>
          <a:xfrm>
            <a:off x="0" y="6399360"/>
            <a:ext cx="1116000" cy="458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article125086"/>
          <p:cNvPicPr/>
          <p:nvPr/>
        </p:nvPicPr>
        <p:blipFill>
          <a:blip r:embed="rId3"/>
          <a:stretch/>
        </p:blipFill>
        <p:spPr>
          <a:xfrm>
            <a:off x="1116000" y="6400800"/>
            <a:ext cx="107964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article125086"/>
          <p:cNvPicPr/>
          <p:nvPr/>
        </p:nvPicPr>
        <p:blipFill>
          <a:blip r:embed="rId4"/>
          <a:stretch/>
        </p:blipFill>
        <p:spPr>
          <a:xfrm>
            <a:off x="2195640" y="6392880"/>
            <a:ext cx="1081080" cy="465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article125086"/>
          <p:cNvPicPr/>
          <p:nvPr/>
        </p:nvPicPr>
        <p:blipFill>
          <a:blip r:embed="rId5"/>
          <a:stretch/>
        </p:blipFill>
        <p:spPr>
          <a:xfrm>
            <a:off x="3276720" y="6381720"/>
            <a:ext cx="9349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article125086"/>
          <p:cNvPicPr/>
          <p:nvPr/>
        </p:nvPicPr>
        <p:blipFill>
          <a:blip r:embed="rId6"/>
          <a:stretch/>
        </p:blipFill>
        <p:spPr>
          <a:xfrm>
            <a:off x="5148360" y="6413400"/>
            <a:ext cx="1079280" cy="44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article125086"/>
          <p:cNvPicPr/>
          <p:nvPr/>
        </p:nvPicPr>
        <p:blipFill>
          <a:blip r:embed="rId7"/>
          <a:stretch/>
        </p:blipFill>
        <p:spPr>
          <a:xfrm>
            <a:off x="8244000" y="6434280"/>
            <a:ext cx="900000" cy="42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article125086"/>
          <p:cNvPicPr/>
          <p:nvPr/>
        </p:nvPicPr>
        <p:blipFill>
          <a:blip r:embed="rId8"/>
          <a:stretch/>
        </p:blipFill>
        <p:spPr>
          <a:xfrm>
            <a:off x="4211640" y="6399360"/>
            <a:ext cx="1008000" cy="458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article125086"/>
          <p:cNvPicPr/>
          <p:nvPr/>
        </p:nvPicPr>
        <p:blipFill>
          <a:blip r:embed="rId9"/>
          <a:stretch/>
        </p:blipFill>
        <p:spPr>
          <a:xfrm>
            <a:off x="6227640" y="6431040"/>
            <a:ext cx="1008360" cy="42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article125086"/>
          <p:cNvPicPr/>
          <p:nvPr/>
        </p:nvPicPr>
        <p:blipFill>
          <a:blip r:embed="rId10"/>
          <a:stretch/>
        </p:blipFill>
        <p:spPr>
          <a:xfrm>
            <a:off x="7236000" y="6424560"/>
            <a:ext cx="1008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image?id=838130067883&amp;t=3&amp;plc=WEB&amp;tkn=*RCosORszYSF4dd-qBd2Ki16Gmuc"/>
          <p:cNvPicPr/>
          <p:nvPr/>
        </p:nvPicPr>
        <p:blipFill>
          <a:blip r:embed="rId1"/>
          <a:stretch/>
        </p:blipFill>
        <p:spPr>
          <a:xfrm>
            <a:off x="4211640" y="190440"/>
            <a:ext cx="324000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image?id=813813362603&amp;t=3&amp;plc=WEB&amp;tkn=*5XYfmENiEOIoLHFi0V4yWpj8riA"/>
          <p:cNvPicPr/>
          <p:nvPr/>
        </p:nvPicPr>
        <p:blipFill>
          <a:blip r:embed="rId2"/>
          <a:stretch/>
        </p:blipFill>
        <p:spPr>
          <a:xfrm>
            <a:off x="250920" y="190440"/>
            <a:ext cx="3529080" cy="1986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image?id=812649152427&amp;t=3&amp;plc=WEB&amp;tkn=*qNafy24RUE-VKDMCXI5lYNP1olA"/>
          <p:cNvPicPr/>
          <p:nvPr/>
        </p:nvPicPr>
        <p:blipFill>
          <a:blip r:embed="rId3"/>
          <a:stretch/>
        </p:blipFill>
        <p:spPr>
          <a:xfrm>
            <a:off x="5651640" y="4437000"/>
            <a:ext cx="3205080" cy="213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image?id=812241739179&amp;t=3&amp;plc=WEB&amp;tkn=*HXVn8PKpp8p0drx4KCrINEWCWl0"/>
          <p:cNvPicPr/>
          <p:nvPr/>
        </p:nvPicPr>
        <p:blipFill>
          <a:blip r:embed="rId4"/>
          <a:stretch/>
        </p:blipFill>
        <p:spPr>
          <a:xfrm>
            <a:off x="1908000" y="4414680"/>
            <a:ext cx="3310200" cy="2206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image?id=804819604139&amp;t=3&amp;plc=WEB&amp;tkn=*az6UhwopYsxa-GhdVZV6mZQRUak"/>
          <p:cNvPicPr/>
          <p:nvPr/>
        </p:nvPicPr>
        <p:blipFill>
          <a:blip r:embed="rId5"/>
          <a:stretch/>
        </p:blipFill>
        <p:spPr>
          <a:xfrm>
            <a:off x="4643280" y="2278080"/>
            <a:ext cx="3600720" cy="2027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image?id=851546399403&amp;t=3&amp;plc=WEB&amp;tkn=*UcMvBkiGVfbGeQ9p5AJE80f3Mho"/>
          <p:cNvPicPr/>
          <p:nvPr/>
        </p:nvPicPr>
        <p:blipFill>
          <a:blip r:embed="rId6"/>
          <a:stretch/>
        </p:blipFill>
        <p:spPr>
          <a:xfrm>
            <a:off x="1187280" y="2278080"/>
            <a:ext cx="30607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3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3" descr="image?id=851546404011&amp;t=3&amp;plc=WEB&amp;tkn=*UNabDjJYGJRN31RLX93Wm8gfI78"/>
          <p:cNvPicPr/>
          <p:nvPr/>
        </p:nvPicPr>
        <p:blipFill>
          <a:blip r:embed="rId1"/>
          <a:stretch/>
        </p:blipFill>
        <p:spPr>
          <a:xfrm>
            <a:off x="4932360" y="3500280"/>
            <a:ext cx="4032360" cy="3167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7"/>
          <p:cNvSpPr/>
          <p:nvPr/>
        </p:nvSpPr>
        <p:spPr>
          <a:xfrm>
            <a:off x="505620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0" descr="image?id=771326866347&amp;t=3&amp;plc=WEB&amp;tkn=*PL8jVTjtpvUtOYwOy59hWV-sGv4"/>
          <p:cNvPicPr/>
          <p:nvPr/>
        </p:nvPicPr>
        <p:blipFill>
          <a:blip r:embed="rId2"/>
          <a:stretch/>
        </p:blipFill>
        <p:spPr>
          <a:xfrm>
            <a:off x="272880" y="260280"/>
            <a:ext cx="4370400" cy="6337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image?id=851546398635&amp;t=3&amp;plc=WEB&amp;tkn=*q4mH0s0jGSmO5xyyWo-A-VqUez0"/>
          <p:cNvPicPr/>
          <p:nvPr/>
        </p:nvPicPr>
        <p:blipFill>
          <a:blip r:embed="rId3"/>
          <a:stretch/>
        </p:blipFill>
        <p:spPr>
          <a:xfrm>
            <a:off x="4932360" y="260280"/>
            <a:ext cx="39607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image?id=591009191083&amp;t=3&amp;plc=WEB&amp;tkn=*r_kJKb3lZEsNGxuM1luMT-91Jf4"/>
          <p:cNvPicPr/>
          <p:nvPr/>
        </p:nvPicPr>
        <p:blipFill>
          <a:blip r:embed="rId1"/>
          <a:stretch/>
        </p:blipFill>
        <p:spPr>
          <a:xfrm>
            <a:off x="4284720" y="260280"/>
            <a:ext cx="4606920" cy="3075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image?id=581642363051&amp;t=3&amp;plc=WEB&amp;tkn=*4ICotxMF2-EOa1_xtbk_bsU0QAQ"/>
          <p:cNvPicPr/>
          <p:nvPr/>
        </p:nvPicPr>
        <p:blipFill>
          <a:blip r:embed="rId2"/>
          <a:stretch/>
        </p:blipFill>
        <p:spPr>
          <a:xfrm>
            <a:off x="2916360" y="3522600"/>
            <a:ext cx="5976720" cy="3122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image?id=587193437611&amp;t=3&amp;plc=WEB&amp;tkn=*PE7Dfll23OP3FJkUdBCJrbrW5IE"/>
          <p:cNvPicPr/>
          <p:nvPr/>
        </p:nvPicPr>
        <p:blipFill>
          <a:blip r:embed="rId3"/>
          <a:stretch/>
        </p:blipFill>
        <p:spPr>
          <a:xfrm>
            <a:off x="179280" y="212760"/>
            <a:ext cx="3888000" cy="2592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image?id=587193439403&amp;t=3&amp;plc=WEB&amp;tkn=*qSWXreqXQOVGy8Zp3wgMQf-A1j4"/>
          <p:cNvPicPr/>
          <p:nvPr/>
        </p:nvPicPr>
        <p:blipFill>
          <a:blip r:embed="rId4"/>
          <a:stretch/>
        </p:blipFill>
        <p:spPr>
          <a:xfrm>
            <a:off x="179280" y="2924280"/>
            <a:ext cx="24987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frogs-fancy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042920" y="1557360"/>
            <a:ext cx="727416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аз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ак лягушка прыгать научилась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1T18:05:42Z</dcterms:created>
  <dc:creator>User</dc:creator>
  <dc:description/>
  <dc:language>en-US</dc:language>
  <cp:lastModifiedBy>User</cp:lastModifiedBy>
  <dcterms:modified xsi:type="dcterms:W3CDTF">2017-11-07T17:18:48Z</dcterms:modified>
  <cp:revision>29</cp:revision>
  <dc:subject/>
  <dc:title>Слайд 1</dc:title>
</cp:coreProperties>
</file>