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C89-AE9C-4FDA-8429-22EBE721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D9A4-CEDC-4E54-AD43-CAC4FD97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8E5D-BE45-4439-85E0-5F981BA2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A0C-EF2A-4D0B-AB26-B990FD3A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8CFFB-C401-41F0-9D98-06701E24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566E1-4043-43FB-BBD7-74B64CCE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202F1-A9A7-4EA2-840D-9B0FDF0F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BB7DA-5D95-4D4C-8016-5020CE0A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EAA54-A9AB-4EC7-B095-DBCC90A7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B8DE5-BBDA-4FBF-912F-D8460CE4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800FF-D056-4B8A-9742-A18D034F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D02-B3C5-47F4-ABEE-D884842F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5F11F-5873-414E-8202-84E9253C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4444E-3BE6-429D-82C1-B67C4DB1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F640F-C868-435D-BDE5-78515720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8A7C2-5AC8-4E14-B5FB-C87BED8B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05E19-1E01-406A-B9C8-3DC037C6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BB5-6A99-4CC4-97BE-9CA06850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F73-4D1C-4CB6-916D-6F72E69F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8ECF-B35A-4738-8F27-6B971193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42C-6CA0-4CA3-BCBB-DFF5563F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BDAC-BB76-4F3D-8F91-46FCC6A3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591-6E48-4ADC-82FB-EB1E76D9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B15-3470-45AD-92CB-699B70EC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4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6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8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9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10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1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2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3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4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5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C88F-9D9A-4BB4-B08E-57EA7331AF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8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29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31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7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8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9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10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5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3798-EB4F-4BBD-8093-C13B4314A02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elen11.narod.ru/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Ураганы, бури, смерчи</a:t>
            </a: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348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зентацию подготовил учит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сланская СО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 ОБЖ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овалов Русл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осле урагана, бури, смерч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удьте осторожны, обходя оборванные пров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асайтесь поваленных деревьев, раскачивающихся ставен, вывесок, транспарант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ечки газа в доме, нарушений в электросети (до проверки пользуйтесь электрическими фонаря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ьзоваться электроприборами можно только после того, как они будут просушены и провере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буря сопровождается грозой, избегайте поражения электрическими разряд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6" descr="Clip_11"/>
          <p:cNvPicPr/>
          <p:nvPr/>
        </p:nvPicPr>
        <p:blipFill>
          <a:blip r:embed="rId1"/>
          <a:stretch/>
        </p:blipFill>
        <p:spPr>
          <a:xfrm>
            <a:off x="5146560" y="1600200"/>
            <a:ext cx="3040200" cy="2171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Clip_15"/>
          <p:cNvPicPr/>
          <p:nvPr/>
        </p:nvPicPr>
        <p:blipFill>
          <a:blip r:embed="rId2"/>
          <a:stretch/>
        </p:blipFill>
        <p:spPr>
          <a:xfrm>
            <a:off x="5146560" y="3924360"/>
            <a:ext cx="30402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оследств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дствиями ураганов бурь и смерчей являются наводнения, разрушения зданий, нарушение условий жизнедеятельности насе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7" descr="Clip_16"/>
          <p:cNvPicPr/>
          <p:nvPr/>
        </p:nvPicPr>
        <p:blipFill>
          <a:blip r:embed="rId1"/>
          <a:stretch/>
        </p:blipFill>
        <p:spPr>
          <a:xfrm>
            <a:off x="5146560" y="1600200"/>
            <a:ext cx="3040200" cy="2171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lip_13"/>
          <p:cNvPicPr/>
          <p:nvPr/>
        </p:nvPicPr>
        <p:blipFill>
          <a:blip r:embed="rId2"/>
          <a:stretch/>
        </p:blipFill>
        <p:spPr>
          <a:xfrm>
            <a:off x="5146560" y="3924360"/>
            <a:ext cx="30402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оследств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щные ураганы с дождями, бури и смерчи нередко приводят к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человеческим жертва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Повреждается большое количество общественных, хозяйственных и промышленных объектов и жилых домов. Ущерб может достигать млрд. руб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Clip_14"/>
          <p:cNvPicPr/>
          <p:nvPr/>
        </p:nvPicPr>
        <p:blipFill>
          <a:blip r:embed="rId2"/>
          <a:stretch/>
        </p:blipFill>
        <p:spPr>
          <a:xfrm>
            <a:off x="5146560" y="1600200"/>
            <a:ext cx="3040200" cy="2171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Clip_10"/>
          <p:cNvPicPr/>
          <p:nvPr/>
        </p:nvPicPr>
        <p:blipFill>
          <a:blip r:embed="rId3"/>
          <a:stretch/>
        </p:blipFill>
        <p:spPr>
          <a:xfrm>
            <a:off x="5146560" y="3924360"/>
            <a:ext cx="30402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Лето 2002 г. Крымское побережье.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вартирах выбило стекла и двери, с сотен домов сорвало крыши. Ветер валил деревья, гнул светофоры и опоры уличного освещения, словно с игрушками расправлялся с газетными киосками и продовольственными ларьками. Вышли из строя электро и теплоснабжение. Люди оказались без света, воды и тепла. Замолчали телевидение и радиовещание. Нельзя было передать населению нужную информацию. Сошедшие с гор сели смыли в море авто кемпинги вместе с машинами, палатками и людь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3" descr="Clip"/>
          <p:cNvPicPr/>
          <p:nvPr/>
        </p:nvPicPr>
        <p:blipFill>
          <a:blip r:embed="rId1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тог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иболее распространенными стихийными бедствиями в Европе являются бури, ураганы и как последствия - наводнения. В пересчете на экономические потери и объемы последующих страховых выплат ураганы и наводнения – наиболее финансово значимые. Ураганы “Лота” и “Мартин”, прошедшие в декабре 1999 года, нанесли ущерб, оцениваемый в 5 млрд. евро, повредив сельскохозяйственные культуры, леса и инфраструктуру населенных пунк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Clip_21"/>
          <p:cNvPicPr/>
          <p:nvPr/>
        </p:nvPicPr>
        <p:blipFill>
          <a:blip r:embed="rId1"/>
          <a:stretch/>
        </p:blipFill>
        <p:spPr>
          <a:xfrm>
            <a:off x="4648320" y="1822320"/>
            <a:ext cx="403848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готовить конспект изученного   урока используя следующую  схе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24000" y="2997360"/>
          <a:ext cx="8640720" cy="334008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58920"/>
                <a:gridCol w="2160720"/>
              </a:tblGrid>
              <a:tr h="17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родные явл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йствия при угрозе возникнов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йствия при возникновении Ч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йствия (опасности) после Ч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ритория любого региона подвержена комплексному воздействию десятков опасных природных явлений. Наиболее характерными природными явлениями по повторяемости в зависимости от времени года и приводящими к возникновению ЧС являются ураганы, бури и смерчи. Рассмотрим эти яв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фото вид бури с космо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Clip_20"/>
          <p:cNvPicPr/>
          <p:nvPr/>
        </p:nvPicPr>
        <p:blipFill>
          <a:blip r:embed="rId1"/>
          <a:stretch/>
        </p:blipFill>
        <p:spPr>
          <a:xfrm>
            <a:off x="4648320" y="1854360"/>
            <a:ext cx="40384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Урага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аган – это атмосферный вихрь большого размера со скоростью ветра до 120 км/ч, а в приземистом слое до 200 км/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6" descr="Clip_18"/>
          <p:cNvPicPr/>
          <p:nvPr/>
        </p:nvPicPr>
        <p:blipFill>
          <a:blip r:embed="rId1"/>
          <a:stretch/>
        </p:blipFill>
        <p:spPr>
          <a:xfrm>
            <a:off x="4648320" y="2405160"/>
            <a:ext cx="403848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Бур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р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разновидность ураганов и штормов. Ураганы и бури различаются по скорости ветра, которая при урагане достигает 120 км/ч и более, а при бур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 км/ч. Убытки от урагана больше, чем от бур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Clip_2"/>
          <p:cNvPicPr/>
          <p:nvPr/>
        </p:nvPicPr>
        <p:blipFill>
          <a:blip r:embed="rId1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мерч – атмосферный вихрь, возникающий в грозовом облаке и распространяющийся вниз до самой земли в виде темного облачного рукава или хобота диаметром в десятки и сотни метров. Существует не долго, перемещаясь вместе с обла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мерч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5" name="Picture 7" descr="Clip_4"/>
          <p:cNvPicPr/>
          <p:nvPr/>
        </p:nvPicPr>
        <p:blipFill>
          <a:blip r:embed="rId1"/>
          <a:stretch/>
        </p:blipFill>
        <p:spPr>
          <a:xfrm>
            <a:off x="5146560" y="1600200"/>
            <a:ext cx="3040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пасность при данных явлениях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ушение дорожных и мостовых покры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ушение сооружений и зд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тящие с большой скоростью предм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фото последствия ураг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6" descr="Clip_12"/>
          <p:cNvPicPr/>
          <p:nvPr/>
        </p:nvPicPr>
        <p:blipFill>
          <a:blip r:embed="rId1"/>
          <a:stretch/>
        </p:blipFill>
        <p:spPr>
          <a:xfrm>
            <a:off x="4648320" y="2405160"/>
            <a:ext cx="403848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3e3ff"/>
                </a:solidFill>
                <a:latin typeface="Arial"/>
              </a:rPr>
              <a:t>Как действовать перед ураганом, бурей, смерчем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ле получения сигнала о штормовом предупреждении преступайте к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креплению крыши, печных и вентиляционных труб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делыванию окон в чердачных помещениях (ставнями, щитами из досок или фанеры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вобождению балконов и территории двора от пожароопасных предме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 сбору запасов продуктов и воды на 2-3 суток на случай эвакуации в безопасный район, а также автономных источников освещения (фонарей, керосиновых ламп, свечей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еходите из легких построек в более прочные здания или в защитные сооружения гражданской оборон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9" descr="Clip_3"/>
          <p:cNvPicPr/>
          <p:nvPr/>
        </p:nvPicPr>
        <p:blipFill>
          <a:blip r:embed="rId1"/>
          <a:stretch/>
        </p:blipFill>
        <p:spPr>
          <a:xfrm>
            <a:off x="5286240" y="4149720"/>
            <a:ext cx="2899080" cy="2171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Clip_7"/>
          <p:cNvPicPr/>
          <p:nvPr/>
        </p:nvPicPr>
        <p:blipFill>
          <a:blip r:embed="rId2"/>
          <a:stretch/>
        </p:blipFill>
        <p:spPr>
          <a:xfrm>
            <a:off x="755640" y="4149720"/>
            <a:ext cx="32497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3e3ff"/>
                </a:solidFill>
                <a:latin typeface="Arial"/>
              </a:rPr>
              <a:t>Как действовать во время урагана, бури, смерча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здании, отойдите от окон и займите безопасное место у стен внутренних помещ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гасите огонь в печах, отключите электроэнергию, закройте краны на газовых сетя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темное время суток используйте фонари, лампы, свеч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ключите радиоприемник для получения информации управления ГО и ЧС и комиссии по чрезвычайным ситуация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 возможности, находитесь в заглубленном укрытии, в убежищах,  в погребах и т. п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улицах населенного пункта, держитесь как можно дальше от легких построек, зданий, мостов, эстакад, линий электропередач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ля защиты от летящих обломков и осколков стекла используйте листы фанеры, картонные и пластмассовые ящики, доски и другие подручные средств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71640" y="4581360"/>
            <a:ext cx="32400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6" name="Picture 7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364000" y="4581360"/>
            <a:ext cx="295308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3e3ff"/>
                </a:solidFill>
                <a:latin typeface="Arial"/>
              </a:rPr>
              <a:t>Как действовать во время урагана, бури, смерча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ступлении сигнала о приближении смерча необходимо немедленно спуститься в укрытие, подвал дома или погреб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смерч застает вас на открытой местности, укрывайтесь на дне дорожного кювета, в ямах, рвах, узких оврагах, плотно прижимаясь к зем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оставайтесь в автомобиле, выходите из него и укрывайтесь, как указана выш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6" descr="Clip_23"/>
          <p:cNvPicPr/>
          <p:nvPr/>
        </p:nvPicPr>
        <p:blipFill>
          <a:blip r:embed="rId1"/>
          <a:stretch/>
        </p:blipFill>
        <p:spPr>
          <a:xfrm>
            <a:off x="5931000" y="1600200"/>
            <a:ext cx="1473120" cy="2171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Clip_24"/>
          <p:cNvPicPr/>
          <p:nvPr/>
        </p:nvPicPr>
        <p:blipFill>
          <a:blip r:embed="rId2"/>
          <a:stretch/>
        </p:blipFill>
        <p:spPr>
          <a:xfrm>
            <a:off x="5140440" y="3924360"/>
            <a:ext cx="30542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2:09:24Z</dcterms:created>
  <dc:creator>Z</dc:creator>
  <dc:description/>
  <dc:language>en-US</dc:language>
  <cp:lastModifiedBy>Пользователь Windows</cp:lastModifiedBy>
  <dcterms:modified xsi:type="dcterms:W3CDTF">2018-02-07T09:11:56Z</dcterms:modified>
  <cp:revision>18</cp:revision>
  <dc:subject/>
  <dc:title>ОБЖ 7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