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E84-94CF-4302-8AE4-D9F3020E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1FE-3F14-4822-88D2-BCD19143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3F3-F583-4B5D-8399-437D2C2E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4F1-9704-479F-9336-B29250E1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9323-1100-482E-9822-7A5C3A45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61E2-0804-4856-8542-9341B4B8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16E6-C994-40E1-AC53-564D4BC9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6768-6DF2-4A51-9B22-962F3CC5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0353-0020-4525-95AF-917AABE8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6CEA-2D48-420F-8C53-4CBBF4E2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B5E2-39E4-4F86-A527-7ED0D73F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0B0-04BF-4387-A019-735F2138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DB2C-7DAD-46D5-A3F7-A03710E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8167-6341-4669-B05C-48A99F4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0FFE-DC5D-47C3-A96F-DF63AA47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8097-5C48-4C9C-A082-EBBBD549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5C6F-E0F5-4588-BDBC-2A3C4758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E73-A395-4EC3-8957-842AACCF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F1F-A259-4ED9-B24F-DA7BF457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AAC-0271-4194-8680-2303163E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D4D-F26C-4769-80DD-C7D2419F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EA7-D4FE-4E94-83F2-3A771766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0A7-4D0A-492C-8766-A49150AF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E6B-615B-49D9-B94C-F2B14563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0D9A-598F-45F1-A0FA-654BC50D268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570-FC37-4A2E-9C35-6E6ECEB5B47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1085760"/>
            <a:ext cx="9352080" cy="299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unycomp.chat.ru/img/acer_aspire_t310.jpg"/>
          <p:cNvPicPr/>
          <p:nvPr/>
        </p:nvPicPr>
        <p:blipFill>
          <a:blip r:embed="rId2"/>
          <a:stretch/>
        </p:blipFill>
        <p:spPr>
          <a:xfrm>
            <a:off x="5429160" y="3838680"/>
            <a:ext cx="3524400" cy="30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1" descr=""/>
          <p:cNvPicPr/>
          <p:nvPr/>
        </p:nvPicPr>
        <p:blipFill>
          <a:blip r:embed="rId1"/>
          <a:stretch/>
        </p:blipFill>
        <p:spPr>
          <a:xfrm>
            <a:off x="1573200" y="426960"/>
            <a:ext cx="6040440" cy="13226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1785960" y="2571840"/>
            <a:ext cx="671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Текстовая информация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Числовая информация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Графическая информация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Звуковая информация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Видеоинформация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57120" y="1162080"/>
            <a:ext cx="8358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тика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 – это  наука, занимающаяся изучением всевозможных способов передачи, хранения и обработки информации с помощью компьюте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28760" y="881280"/>
            <a:ext cx="7358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Calibri"/>
              </a:rPr>
              <a:t>Компьютер</a:t>
            </a:r>
            <a:r>
              <a:rPr b="0" lang="ru-RU" sz="3200" spc="-1" strike="noStrike">
                <a:solidFill>
                  <a:srgbClr val="336600"/>
                </a:solidFill>
                <a:latin typeface="Times New Roman"/>
                <a:ea typeface="Calibri"/>
              </a:rPr>
              <a:t> увеличивает возможности человека при работе с информацией: 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Calibri"/>
              </a:rPr>
              <a:t>помогает </a:t>
            </a:r>
            <a:r>
              <a:rPr b="0" lang="ru-RU" sz="3200" spc="-1" strike="noStrike">
                <a:solidFill>
                  <a:srgbClr val="336600"/>
                </a:solidFill>
                <a:latin typeface="Times New Roman"/>
                <a:ea typeface="Calibri"/>
              </a:rPr>
              <a:t>хранить, обрабатывать и передавать информ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Calibri"/>
              </a:rPr>
              <a:t>Данные</a:t>
            </a:r>
            <a:r>
              <a:rPr b="0" lang="ru-RU" sz="3200" spc="-1" strike="noStrike">
                <a:solidFill>
                  <a:srgbClr val="336600"/>
                </a:solidFill>
                <a:latin typeface="Times New Roman"/>
                <a:ea typeface="Calibri"/>
              </a:rPr>
              <a:t> – это информация, представленная в форме, пригодной для хранения, передачи и обработки компьют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53360" y="359280"/>
            <a:ext cx="91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Для чего человеку нужен компьютер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Таблица 2" descr=""/>
          <p:cNvPicPr/>
          <p:nvPr/>
        </p:nvPicPr>
        <p:blipFill>
          <a:blip r:embed="rId1"/>
          <a:stretch/>
        </p:blipFill>
        <p:spPr>
          <a:xfrm>
            <a:off x="-60480" y="1579680"/>
            <a:ext cx="941256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0" y="-142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Аналогия  между функциями органов человека и функциями устройств компьюте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1" descr=""/>
          <p:cNvPicPr/>
          <p:nvPr/>
        </p:nvPicPr>
        <p:blipFill>
          <a:blip r:embed="rId1"/>
          <a:stretch/>
        </p:blipFill>
        <p:spPr>
          <a:xfrm>
            <a:off x="2786040" y="1079640"/>
            <a:ext cx="4108320" cy="194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Учитель\Рабочий стол\АЛЕНА\1сентября\815d75e96c3a.png"/>
          <p:cNvPicPr/>
          <p:nvPr/>
        </p:nvPicPr>
        <p:blipFill>
          <a:blip r:embed="rId2"/>
          <a:stretch/>
        </p:blipFill>
        <p:spPr>
          <a:xfrm>
            <a:off x="0" y="4280040"/>
            <a:ext cx="2801880" cy="2577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2643120" y="2752200"/>
            <a:ext cx="535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Calibri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Calibri"/>
              </a:rPr>
              <a:t>1.Информатика: Учебник для 5 класса. Изд. 3-е, испр. / Л.Л. Босова. - М.: БИНОМ. Лаборатория знаний, 2005. - 191 с.: ил.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Calibri"/>
              </a:rPr>
              <a:t>2.Клипарт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Calibri"/>
              </a:rPr>
              <a:t>http://shkola-abv.ru/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714760" y="507204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http://s56.radikal.ru/i154/0811/c9/ad3a789759de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642960" y="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ехника безопасности и организация рабочего мес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85840" y="2088720"/>
            <a:ext cx="86439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  <a:ea typeface="Calibri"/>
              </a:rPr>
              <a:t>ТБ в кабинете информати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ходите в кабинет спокойно, осторожно, не торопясь, не толкаясь, не задевая мебель, оборудование и только с разрешения уч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входите в верхней и влажной одеж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включайте самостоятельно щит электро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85840" y="1657800"/>
            <a:ext cx="86439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  <a:ea typeface="Calibri"/>
              </a:rPr>
              <a:t>ТБ перед началом рабо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змещайте на рабочем месте посторонние предме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бедитесь в отсутствии видимых повреждений аппа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42920" y="27000"/>
            <a:ext cx="900108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  <a:ea typeface="Calibri"/>
              </a:rPr>
              <a:t>ТБ во время работы на ПК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йте и перезагружайте ПК только с разрешения 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трогайте питающие провода и разъёмы соединительных каб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рикасайтесь к экрану и тыльной стороне монит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йте на клавиатуре чистыми, сухими ру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лавиши нажимайте легко, не задерживая их в нажатом положении; не допускайте резких ударов по клавиш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вставайте с рабочего места, когда входят в кабинет посети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еремещайтесь по кабинету без разрешения 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ытайтесь самостоятельно устранять неисправности в работе аппара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неполадках и сбоях в работе ПК немедленно прекратите работу и сообщите об этом учит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85840" y="1424880"/>
            <a:ext cx="8429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  <a:ea typeface="Calibri"/>
              </a:rPr>
              <a:t>ТБ после окончания работы на ПК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йдите из прикладных програм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разрешения учителя выключите ПК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едите порядок на рабочем сто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тавьте стул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дайте рабочее место учител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657440"/>
            <a:ext cx="9144000" cy="177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sht-rajvo.narod.ru/photo/comp.JPG"/>
          <p:cNvPicPr/>
          <p:nvPr/>
        </p:nvPicPr>
        <p:blipFill>
          <a:blip r:embed="rId2"/>
          <a:stretch/>
        </p:blipFill>
        <p:spPr>
          <a:xfrm>
            <a:off x="4714920" y="3443400"/>
            <a:ext cx="4429080" cy="34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Учитель\Рабочий стол\ad3a789759de.png"/>
          <p:cNvPicPr/>
          <p:nvPr/>
        </p:nvPicPr>
        <p:blipFill>
          <a:blip r:embed="rId3"/>
          <a:stretch/>
        </p:blipFill>
        <p:spPr>
          <a:xfrm>
            <a:off x="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3080" y="2143080"/>
            <a:ext cx="4929120" cy="492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1schoolboy61-med"/>
          <p:cNvPicPr/>
          <p:nvPr/>
        </p:nvPicPr>
        <p:blipFill>
          <a:blip r:embed="rId2"/>
          <a:stretch/>
        </p:blipFill>
        <p:spPr>
          <a:xfrm>
            <a:off x="0" y="5419800"/>
            <a:ext cx="1922400" cy="1438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aabc"/>
          <p:cNvPicPr/>
          <p:nvPr/>
        </p:nvPicPr>
        <p:blipFill>
          <a:blip r:embed="rId3"/>
          <a:stretch/>
        </p:blipFill>
        <p:spPr>
          <a:xfrm>
            <a:off x="7072200" y="642960"/>
            <a:ext cx="1600200" cy="1652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D07153_"/>
          <p:cNvPicPr/>
          <p:nvPr/>
        </p:nvPicPr>
        <p:blipFill>
          <a:blip r:embed="rId4"/>
          <a:stretch/>
        </p:blipFill>
        <p:spPr>
          <a:xfrm>
            <a:off x="142920" y="428760"/>
            <a:ext cx="1646280" cy="180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aaax"/>
          <p:cNvPicPr/>
          <p:nvPr/>
        </p:nvPicPr>
        <p:blipFill>
          <a:blip r:embed="rId5"/>
          <a:stretch/>
        </p:blipFill>
        <p:spPr>
          <a:xfrm>
            <a:off x="7143840" y="4876920"/>
            <a:ext cx="18414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Учитель\Рабочий стол\АЛЕНА\Клирпарт Дети\0_74f6b_962823ac_S.png"/>
          <p:cNvPicPr/>
          <p:nvPr/>
        </p:nvPicPr>
        <p:blipFill>
          <a:blip r:embed="rId6"/>
          <a:stretch/>
        </p:blipFill>
        <p:spPr>
          <a:xfrm>
            <a:off x="3857760" y="714240"/>
            <a:ext cx="1571400" cy="169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Учитель\Рабочий стол\АЛЕНА\1сентября\b01b9c64ad3d.png"/>
          <p:cNvPicPr/>
          <p:nvPr/>
        </p:nvPicPr>
        <p:blipFill>
          <a:blip r:embed="rId7"/>
          <a:stretch/>
        </p:blipFill>
        <p:spPr>
          <a:xfrm>
            <a:off x="7072200" y="2571840"/>
            <a:ext cx="1897200" cy="2135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Учитель\Рабочий стол\АЛЕНА\1сентября\91b9dcc5be0b.png"/>
          <p:cNvPicPr/>
          <p:nvPr/>
        </p:nvPicPr>
        <p:blipFill>
          <a:blip r:embed="rId8"/>
          <a:stretch/>
        </p:blipFill>
        <p:spPr>
          <a:xfrm>
            <a:off x="214200" y="2928960"/>
            <a:ext cx="1428840" cy="1960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135720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формация. Что это такое и откуда она беретс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трелка вправо 10"/>
          <p:cNvSpPr/>
          <p:nvPr/>
        </p:nvSpPr>
        <p:spPr>
          <a:xfrm rot="1920600">
            <a:off x="1663200" y="2328840"/>
            <a:ext cx="1387440" cy="3888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7030a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Стрелка вправо 11"/>
          <p:cNvSpPr/>
          <p:nvPr/>
        </p:nvSpPr>
        <p:spPr>
          <a:xfrm>
            <a:off x="1881360" y="4054320"/>
            <a:ext cx="1387440" cy="38916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7030a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Стрелка вправо 12"/>
          <p:cNvSpPr/>
          <p:nvPr/>
        </p:nvSpPr>
        <p:spPr>
          <a:xfrm rot="8650800">
            <a:off x="5697000" y="2513160"/>
            <a:ext cx="1387800" cy="3888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7030a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трелка вправо 13"/>
          <p:cNvSpPr/>
          <p:nvPr/>
        </p:nvSpPr>
        <p:spPr>
          <a:xfrm rot="10800000">
            <a:off x="5500800" y="4000680"/>
            <a:ext cx="1387440" cy="3888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7030a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4"/>
          <p:cNvSpPr/>
          <p:nvPr/>
        </p:nvSpPr>
        <p:spPr>
          <a:xfrm rot="20061600">
            <a:off x="2211120" y="5624640"/>
            <a:ext cx="1388880" cy="3888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7030a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трелка вправо 15"/>
          <p:cNvSpPr/>
          <p:nvPr/>
        </p:nvSpPr>
        <p:spPr>
          <a:xfrm rot="12118200">
            <a:off x="5640480" y="5481360"/>
            <a:ext cx="1388880" cy="3888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7030a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трелка вправо 16"/>
          <p:cNvSpPr/>
          <p:nvPr/>
        </p:nvSpPr>
        <p:spPr>
          <a:xfrm rot="5400000">
            <a:off x="4259520" y="2454840"/>
            <a:ext cx="727200" cy="38916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7030a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38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gdefon.ru/wallpapers/363909_doma_zdaniya_park_lyudi_zelyonaya_trava_otdyx_prir_1920x12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" descr=""/>
          <p:cNvPicPr/>
          <p:nvPr/>
        </p:nvPicPr>
        <p:blipFill>
          <a:blip r:embed="rId2"/>
          <a:stretch/>
        </p:blipFill>
        <p:spPr>
          <a:xfrm>
            <a:off x="360360" y="2212920"/>
            <a:ext cx="8459640" cy="132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Учитель\Рабочий стол\АЛЕНА\Клирпарт Дети\79777758_large_Malchik3.png"/>
          <p:cNvPicPr/>
          <p:nvPr/>
        </p:nvPicPr>
        <p:blipFill>
          <a:blip r:embed="rId1"/>
          <a:stretch/>
        </p:blipFill>
        <p:spPr>
          <a:xfrm>
            <a:off x="-107172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2857680" y="174600"/>
            <a:ext cx="600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Глазами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 люди воспринимают зрительную (визуальную) информ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рганы слуха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 доставляют информацию в виде звуков (звуковая информац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рганы обоняния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 помогают человеку различать запахи (обонятельная информац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рганы вкуса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 несут информацию человеку о вкусе еды (вкусовая информац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рганы осязания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 позволяют человеку получать информацию, которая называется тактиль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48:40Z</dcterms:created>
  <dc:creator>Ольга Николаевна</dc:creator>
  <dc:description/>
  <dc:language>en-US</dc:language>
  <cp:lastModifiedBy>EM</cp:lastModifiedBy>
  <dcterms:modified xsi:type="dcterms:W3CDTF">2017-09-03T19:28:12Z</dcterms:modified>
  <cp:revision>25</cp:revision>
  <dc:subject/>
  <dc:title>Слайд 1</dc:title>
</cp:coreProperties>
</file>