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4B7EE-9D4D-49CC-90DF-28ED533578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59808-0D2B-4906-AEA6-1684817C5E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1473F-6FBA-4110-A901-AF101C7B6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F9C4-83E8-4899-A660-E90047958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0614-F55D-41B3-9429-D1851F5694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97FEC-3A12-4CF0-8EED-6E691AEF99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83243-CC3B-4160-BD7B-0D6AE9BAD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70DCF-074C-4D3C-BF24-3D364CBA28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EA24-24EF-437A-8A51-4D36D2A78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1A38D-507F-4FAC-BB2B-687DF1E68C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F09-DE56-4F70-B7A6-748984B0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22A-3C85-44F2-9750-B0E4426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905-A092-45EA-BC73-986FFCB4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E2B-3A2C-4662-BD6A-98FC1CD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FE0-D93F-45CA-B242-61E1AF66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C1C-B573-4ACD-83DF-9ECCD2A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7FD-E33B-4E34-8BD3-60469CB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355-623D-4C48-B2AC-9945283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5F3-1D4F-4CF3-87C9-FF72A54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C40-CD5E-4457-A966-41DCB45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96C-23F5-4CA3-8196-4E4234B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B97-7B1B-4D98-B16E-7F51F187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E1D36-5702-480E-842C-4C46EB0B38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81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ловные предложения в английском язы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340000" y="3108240"/>
            <a:ext cx="531648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84240"/>
            <a:ext cx="90709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53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ипы условных предлож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 flipV="1">
            <a:off x="1619280" y="1796760"/>
            <a:ext cx="1440000" cy="14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V="1">
            <a:off x="3600360" y="1796760"/>
            <a:ext cx="900360" cy="162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 flipH="1" flipV="1">
            <a:off x="6116760" y="1797120"/>
            <a:ext cx="906480" cy="180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H="1" flipV="1">
            <a:off x="7377120" y="1796760"/>
            <a:ext cx="1806480" cy="14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79280" y="325116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улевое услов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879640" y="360036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е I тип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580000" y="3610080"/>
            <a:ext cx="2340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е II тип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740720" y="3251160"/>
            <a:ext cx="287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е III тип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2160720" y="4044960"/>
            <a:ext cx="578772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3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улев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720" y="1914120"/>
            <a:ext cx="9575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ствует о реальных ф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+Present Simple + 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he temperatur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zero, the water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freez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сли температура равна нулю, вода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00% ис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216920" y="1996920"/>
            <a:ext cx="2682720" cy="26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I ти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800000"/>
            <a:ext cx="9720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в настоящем или буду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+Present Simple + Future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rain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not go to the park                      – Если идет дождь, я не пойду в парк                         (я знаю идет дождь или 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20760" y="3419640"/>
            <a:ext cx="2379600" cy="20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II ти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000" y="1800360"/>
            <a:ext cx="939636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альные ситуации в настоя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буду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+Past Simple + would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lot of money,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uld g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ravelling – Если бы у меня было много денег, я поехал бы путешествовать (но у мен их 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172200" y="2340000"/>
            <a:ext cx="30067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III ти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89964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альные ситуации в прош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f+Past Perfect + would/could/should/might+have+Ved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d go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to Egypt, 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uld                                   have learne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abic – Если бы я                            поехал в Египет, я бы мог выучить                             арабский язык (но я не поеха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63360" y="3419640"/>
            <a:ext cx="311940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3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Now try yourself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680000" y="1123920"/>
            <a:ext cx="5040360" cy="6435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34800" y="1619280"/>
            <a:ext cx="416592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ьте на вопросы используя условные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60360" y="5040360"/>
            <a:ext cx="34196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акому типу относятся эти предло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3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Now try yourself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39640"/>
            <a:ext cx="100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ведите на англий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ы она не потерялась, она бы пришла в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ты заболеешь, мы останемся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я увижу Мэри, то я скажу ей прав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ы вчера была хорошая погода, я бы пошел на пля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греть воду, она заки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ы хотите, я могу испечь то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ы они подождали, то увидели бы сал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280" y="94464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If you listened carefully, then you know how to use conditionals 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483160" y="3691080"/>
            <a:ext cx="3336840" cy="350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>Asus</dc:creator>
  <dc:description/>
  <dc:language>en-US</dc:language>
  <cp:lastModifiedBy>Asus</cp:lastModifiedBy>
  <dcterms:modified xsi:type="dcterms:W3CDTF">2017-06-09T14:42:34Z</dcterms:modified>
  <cp:revision>5</cp:revision>
  <dc:subject/>
  <dc:title>Conditionals</dc:title>
</cp:coreProperties>
</file>