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007D-EFB4-4C7B-8C9F-4BF3EF097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493-CD04-4016-903A-7386277B6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243-1DBC-4839-9738-C6D7E69A4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CA5-D1A3-40F1-BC79-08E6A3C55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761-AADF-4C46-AAC8-82A7D9762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DC26-E973-463B-A421-55B8378D5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3521-0778-4B2D-895E-81B912C32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028-3578-4816-BE29-F662A235A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492E-AF93-4B39-9360-A224A5E0B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01BA-CD47-426A-AC89-1A262E6F5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62A-4DD8-49B0-B448-AB6D1BC5C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7E12-65D8-46BE-854F-F4FAF76C9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D811-43FB-4A15-8C27-A2CF9F09A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25A-A282-434B-B9CE-D9B2B907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DB2-88E9-4D97-AFF1-2F1E96F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C49-9E3B-4D1D-8D1A-83C5CD41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760-2378-4F99-9122-5E675047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88E-CBE6-41D4-9D8A-64F90DE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C64-E2D2-4EC1-BFCD-CCB9C256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246-F71A-4C23-BB41-844C43D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847-F9DC-4488-9D98-CC0B8FF7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979-C1F5-47DF-92DC-E5950AE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3FE-5DFC-4B58-B2C1-352757C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6B4-B64D-465D-9F58-48271D2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B7C-308B-447C-9398-53DB3D4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A9DF-FF5D-45DE-88CC-AF7618260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nowwhiteposter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antasia-poster-1940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76360" y="2205000"/>
            <a:ext cx="619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олт Дисней - секреты успех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759640" y="4910040"/>
            <a:ext cx="330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у 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Есина Екатер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еница 5б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итель английского язы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ятаева Т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37280" y="63547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аранск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930320" y="476280"/>
            <a:ext cx="554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имназия №1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ородского округа Саранск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1042920" y="537300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Держать гордыню в уз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1444550787_d0a3d0bed0bbd182-d094d0b8d181d0bdd0b5d0b9"/>
          <p:cNvPicPr/>
          <p:nvPr/>
        </p:nvPicPr>
        <p:blipFill>
          <a:blip r:embed="rId1"/>
          <a:stretch/>
        </p:blipFill>
        <p:spPr>
          <a:xfrm>
            <a:off x="2268360" y="692280"/>
            <a:ext cx="465804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2115720" y="501264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12 принципов ани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scQ6g892QPGMkbkA2oF1_walt_disney_animation_studios_by_danchaos1-d73jicg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37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684360" y="50979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жатие и растяжение (Squash and stret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DMUHNzl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тказное движение (Anticipatio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)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z6yaG7r"/>
          <p:cNvPicPr/>
          <p:nvPr/>
        </p:nvPicPr>
        <p:blipFill>
          <a:blip r:embed="rId1"/>
          <a:stretch/>
        </p:blipFill>
        <p:spPr>
          <a:xfrm>
            <a:off x="324000" y="0"/>
            <a:ext cx="8640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03280" y="518724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Сценичность (Stag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V7atMM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611280" y="5184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рямо вперед и поза за позой 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traight ahead action and pose to pose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MY1mJsL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187280" y="4881960"/>
            <a:ext cx="67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квозное движение и захлест 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llow through and overlapping action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z6yaG7r"/>
          <p:cNvPicPr/>
          <p:nvPr/>
        </p:nvPicPr>
        <p:blipFill>
          <a:blip r:embed="rId1"/>
          <a:stretch/>
        </p:blipFill>
        <p:spPr>
          <a:xfrm>
            <a:off x="755640" y="333360"/>
            <a:ext cx="762012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501336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лавное начало и плавное окончание движения (Slow in and slow out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lfXVSlg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Дуги (</a:t>
            </a: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4800"/>
            </a:b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519240"/>
            <a:ext cx="640080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7G8yeop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971640" y="560844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ыразительная деталь (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Secondary 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4mMS5qW"/>
          <p:cNvPicPr/>
          <p:nvPr/>
        </p:nvPicPr>
        <p:blipFill>
          <a:blip r:embed="rId1"/>
          <a:stretch/>
        </p:blipFill>
        <p:spPr>
          <a:xfrm>
            <a:off x="900000" y="692280"/>
            <a:ext cx="76201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780000" y="1145880"/>
            <a:ext cx="47527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се наши мечты могут стать реаль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если у нас есть смелость следовать им до ко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олт Дис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disney_sig"/>
          <p:cNvPicPr/>
          <p:nvPr/>
        </p:nvPicPr>
        <p:blipFill>
          <a:blip r:embed="rId1"/>
          <a:stretch/>
        </p:blipFill>
        <p:spPr>
          <a:xfrm>
            <a:off x="179280" y="981000"/>
            <a:ext cx="374508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47640" y="5826240"/>
            <a:ext cx="640080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Тайминг (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imin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28" descr="ynnLZ6N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Утрирование (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Exaggeration)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nR5Nlg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116000" y="5204520"/>
            <a:ext cx="70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Крепкий профессиональный рисунок (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Solid Draw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2inAQZT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445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Привлекательность ( 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Appeal 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19" name="Picture 17" descr="pluto2"/>
          <p:cNvPicPr/>
          <p:nvPr/>
        </p:nvPicPr>
        <p:blipFill>
          <a:blip r:embed="rId1"/>
          <a:stretch/>
        </p:blipFill>
        <p:spPr>
          <a:xfrm>
            <a:off x="1258920" y="1700280"/>
            <a:ext cx="66261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ни успеха Уолта Диснея в его силе воли , смелости и настойчивости . Он не  сдавался даже когда поражение казалось неизбежным . Он верил в свои идеи и принимал разумные реш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ы анимации компании Дисней и сегодня успешно используются при создании мультфильм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2195640" y="1125360"/>
            <a:ext cx="4562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116000" y="3502080"/>
            <a:ext cx="46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бладатель 29 премий «Оскар», основатель первого в мире гигантского «Диснейленда», отец Микки Мауса и Дональда Дака – конечно же, это Уолт Дисн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Disney"/>
          <p:cNvPicPr/>
          <p:nvPr/>
        </p:nvPicPr>
        <p:blipFill>
          <a:blip r:embed="rId1"/>
          <a:stretch/>
        </p:blipFill>
        <p:spPr>
          <a:xfrm>
            <a:off x="826920" y="189000"/>
            <a:ext cx="6912000" cy="306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8971460_80th_Academy_Awards_ceremony_poster"/>
          <p:cNvPicPr/>
          <p:nvPr/>
        </p:nvPicPr>
        <p:blipFill>
          <a:blip r:embed="rId2"/>
          <a:stretch/>
        </p:blipFill>
        <p:spPr>
          <a:xfrm>
            <a:off x="6156360" y="3429000"/>
            <a:ext cx="22683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95280" y="4821840"/>
            <a:ext cx="836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Одним из главных звездных персонажей Диснея становится мышонок Микки Ма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нтур головы Микки Мауса используется в качестве логотипа канала Dis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2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25px-Snowwhite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95408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losnegra"/>
          <p:cNvPicPr/>
          <p:nvPr/>
        </p:nvPicPr>
        <p:blipFill>
          <a:blip r:embed="rId3"/>
          <a:stretch/>
        </p:blipFill>
        <p:spPr>
          <a:xfrm>
            <a:off x="3419640" y="3500280"/>
            <a:ext cx="3886200" cy="294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мсрпро"/>
          <p:cNvPicPr/>
          <p:nvPr/>
        </p:nvPicPr>
        <p:blipFill>
          <a:blip r:embed="rId4"/>
          <a:stretch/>
        </p:blipFill>
        <p:spPr>
          <a:xfrm>
            <a:off x="468360" y="3500280"/>
            <a:ext cx="2455920" cy="3024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2627280" y="908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ервый полнометражный мультфильм «Белоснежка и семь гномов» вышел в 1938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25px-Fantasia-poster-19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76280"/>
            <a:ext cx="2644560" cy="4105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062000" y="5661000"/>
            <a:ext cx="70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Первый Диснейлэнд открылся в 195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В штате Калифор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Disneyland-Resort-Paris"/>
          <p:cNvPicPr/>
          <p:nvPr/>
        </p:nvPicPr>
        <p:blipFill>
          <a:blip r:embed="rId3"/>
          <a:stretch/>
        </p:blipFill>
        <p:spPr>
          <a:xfrm>
            <a:off x="611280" y="333360"/>
            <a:ext cx="7921440" cy="48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-6796080" y="3905280"/>
            <a:ext cx="159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95280" y="35319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Сегодня мультимедийная империя «The Walt Disney Company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ходит в топ-15 самых дорогих брендов ми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является владельцем 11-ти тематических парков и двух аквапар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ведёт активную деятельность в 172 странах и представляет 1300 радио и телевизионных каналов, вещающих на 53 язы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large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1258920" y="50749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 каждом взрослом, должен быть 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Секреты успеха</a:t>
            </a:r>
            <a:r>
              <a:rPr b="1" i="1" lang="ru-RU" sz="4000" spc="-1" strike="noStrike">
                <a:solidFill>
                  <a:srgbClr val="7b9cb5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71" name="Picture 9" descr="51591be9ecea4f6a98950051db283d8f"/>
          <p:cNvPicPr/>
          <p:nvPr/>
        </p:nvPicPr>
        <p:blipFill>
          <a:blip r:embed="rId1"/>
          <a:stretch/>
        </p:blipFill>
        <p:spPr>
          <a:xfrm>
            <a:off x="2340000" y="1125360"/>
            <a:ext cx="44575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57538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Добро побеждает всё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age_14"/>
          <p:cNvPicPr/>
          <p:nvPr/>
        </p:nvPicPr>
        <p:blipFill>
          <a:blip r:embed="rId1"/>
          <a:stretch/>
        </p:blipFill>
        <p:spPr>
          <a:xfrm>
            <a:off x="1187280" y="620640"/>
            <a:ext cx="66978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02:51Z</dcterms:created>
  <dc:creator>валентина</dc:creator>
  <dc:description/>
  <dc:language>en-US</dc:language>
  <cp:lastModifiedBy>User</cp:lastModifiedBy>
  <dcterms:modified xsi:type="dcterms:W3CDTF">2018-02-08T10:33:42Z</dcterms:modified>
  <cp:revision>68</cp:revision>
  <dc:subject/>
  <dc:title>Слайд 1</dc:title>
</cp:coreProperties>
</file>