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1BB27-7A4E-4B74-96E7-001A10F3E4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5F572-314A-4D91-9973-BF509FA8DD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9E014-B7A9-4BCF-BD6A-B8BBCCDA7C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FC198-8D71-4B90-8F3B-F39F59FB5C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F6072-BB2F-4273-91A9-8FFBF1DCBC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FBB67-A15B-4C98-A0B5-E426724E48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05B14-E346-4B3B-B82B-7874B5E3CA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3870B-41B3-418F-A145-9F639A420D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1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0953D-829A-409A-84BE-D10B99E91D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F1F-EAC4-4DAA-BFE6-11824BBB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49840"/>
            <a:ext cx="9066240" cy="13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41B-50E4-44E7-897F-4B7A4FF4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49840"/>
            <a:ext cx="9066240" cy="13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58D-B0A3-4165-BC71-9795400C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49840"/>
            <a:ext cx="9066240" cy="13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CEC-93ED-42E1-9BDD-89ACEFE0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49840"/>
            <a:ext cx="9066240" cy="13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562-6405-4E80-AAEA-72EAA78C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49840"/>
            <a:ext cx="9066240" cy="13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27A-AA73-43B7-B0C7-55023F37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49840"/>
            <a:ext cx="9066240" cy="13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656-7B89-4C1B-AA99-C67F4EC7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49840"/>
            <a:ext cx="9066240" cy="13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541-CE94-4E4F-A2AD-FA13DC28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359-AF87-4212-81F1-006491E8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49840"/>
            <a:ext cx="9066240" cy="13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D90-A190-4BC8-B39E-DB56660A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49840"/>
            <a:ext cx="9066240" cy="13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F94-FD69-4976-81B2-790D8248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49840"/>
            <a:ext cx="9066240" cy="13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8DB-CA81-451A-9B6B-24885467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 fontScale="81000"/>
          </a:bodyPr>
          <a:p>
            <a:pPr marL="277560" indent="0">
              <a:lnSpc>
                <a:spcPct val="93000"/>
              </a:lnSpc>
              <a:spcBef>
                <a:spcPts val="1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27756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277560" indent="-27756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77560" indent="-27756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77560" indent="-27756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77560" indent="-27756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77560" indent="-27756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0E020-62FD-4F35-9B36-969CDB201A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52000"/>
            <a:ext cx="907092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85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I wi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60000" y="208728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ия желания   I wish to go to the thea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ия сожаления  I wish I learned h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6840360" y="1584360"/>
            <a:ext cx="320868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52000"/>
            <a:ext cx="907092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85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ри перевод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 fontScale="79000"/>
          </a:bodyPr>
          <a:p>
            <a:pPr marL="34092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на русском и английском языках должны быть противоположны по значен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0920" indent="-25308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I wish you had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said that — Жаль, что ты это сказ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0920" indent="-25308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I wish you had told her the truth — Жаль, что ты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казал ей прав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144000"/>
            <a:ext cx="907092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85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ри перевод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5843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431640" indent="0" algn="just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ействий в настоящем времен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Past Simple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ействий в прошедшем времени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Past Per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224000" y="3097080"/>
            <a:ext cx="7632720" cy="43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252000"/>
            <a:ext cx="907092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85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Важно знат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6920" y="266364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 fontScale="72000"/>
          </a:bodyPr>
          <a:p>
            <a:pPr marL="3106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гол после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wish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должен бы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06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прошедшем време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06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0680" indent="-23040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 wish I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had called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Jim — Жаль, что я не позвонил Джи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06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0680" indent="-23040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 wish she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had texted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me earlier — Жаль, что она не написала мне рань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7338960" y="1511280"/>
            <a:ext cx="26701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52000"/>
            <a:ext cx="907092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85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Важно знат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 fontScale="88000"/>
          </a:bodyPr>
          <a:p>
            <a:pPr marL="37980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 конструкциях с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wis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сегда будет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79800" indent="-28188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I wish she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here — Жаль, что ее здесь 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79800" indent="-28188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I wish I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rich — Жаль, что я не бог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52000"/>
            <a:ext cx="907092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85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Важно знат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76360" y="2087280"/>
            <a:ext cx="583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 fontScale="26000"/>
          </a:bodyPr>
          <a:p>
            <a:pPr marL="11196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196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i="1" lang="ru-RU" sz="10600" spc="-1" strike="noStrike">
                <a:solidFill>
                  <a:srgbClr val="000000"/>
                </a:solidFill>
                <a:latin typeface="Arial"/>
              </a:rPr>
              <a:t> wish</a:t>
            </a: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 не может стоять </a:t>
            </a:r>
            <a:r>
              <a:rPr b="0" i="1" lang="ru-RU" sz="106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106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11196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1960" indent="-8316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I wish I </a:t>
            </a:r>
            <a:r>
              <a:rPr b="1" lang="ru-RU" sz="106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stay with you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11196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Жаль, что я не могу остаться с тобой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11196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1960" indent="-83160">
              <a:lnSpc>
                <a:spcPct val="93000"/>
              </a:lnSpc>
              <a:spcBef>
                <a:spcPts val="177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I wish we </a:t>
            </a:r>
            <a:r>
              <a:rPr b="1" lang="ru-RU" sz="106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 stay friend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11196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0600" spc="-1" strike="noStrike">
                <a:solidFill>
                  <a:srgbClr val="000000"/>
                </a:solidFill>
                <a:latin typeface="Arial"/>
              </a:rPr>
              <a:t>Я бы хотел, чтобы мы остались друзьями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11196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196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93760" y="3300480"/>
            <a:ext cx="380988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Now try yourself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6160" y="1913040"/>
            <a:ext cx="90691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едите на английский язы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Жаль, что мы не идем в ки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Жаль, что они не купили эту машин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Жаль, что сегодня не воскресень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Жаль, что они не мои друз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Жаль, что мы так мало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разговариваем друг с друг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Жаль, что мы не обсудили этого раньш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991200" y="2592360"/>
            <a:ext cx="29448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2722320"/>
          </a:xfrm>
          <a:prstGeom prst="rect">
            <a:avLst/>
          </a:prstGeom>
          <a:noFill/>
          <a:ln w="0">
            <a:noFill/>
          </a:ln>
        </p:spPr>
        <p:txBody>
          <a:bodyPr lIns="0" rIns="0" tIns="85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I wish the presentation had not en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505240" y="3648240"/>
            <a:ext cx="4551120" cy="333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7T10:15:38Z</dcterms:created>
  <dc:creator>Asus</dc:creator>
  <dc:description/>
  <dc:language>en-US</dc:language>
  <cp:lastModifiedBy>Asus</cp:lastModifiedBy>
  <dcterms:modified xsi:type="dcterms:W3CDTF">2017-06-09T14:39:31Z</dcterms:modified>
  <cp:revision>4</cp:revision>
  <dc:subject/>
  <dc:title>I wish</dc:title>
</cp:coreProperties>
</file>