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475-BE3E-4DE5-ADAE-3D4FA243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51E-0E31-4053-9E75-E73E6FE9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2D2-5A3E-434E-A828-2DDB049F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29C-CCD1-4003-92EB-A23843E1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D273-97F9-4769-8B92-8BAB907B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2DC6-DD3C-4243-A5A9-3FFE817B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FB24-8A98-4914-BF5C-8FA65857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4BB4-8228-4AAA-A373-A2AC054A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43FD-A134-4D84-AA1C-B1A2C69B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6545-6AC4-48EB-A950-5386FBA5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54D5-497A-4D0B-B87C-CD15E6F8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21C-199E-4C84-9AA8-D5C184B4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D0FF-A9E0-46BE-AF8A-0C16275B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32AE-3C2A-4646-B0D7-AD2A320A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E219-03A0-42D9-9D87-0D6EE969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12D1-EC5C-45DA-9C8E-5AD6996E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EC65-BA86-4236-8694-E154E931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B23-4718-4F23-AF26-C6A0E3A7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0DF-8DA0-4BB4-A6BC-476E0FE7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882-59EB-4905-A994-F75A4FD4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303-07EE-43EB-AAC3-162CE771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6FE-458A-4908-A628-0D9BFEF0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765-0F8E-490B-B2E3-6A6930E1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DCF-238B-4657-BA1F-A939956C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3524-AF6F-48C1-B89F-0B02A1C971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F390-763B-4BCC-8237-4CFABE44F7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50;&#1080;&#1090;&#1086;&#1086;&#1073;&#1088;&#1072;&#1079;&#1085;&#1099;&#1077;" TargetMode="External"/><Relationship Id="rId3" Type="http://schemas.openxmlformats.org/officeDocument/2006/relationships/hyperlink" Target="http://ru.wikipedia.org/wiki/&#1059;&#1089;&#1072;&#1090;&#1099;&#1077;_&#1082;&#1080;&#1090;&#1099;" TargetMode="External"/><Relationship Id="rId4" Type="http://schemas.openxmlformats.org/officeDocument/2006/relationships/hyperlink" Target="http://ru.wikipedia.org/wiki/&#1047;&#1091;&#1073;_(&#1073;&#1080;&#1086;&#1083;&#1086;&#1075;&#1080;&#1103;)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Киты. Зубатые и Беззубые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4920" y="29718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ла ученица 7 «б»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найдер Веро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Органы чувств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сса головного мозга у китообразных — наибольшая среди млекопитающих в абсолютных цифрах, достигая у кашалота 7,8-9,2 кг, но относительно массы тела она невелика. Так, у голубого кита она составляет всего 0,007 % общей массы. Головной мозг высоко дифференцирован, органы чувств развиты, хотя и не одинаков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оняние китообразными почти утрачено. Обонятельные доли мозга и обонятельные нервы отсутствуют полностью (зубатые киты) или имеются в зачаточном состоянии (усатые киты). Вкус, видимо, развит довольно слабо; предполагают, что киты способны на вкус различать солёность воды и обнаруживать по моче и фекалиям своих сородичей. Осязание развито превосходно; кожа богато иннервирована. На голове у усатых китов сохраняются редкие осязательные волоски, которые действуют как вибриссы и играют определённую роль при поисках массовых скоплений планктона. Зубатые киты, питающиеся одиночной и сравнительно крупной добычей, в вибриссах не нуждаются; исключение составляют речные дельфины, живущие в мутной вод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лаза расположены по бокам головы и относительно небольшие: у крупных китов глаз имеет массу около 1 кг, у мелких дельфинов размером с глаза собаки. Веки неразвиты. Роговица и склера толстые и плотные. Глазное яблоко почти шаровидное, спереди несколько уплощённое. Хрусталик имеет округлую форму. Зрение у многих видов монокулярное, без общего поля зрения. Китообразные как правило близоруки, исключение составляют дельфины. Слёзные железы редуцированы; слёзно-носовой проход отсутствует. От механического и химического воздействия воды глаза предохраняет жирный секрет гардеровой железы. Имеются конъюнктивные железы, не известные у других млекопитающ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ы слуха сильно видоизменены. Ушная раковина отсутствует. Слуховой проход сужен и открывается позади глаза маленьким отверстием; видимо, служит отдельным чувствующим органом, воспринимающим изменение давления. Барабанная перепонка выгнута наружу (усатые киты) или внутрь (зубатые киты). Звук китообразные воспринимают через кости черепа и нижнюю челюсть, чей задний конец близко подходит к области внутреннего уха и иннервирован ветвью тройничного нерва. Строение внутреннего уха у китообразных очень сложное, с увеличенной улиткой. Звук для водных организмов — важнейший источник информации, так как в воде звуковые колебания распространяются в 5 раз быстрее, чем в воздухе. Китообразные способны улавливать звуковые волны в диапазоне от 150 Гц до ультразвуковых колебаний в 120—140 кГц. Наиболее остр слух зубатых китов; у усатых китов он хуже по сравнению с наземными млекопитающи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тообразные издают звуковые сигналы в тех же частотах, которые воспринимают сами. Поскольку голосовые связки у них отсутствуют, звуки производятся в результате вибрации «звуковых губ» (зубатые киты) или с помощью гортани и глотки (усатые киты). Коммуникационные звуковые сигналы, издаваемые китообразными, многочисленны и разнообразны; имеются особые сигналы питания, беспокойства, страха, спаривания, боли и т. п. Некоторые китообразные из подотряда Odontoceti, подобно летучим мышам, способны к направленной эхолокации. У них образовался особый эхолокационный аппарат, состоящий из жировой подушки и вогнутой передней поверхности черепа, которые действуют как звуковая линза и рефлектор, концентрируя излучённые ультразвуковые сигналы и в виде звукового пучка направляя их на объек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788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овой диморф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овой диморфизм выражен главным образом в разнице размеров самцов и самок. Самки усатых китов крупнее самцов; самки большинства зубатых китов, наоборот,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способление к среде об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сти дыхательной и кровеносной системы позволяют китообразным долго находиться под водой с одним запасом воздуха (кашалоты до 1,5 часов). Способность гемоглобина связывать кислород у китов выше, чем у наземных млекопитающих, существенная часть кислорода накапливается в мышечном гемоглобине. При нырянии резко замедляется пульс и ограничивается подача кислорода к органам, менее чувствительным к кислородному голода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з жизн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ространены китообразные во всех океанах и в некоторых морях. Имеются холодолюбивые виды, живущие в полярных и субполярных водах (белухи, нарвалы, гренландские киты), теплолюбивые (полосатик Брайда), тропические и субтропические (многие дельфины, карликовые кашалоты) и виды с широким ареалом, включая космополитичные (полосатики, кашалоты, косатки). Встречаются как возле побережий, так и в открытом море. Представители некоторых видов способны подниматься вверх по рекам или постоянно жить в реках и эстуария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ьшинство видов — стадные животные; держатся группами от нескольких до сотен и тысяч голов[1]. Питание, как правило, специализированное; среди китов встречаются планктофаги, теутофаги, ихтиофаги и саркофаги. Косатки — единственные китообразные, регулярно поедающие не только рыб и беспозвоночных, но и теплокровных животных (птиц, тюленей, др. китов). Некоторые виды плавают очень быстро (косатки, многие дельфины), другие относительно медлительны. Большинство китов держатся в поверхностных водах; некоторые могут нырять на значительную глубину (кашалот). В результате приспособления к сезонным условиям питания и размножения китообразные образовали несколько биологических групп. Для одних видов характерны строго регулярные сезонные миграции в пределах северного или южного полушария: на зиму они плывут в низкие широты для родов, а на лето — в умеренные и высокие для нагула жира (почти все усатые киты, часть клюворылых и кашалоты). Самые длинные миграции среди всех млекопитающих совершают серые киты, которые в год проплывают до 12 000 км, перемещаясь от зимовочных участков у берегов Калифорнии к местам летней кормежки в Беринговом море и обратно. Другие также совершают миграции на значительные расстояния, но менее регулярно и с нарушениями сезонных сроков (малые косатки, гринды, сейвалы, нарвалы). Третьи перешли к сравнительно оседлому образу жизни, совершая кочевки в пределах небольшой акватории (афалины, речные дельфины, серые дельфины и др.). Миграции китообразные совершают в пределах знакомых областей, придерживаясь опредёленных пу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инство видов размножается 1 раз в 2 года, только некоторые дельфины плодятся ежегодно, спариваясь вскоре после родов. Самцы способны к оплодотворению постоянно или большую часть года. Беременность у разных видов длится от 7 до 18 месяцев. Мигрирующие виды родят главным образом зимой в тёплых водах; немигрирующие — летом. Характерна многоплодность: у самок в начале беременности в матке могут находиться 2-3 зародыша, из которых вскоре остается только один. Двойни ред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тёныш хорошо развитый, крупный — до 1/2—1/4 длины тела матери; сразу способен к самостоятельному передвижению. Первый дыхательный акт он совершает, как безусловный рефлекс, в момент первого выныривания на поверхность. С первого дня детёныш плавает бок о бок с матерью, используя давление гидродинамического поля вокруг неё, что позволяет ему плыть пассивно. У самок сильно развит материнский инстинк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рмление происходит под водой; молоко потребляется в течение нескольких секунд, но очень часто. Детёныш плотно захватывает сосок, и молоко вбрызгивается в его ротовую полость сокращением особых мышц самки. Китовое молоко очень питательное; оно густое, обычно кремового цвета, жирностью до 54 %. Характерно, что его поверхностное натяжение в 30 раз больше, чем у воды, поэтому струя молока не расплывается в воде. Самки китов продуцируют в сутки от 200—1200 г (дельфины) до 90-150 л (финвал) и 200 л (голубой кит) молока. Детёныш во время вскармливания растёт очень быстро, к его концу увеличиваясь на 1/3-1/2 первоначального размера. Вскармливание продолжается от 4 месяцев (мелкие дельфины) до 13 (кашалоты), а в неволе даже до 21-23 месяцев (афалины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овая зрелость наступает в 3-6 лет, но замедленный рост тела длится и после того, до 12 лет. Физическая зрелость наступает, когда скелет окончательно окостеневает и все эпифизы позвоночника срастаются с телами позвонков. Процесс окостенения позвоночника начинается с обоих концов позвоночника, причём с хвостового идёт быстрее, чем с головного, и заканчивается в грудном отделе. Последовательные изменения в позвоночнике иногда используют для определения возраста кита. Живут китообразные до 50, а мелкие виды — до 30 лет. Врагов, помимо человека и косатки, практически не имеют; остатки дельфинов находили в желудках тигровых и гренландских акул. Почти 100 % особей заражены эндо- и эктопаразитами, среди которых китовые вши, усоногие ракообразны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8080" y="380880"/>
            <a:ext cx="7696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асс Беззубые (Усатые) ки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1830240"/>
            <a:ext cx="6203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атые ки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атые киты,  беззубые киты — подотряд китообразных. На верхней челюсти развиваются от 360 до 800 длинных (от 20 до 450 см) роговых пластинок, называемых «китовым усом», расположенных поперёк дёсен с интервалами 0,3—1,2 см одна за другой. Внутренний край и вершина каждой пластины расщеплены на тонкие и длинные щетинки, образующие подобие густого сита, или фильтра, отцеживающего из воды планктонных моллюсков, ракообразных и мелких рыб. На рыле имеются одиночные волоски — вибриссы — служащие для осязания. Ноздри пар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зубые киты — самые крупные из современных млекопитающих: синий, или голубой, кит достигает 33 м длины и весит до 160 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3059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тообразные (лат. Cetacea) — отряд млекопитающих, полностью приспособленных к жизни в воде. Китообразных вместе с парнокопытными иногда относят к внесистематической группе китопарнокопытных. В обиходе китами называют всех китообразных, кроме дельфинов и морских свиней. Китообразные являются самыми крупными из известных животных, которые когда-либо обитали на Зем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беззубым китам относятся 10 видов: гренландский кит, южный, карликовый, серый, горбач, голубой, финвал, сейвал, малый полосатик, кит Брайда. Беззубые киты широко распространены в океанах; исключение составляют: гренландский кит, обитающий только в арктических водах, кит Брайда — в тёплом поясе Мирового океана, карликовый кит — в умеренных и холодных водах Южного полушария. Беззубые киты имеют большое промысловое значение, давая огромное количество жира; мясо используется меньше. Промысел ведут специальные большие корабли («матки»), на которых базируются мелкие «китобойцы». В результате хищнического промысла в Северной Атлантике беззубые киты были практически уничтожены. Промысел переместился в Тихий океан и в моря Южного полушария, в результате чего общая численность всех видов беззубых китов в Антарктике и северной части Тихого океана также резко сократилась. С 1959 под международной охраной находятся гренландский, южный и серый киты; с 1967 — голубой кит (которого в Антарктике осталось менее 1000 экземпляров). В результате охраны несколько восстановилась численность серого кита в Беринговом море, появились одиночные гренландские и южные киты в северных частях Тихого и Атлантического океанов. Основой промысла стали финвал и сейвал, в результате чего их число также стало резко сокращатьс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90720" y="1066680"/>
            <a:ext cx="716256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Классификация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китообразные делят на 2 подотряда: беззубые (усатые) киты (Mysticeti) и зубатые киты (Odontoceti), которые резко различаются между собой внешним обликом, внутренним строением и биологией. Оба подотряда произошли от китов вымершей группы Archaeoceti. Зубатые киты считаются менее специализированными; к ним, в частности, относятся кашалоты, косатки, дельфины и морские свиньи. Всего в отряде китообразных 38 родов, объединяющих более 80 видов. Ископаемых форм китообразных насчитывают до 127 р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43000" y="1523880"/>
            <a:ext cx="70102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асс Зубаты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уба́тые киты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Odontocet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 — один из двух современных подотрядов 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китообразны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 отличие от 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усатых ки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на их челюстях имеются 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зуб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Зубатые киты являются плотоядными животными и питаются преимущественно рыбой, головоногими и в некоторых случаях морскими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екопитающи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24280" y="3917880"/>
            <a:ext cx="441972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рганы пищева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 хорошо развит, мягкие губы отсутствуют. Слюнных желез нет или они рудиментарные. Китообразные заглатывают добычу целиком, не пережёвывая. Желудок сложный, многокамерный; способен растягиваться и вмещать до 1,5 т пищи (голубой кит). Первый, безжелезистый, отдел желудка представляет собой нижнее выпячивание пищевода и служит для мацерации и механической обработки пищи; отсутствует у клюворылых китов. Кардиальный отдел обильно снабжён железистыми клетками, выделяющими пищеварительные соки; он складчатый, сильно растяжимый, иногда дву— или трёхраздельный. Пилорический отдел представляет расширенную переднюю часть двенадцатиперстной кишки. Длина кишечника превышает длину тела: от 4-5 раз (у гангского дельфина и бутылконосов) до 15-16 раз (кашалот) и даже до 32 раз (дельфин Ла-Плат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Органы дыхания и кровообращения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ружных ноздрей 2 у усатых китов и 1 у зубатых китов. Они смещены на верх головы и снабжены особыми клапанами, рефлекторно запирающими дыхательные пути при нырянии и отпирающими при выныривании. Вследствие особого строения гортани воздухоносный ход отделён от пищевода, что позволяет киту безопасно дышать, даже если в ротовой полости находится вода. Носовой канал у большинства видов соединён с особыми воздушными мешками, выполняющими роль звукосигнального органа. Трахея и бронхи укорочены, что способствует убыстрению акта дыхания. Лёгкие однодольчатые с сильно развитой гладкой мускулатурой, позволяющей за один выдох-вдох обновлять воздух на 80-90 % (у человека только на 15 %). Число альвеол больше и размеры их крупнее, чем у наземных млекопитающи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тообразные способны находиться под водой от 2-10 до 30-40 минут (кашалот — до 1,5 часов). Длительность погружения обеспечивают большая ёмкость лёгких и повышенное содержание миоглобина в мышцах. Кислородная ёмкость крови увеличена за счёт высокого содержания гемоглобина и повышения его концентрации в эритроци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цесс дыхания китообразных можно подразделить на выдох после длительного погружения, промежуточные акты дыхания и глубокий вдох перед следующим погружением. Когда кит всплывает на поверхность, выдыхаемый им с силой воздух, соприкасаясь с более холодным наружным, формирует столб конденсированного пара (фонтан). У разных видов китообразных фонтан различается по форме и высоте. У крупных китов выдыхаемый воздух выталкивается через дыхало с такой силой, что производит громкий трубный звук, в спокойную погоду слышимый с большого расстояния. Во время промежуточных вдохов и выдохов кит ныряет неглубоко, плывет почти по прямой линии, дыша через правильные промежутки времени. Число промежуточных актов дыхания тем больше, чем дольше кит остаётся под водой во время основного погруж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 время погружения пульс у китообразных замедляется более чем в 2 раза, и ток крови перераспределяется так, что кислородом снабжаются в первую очередь мозг и сердечная мышца. Менее чувствительные к кислородному голоданию ткани (особенно мышцы тела) переходят на «голодный паёк». Слабая чувствительность дыхательного центра мозга к накоплению в крови углекислоты позволяет китообразным значительно удлинять дыхательную пауз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2209680" y="-334800"/>
            <a:ext cx="11963160" cy="74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10:35:41Z</dcterms:created>
  <dc:creator>Пользователь</dc:creator>
  <dc:description/>
  <dc:language>en-US</dc:language>
  <cp:lastModifiedBy>Пользователь</cp:lastModifiedBy>
  <dcterms:modified xsi:type="dcterms:W3CDTF">2014-01-13T13:42:0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