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DC4-3FE1-4DD1-AB66-1816A09D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C11-BAD1-40BC-B2BE-CACBDFF8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280-9C3D-4564-A06F-16D5910E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4C4-1F75-4942-9905-17D8B208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D33D-B799-4B9F-AC93-2DB3515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E2F-B790-4C65-82FF-62DF43D9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0058-919C-4EC9-928D-4D2A602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ACB-02BE-4A89-89A7-E371888A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AD1-2768-4D9B-A463-1E16597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9D45-0795-4A9F-ADFD-6F012435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896-FB55-4B45-B9ED-5965571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C0C-B2C8-4B6D-BC87-8086174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6D4-B754-4ED1-9165-3EC8B6DB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335-287E-4A24-92ED-544E4C0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F6BA-9431-449A-A243-DF16938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FD5-A425-46D6-9D3C-6D8DB65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225-55C0-4954-AB2C-BE390513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B02-F4AD-4C68-8AD2-6DEBB7E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52C-3B47-4486-AE7F-E777FD0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F2A-1530-41FB-962F-696498FC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3F4-497E-48F4-8284-8BB95FD8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62D-D2AA-4489-9E7C-CD64E8B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D6D-66B4-45C4-9C97-6FF1161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4BD-C9ED-4FB4-8982-B18F57A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37F-BDF3-4B29-A95F-FF87948DA2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E712-3F04-4CBB-9E88-2B2E65C49C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лониров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066920" y="4149720"/>
            <a:ext cx="4825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пенко Д.Д. 11 клас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рпрпорп"/>
          <p:cNvPicPr/>
          <p:nvPr/>
        </p:nvPicPr>
        <p:blipFill>
          <a:blip r:embed="rId1"/>
          <a:stretch/>
        </p:blipFill>
        <p:spPr>
          <a:xfrm>
            <a:off x="250920" y="1341360"/>
            <a:ext cx="32414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мериканцы клонировали эмбрионы человека из клеток кож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Picture 4" descr="  Американцы клонировали эмбрионы человека из клеток кожи"/>
          <p:cNvPicPr/>
          <p:nvPr/>
        </p:nvPicPr>
        <p:blipFill>
          <a:blip r:embed="rId1"/>
          <a:stretch/>
        </p:blipFill>
        <p:spPr>
          <a:xfrm>
            <a:off x="4572000" y="335772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5"/>
          <p:cNvSpPr/>
          <p:nvPr/>
        </p:nvSpPr>
        <p:spPr>
          <a:xfrm>
            <a:off x="250920" y="1771200"/>
            <a:ext cx="851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ериканская компания заявила об успешном клонировании эмбрионов человека. Исходным материалом для создания клонов послужили клетки кожи и яйцеклетки донор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68360" y="347940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сты подтверждают, что полученные клоны генетически идентичны мужчине, предоставившему клетки кож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 Австралии выдана первая в мире лицензия на клонирование человек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4" descr="  В Австралии выдана первая в мире лицензия на клонирование человека"/>
          <p:cNvPicPr/>
          <p:nvPr/>
        </p:nvPicPr>
        <p:blipFill>
          <a:blip r:embed="rId1"/>
          <a:stretch/>
        </p:blipFill>
        <p:spPr>
          <a:xfrm>
            <a:off x="3924360" y="3213000"/>
            <a:ext cx="4392720" cy="32958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395280" y="148176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ая в мире лицензия на клонирование человека выдана в Австралии. Разрешение получила компания «Сидней Ай-Ви-Эф», специализирующейся на экстракорпоральном оплодотвор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920" y="2997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PNAS  Клонированный мышонок (слева), полученный из клеток мозга, размороженных после 16 лет пребывания его обладателя в морозильнике."/>
          <p:cNvPicPr/>
          <p:nvPr/>
        </p:nvPicPr>
        <p:blipFill>
          <a:blip r:embed="rId1"/>
          <a:stretch/>
        </p:blipFill>
        <p:spPr>
          <a:xfrm>
            <a:off x="4067280" y="2781360"/>
            <a:ext cx="4859280" cy="3836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онирована мышь, пролежавшая в морозильнике 16 ле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понцам удалось клонировать мышь, пролежавшую 16 лет в обычном морозильнике при температуре –20 по Цельс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0" y="2205000"/>
            <a:ext cx="39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 клеток головного мозга, поджелудочной железы и почек выделили ядра, а затем перенесли их в донорские яйцеклетки, часть из которых поместили в мышек – «суррогатных матерей», а часть оставили развиваться в пробирк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первые получено потомство от клонированных собак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4" descr="  Впервые получено потомство от клонированных собак"/>
          <p:cNvPicPr/>
          <p:nvPr/>
        </p:nvPicPr>
        <p:blipFill>
          <a:blip r:embed="rId1"/>
          <a:stretch/>
        </p:blipFill>
        <p:spPr>
          <a:xfrm>
            <a:off x="324000" y="2133720"/>
            <a:ext cx="5975280" cy="44830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6443640" y="1553400"/>
            <a:ext cx="270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первой клонированной собаки в истории – кобеля афганской борзой по имени Снаппи – появилось потомств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первые клонирован верблюд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4" descr="  Впервые клонирован верблюд"/>
          <p:cNvPicPr/>
          <p:nvPr/>
        </p:nvPicPr>
        <p:blipFill>
          <a:blip r:embed="rId1"/>
          <a:stretch/>
        </p:blipFill>
        <p:spPr>
          <a:xfrm>
            <a:off x="324000" y="2781360"/>
            <a:ext cx="5111640" cy="3833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395280" y="14115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дной из лабораторий арабского эмирата Дубай впервые в мире клонировали верблюд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5651640" y="3027960"/>
            <a:ext cx="31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блюжонка назвали Иняз – в переводе на русский «реализация»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Испанцы впервые клонировали вымершее животно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  Испанцы впервые клонировали вымершее животное"/>
          <p:cNvPicPr/>
          <p:nvPr/>
        </p:nvPicPr>
        <p:blipFill>
          <a:blip r:embed="rId1"/>
          <a:stretch/>
        </p:blipFill>
        <p:spPr>
          <a:xfrm>
            <a:off x="3780000" y="285264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684360" y="14252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иренейский козерог стал первым вымершим видом, представителя которого удалось клонировать в лаборатор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50920" y="3570480"/>
            <a:ext cx="364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а работа вселяет в учёных надежду на возможное восстановление некоторых исчезнувших видов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Ученые клонировали эмбрионы примат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4" descr="  Американские ученые разработали новый метод манипулирования с донорской яйцеклеткой "/>
          <p:cNvPicPr/>
          <p:nvPr/>
        </p:nvPicPr>
        <p:blipFill>
          <a:blip r:embed="rId1"/>
          <a:stretch/>
        </p:blipFill>
        <p:spPr>
          <a:xfrm>
            <a:off x="324000" y="1484280"/>
            <a:ext cx="5256000" cy="39416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6012000" y="2234880"/>
            <a:ext cx="276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ериканские эксперты впервые смогли клонировать эмбрионы обезьян-прима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68360" y="5670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енный при этом принципиально новый метод еще на один шаг приблизил возможность клонирования человек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Успешно клонированы сперматозоид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Picture 4" descr="  Успешно клонированы сперматозоиды"/>
          <p:cNvPicPr/>
          <p:nvPr/>
        </p:nvPicPr>
        <p:blipFill>
          <a:blip r:embed="rId1"/>
          <a:stretch/>
        </p:blipFill>
        <p:spPr>
          <a:xfrm>
            <a:off x="1619280" y="2565360"/>
            <a:ext cx="5545080" cy="39956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250920" y="105048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ериканские ученые разработали и успешно испытали на мышах технику клонирования сперматозоидов, и готовы использовать ее при лечении мужского бесплод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  Клонированы кошки, которые светятся в темно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онированы кошки, которые светятся в темно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н Уилмут отказался от клонирования человеческих эмбрион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4" descr="  Ян Уилмут отказался от клонирования человеческих эмбрионов"/>
          <p:cNvPicPr/>
          <p:nvPr/>
        </p:nvPicPr>
        <p:blipFill>
          <a:blip r:embed="rId1"/>
          <a:stretch/>
        </p:blipFill>
        <p:spPr>
          <a:xfrm>
            <a:off x="4427640" y="3213000"/>
            <a:ext cx="4390920" cy="3294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95280" y="1555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команды ученых, вырастивших клонированную овцу Долли, решил отказаться от дальнейших попыток клонирования человеческого эмбрио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68360" y="364500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ныне профессор Ян Уилмут будет заниматься выращиванием стволовых клеток из фрагментов кожи взрослого человек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28:46Z</dcterms:created>
  <dc:creator>Admin</dc:creator>
  <dc:description/>
  <dc:language>en-US</dc:language>
  <cp:lastModifiedBy>Denis</cp:lastModifiedBy>
  <dcterms:modified xsi:type="dcterms:W3CDTF">2015-09-18T01:53:36Z</dcterms:modified>
  <cp:revision>6</cp:revision>
  <dc:subject/>
  <dc:title>Клонирование</dc:title>
</cp:coreProperties>
</file>