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171-3CF0-4F68-87D9-C589B793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BCB-3E40-4029-B7B7-1AA120E1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CDC-C2F0-4EBD-82A4-CF006BB7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C1D-B853-4938-862F-CD276478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7B6-4F66-4EA6-80EE-A5D41907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81D-40F3-449D-BC89-79C9EF60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F77-1831-4CAC-8B0D-E312B6B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5C4-3A52-4033-BBDC-08B4A16E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CB3-6A6F-4BD7-B6ED-6CC772D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232-29CA-460F-9E6F-01DD218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788-3033-4B76-93D3-9EC7D5B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883-F9E5-48F2-818B-0DDD109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92160" y="103320"/>
            <a:ext cx="8935920" cy="6694200"/>
            <a:chOff x="92160" y="103320"/>
            <a:chExt cx="8935920" cy="66942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92160" y="103320"/>
              <a:ext cx="8935920" cy="66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90680" y="504720"/>
              <a:ext cx="8143560" cy="58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8" descr=""/>
          <p:cNvPicPr/>
          <p:nvPr/>
        </p:nvPicPr>
        <p:blipFill>
          <a:blip r:embed="rId4"/>
          <a:stretch/>
        </p:blipFill>
        <p:spPr>
          <a:xfrm>
            <a:off x="-25560" y="5815080"/>
            <a:ext cx="2238480" cy="10969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15" descr=""/>
          <p:cNvPicPr/>
          <p:nvPr/>
        </p:nvPicPr>
        <p:blipFill>
          <a:blip r:embed="rId5"/>
          <a:stretch/>
        </p:blipFill>
        <p:spPr>
          <a:xfrm>
            <a:off x="-176040" y="52560"/>
            <a:ext cx="3063600" cy="122868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1" descr=""/>
          <p:cNvPicPr/>
          <p:nvPr/>
        </p:nvPicPr>
        <p:blipFill>
          <a:blip r:embed="rId6"/>
          <a:stretch/>
        </p:blipFill>
        <p:spPr>
          <a:xfrm>
            <a:off x="2190600" y="5788080"/>
            <a:ext cx="2381400" cy="1127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pic>
        <p:nvPicPr>
          <p:cNvPr id="7" name="Рисунок 13" descr=""/>
          <p:cNvPicPr/>
          <p:nvPr/>
        </p:nvPicPr>
        <p:blipFill>
          <a:blip r:embed="rId7"/>
          <a:stretch/>
        </p:blipFill>
        <p:spPr>
          <a:xfrm>
            <a:off x="4572000" y="5799240"/>
            <a:ext cx="2252520" cy="11016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4" descr=""/>
          <p:cNvPicPr/>
          <p:nvPr/>
        </p:nvPicPr>
        <p:blipFill>
          <a:blip r:embed="rId8"/>
          <a:stretch/>
        </p:blipFill>
        <p:spPr>
          <a:xfrm>
            <a:off x="6813720" y="5799240"/>
            <a:ext cx="2330280" cy="1103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B50-D07E-4A54-BD3F-3A2E6F69F88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alk.rambler.ru/images/988_945.1125650552.569.jpg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olas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81000" y="0"/>
            <a:ext cx="930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12 из 2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280" y="1768320"/>
            <a:ext cx="3485880" cy="4492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" descr=""/>
          <p:cNvPicPr/>
          <p:nvPr/>
        </p:nvPicPr>
        <p:blipFill>
          <a:blip r:embed="rId4"/>
          <a:stretch/>
        </p:blipFill>
        <p:spPr>
          <a:xfrm>
            <a:off x="3133800" y="360360"/>
            <a:ext cx="6162480" cy="63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81000" y="0"/>
            <a:ext cx="9306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54120" y="795240"/>
            <a:ext cx="4255920" cy="5348520"/>
          </a:xfrm>
          <a:prstGeom prst="rect">
            <a:avLst/>
          </a:prstGeom>
          <a:solidFill>
            <a:srgbClr val="dae3fa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onsolas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olas"/>
              </a:rPr>
              <a:t>Александр Николаевич Скрябин - русский композитор, пианист, педагог родился 16 января  1872 года.</a:t>
            </a:r>
            <a:r>
              <a:rPr b="1" i="1" lang="ru-RU" sz="19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Consolas"/>
              </a:rPr>
              <a:t>Его отец был дипломатом, а мать - пианисткой. Вероятно, от нее Скрябин унаследовал музыкальные способности и любовь к музык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olas"/>
              </a:rPr>
              <a:t>Музыкальный талант Скрябинa проявился рано. Уже в детстве он стал брать уроки фортепья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Consolas"/>
              </a:rPr>
              <a:t>С десяти лет обучался в Московском кадетском корпусе, потом поступил в Московскую консерваторию на класс фортепья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артинки по запросу скрябин fktrcfylh hecc rjvgpbnjh"/>
          <p:cNvPicPr/>
          <p:nvPr/>
        </p:nvPicPr>
        <p:blipFill>
          <a:blip r:embed="rId2"/>
          <a:stretch/>
        </p:blipFill>
        <p:spPr>
          <a:xfrm>
            <a:off x="5267160" y="858960"/>
            <a:ext cx="36514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81000" y="0"/>
            <a:ext cx="9306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31640" y="4300560"/>
            <a:ext cx="8475840" cy="2235240"/>
          </a:xfrm>
          <a:prstGeom prst="rect">
            <a:avLst/>
          </a:prstGeom>
          <a:solidFill>
            <a:srgbClr val="dae3f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7316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olas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7316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olas"/>
              </a:rPr>
              <a:t>В это время композитор уже имел репертуар из собственных сочин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7316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2060"/>
                </a:solidFill>
                <a:latin typeface="Consolas"/>
              </a:rPr>
              <a:t>Давая концерты в России и за рубежом, он исполнял не только произведения великих музыкантов, но и свои собственны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7316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nsolas"/>
              </a:rPr>
              <a:t>Кроме сочинительства великий композитор занимался и педагогикой- был профессором Московской консерватории по классу фортепьяно, совмещая занятия с преподаванием в музыкальных классах Екатерининского института в Москв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7316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и по запросу скрябин композитор"/>
          <p:cNvPicPr/>
          <p:nvPr/>
        </p:nvPicPr>
        <p:blipFill>
          <a:blip r:embed="rId2"/>
          <a:stretch/>
        </p:blipFill>
        <p:spPr>
          <a:xfrm>
            <a:off x="6480000" y="160200"/>
            <a:ext cx="2494080" cy="318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скрябин композитор"/>
          <p:cNvPicPr/>
          <p:nvPr/>
        </p:nvPicPr>
        <p:blipFill>
          <a:blip r:embed="rId3"/>
          <a:stretch/>
        </p:blipFill>
        <p:spPr>
          <a:xfrm>
            <a:off x="152280" y="169920"/>
            <a:ext cx="2751120" cy="28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по запросу скрябин композитор"/>
          <p:cNvPicPr/>
          <p:nvPr/>
        </p:nvPicPr>
        <p:blipFill>
          <a:blip r:embed="rId4"/>
          <a:stretch/>
        </p:blipFill>
        <p:spPr>
          <a:xfrm>
            <a:off x="3157560" y="144360"/>
            <a:ext cx="29890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и по запросу скрябин композитор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046400" y="246240"/>
            <a:ext cx="49165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onsolas"/>
              </a:rPr>
              <a:t>В творчестве Скрябина представлены фортепьянные и симфонические жанры. Им были созданы прелюдии, мазурки, этюды, экспромты, сонаты для фортепьяно, концерт для фортепьяно с оркестром, симфонии и принесшие ему мировую известность поэмы для фортепья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olas"/>
              </a:rPr>
              <a:t>В своей музыке Скрябин отразил бунтарский дух времени, предчувствие перемен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nsolas"/>
              </a:rPr>
              <a:t>В ней соединились душевный порыв, напряжённая динамическая экспрессия, героическое ликование и утончённая одухотворённая лирик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4935600" cy="363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и по запросу скрябин композитор"/>
          <p:cNvPicPr/>
          <p:nvPr/>
        </p:nvPicPr>
        <p:blipFill>
          <a:blip r:embed="rId2"/>
          <a:stretch/>
        </p:blipFill>
        <p:spPr>
          <a:xfrm>
            <a:off x="3225960" y="2874960"/>
            <a:ext cx="5918040" cy="398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Похожее изображение"/>
          <p:cNvPicPr/>
          <p:nvPr/>
        </p:nvPicPr>
        <p:blipFill>
          <a:blip r:embed="rId3"/>
          <a:stretch/>
        </p:blipFill>
        <p:spPr>
          <a:xfrm>
            <a:off x="0" y="2346480"/>
            <a:ext cx="3225960" cy="4511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и по запросу скрябин композитор"/>
          <p:cNvPicPr/>
          <p:nvPr/>
        </p:nvPicPr>
        <p:blipFill>
          <a:blip r:embed="rId4"/>
          <a:stretch/>
        </p:blipFill>
        <p:spPr>
          <a:xfrm>
            <a:off x="4869000" y="0"/>
            <a:ext cx="4275000" cy="2962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5"/>
          <a:stretch/>
        </p:blipFill>
        <p:spPr>
          <a:xfrm>
            <a:off x="3286080" y="2859120"/>
            <a:ext cx="3638520" cy="4334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7" descr=""/>
          <p:cNvPicPr/>
          <p:nvPr/>
        </p:nvPicPr>
        <p:blipFill>
          <a:blip r:embed="rId6"/>
          <a:stretch/>
        </p:blipFill>
        <p:spPr>
          <a:xfrm>
            <a:off x="4041720" y="5510160"/>
            <a:ext cx="5168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и по запросу скрябин композитор"/>
          <p:cNvPicPr/>
          <p:nvPr/>
        </p:nvPicPr>
        <p:blipFill>
          <a:blip r:embed="rId2"/>
          <a:stretch/>
        </p:blipFill>
        <p:spPr>
          <a:xfrm>
            <a:off x="1328760" y="-25560"/>
            <a:ext cx="6883200" cy="6883560"/>
          </a:xfrm>
          <a:prstGeom prst="rect">
            <a:avLst/>
          </a:prstGeom>
          <a:ln w="0">
            <a:noFill/>
          </a:ln>
        </p:spPr>
      </p:pic>
      <p:pic>
        <p:nvPicPr>
          <p:cNvPr id="70" name="aleksandr-skryabin-val-s.mp3" descr=""/>
          <p:cNvPicPr/>
          <p:nvPr/>
        </p:nvPicPr>
        <p:blipFill>
          <a:blip r:embed="rId3"/>
          <a:stretch/>
        </p:blipFill>
        <p:spPr>
          <a:xfrm>
            <a:off x="8712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0083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1T15:56:53Z</dcterms:created>
  <dc:creator>Артём Кулаков</dc:creator>
  <dc:description/>
  <dc:language>en-US</dc:language>
  <cp:lastModifiedBy>admin</cp:lastModifiedBy>
  <dcterms:modified xsi:type="dcterms:W3CDTF">2018-02-08T05:04:37Z</dcterms:modified>
  <cp:revision>9</cp:revision>
  <dc:subject/>
  <dc:title>Презентация PowerPoint</dc:title>
</cp:coreProperties>
</file>