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C24C-F94A-48F9-8B6C-CFCEE53839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7EE1-37C6-4B26-8608-FE3E90164C2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D0E-180C-447F-8BD3-02532542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245-801E-4F18-AF77-0A39D824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4F5-F932-4BCC-A7D4-72C1294E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533-1E54-4E64-BB8D-1D3A1E2C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F193-14B9-415B-A217-7B982DEC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71E3-ABEF-4F2F-918C-0CBC02A4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676B-29D4-47D9-895C-7EC05836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5F02-DB1E-484A-847E-1BC25F7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0226-08F2-45B7-8140-249D6D26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4855-D2D6-4B98-AA5B-B57F0DAC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DD6E-943F-41F6-8F41-ED07581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A91-E712-43A4-BD95-111E904D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A6F1-6EF0-4998-A723-EF3B6E84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C298-969E-49FB-B062-46901FDD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C2A-1671-4089-AE40-99DB45CF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633C-2FB2-489C-820A-A40B3333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07E9-3B3E-41D3-B1B9-ADCCED3F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EAB6-5D95-4576-9FC6-6A4CC8D7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87B2-F387-4EE1-900A-C97B0672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826D-72A3-429A-8B69-524AD3A9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01CD-7557-49CC-9EA0-E282C9F7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2B1C-0700-48E6-93AD-CFA6B95E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D71-1815-4657-9FB8-E33EAA8C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3528-37F2-4F7C-B0FB-86739DF9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50A9-FB1D-4C51-BB17-014DA86B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C39B-25CF-498C-9125-89837907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C25B-D834-442E-A45D-9B28093F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443C-CE94-4482-AC0F-B4F508A5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8697-D5E1-4D13-B243-301D5DB5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2D41-3736-4479-B5C1-A42179FB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64D4A-B65A-4DDF-B348-00A5F9BF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0950-388D-42F9-9B60-0A99F71F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167F6-5FBE-4FF4-83D5-682E97E2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821-C7AB-42E8-A828-C1649ECB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A501-2B19-4BB9-90D0-9F16C397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58F2-9994-4160-BD9D-A8C9341B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080B-3CE7-44D3-8178-9508592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F6F5-1D46-4985-9806-6A403F69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8D07-C970-4C2F-A2EA-451ACAC4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648DB-7C18-48AB-8A58-0C4DD8FC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44CEF-B585-4FF2-8A11-28FD0519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584A5-494A-4D3E-B84B-958A2DC9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1A52-6A1F-4D6B-92CB-F92DABC8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CBD42-6BC6-42E1-B658-5D3B9F16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C32-72BF-49A1-BF57-29A67AB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5B0E0-DB85-4A89-A3C4-89B6E37B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20E2-3BC2-412C-A61F-01E448A1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300A9-D6C4-4BD2-A492-F66F7773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EDA5-891C-4FBC-8AF7-5ACED5DE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FB3E-D14D-4CC6-88B4-C8DFF8F6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6581-5BF0-4C8D-AE6B-AD9F0C6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738B-3674-4FFC-A5E4-495661A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A42D-B3F5-466F-88DE-092D8D5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CCC7-EE71-4F84-B57B-8D4336E1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68494-C9EF-4044-B563-A703D17F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B4F-9638-4CF8-8808-8FCD9AF4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62B4E-5B58-4CD0-80F0-553E5047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C7D2E-B595-416D-80F5-B2D4C81F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9E82A-69F3-450C-A95B-F5FFC6FD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F5315-4179-427F-93D3-60298DA9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645B8-F949-4D55-85C4-A4848E64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39CEE-794F-4B30-B470-A5701A41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9F3E0-4DB3-41A5-B95C-01D68073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3FA19-A06B-4FF9-A092-ABF7E429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031A4-44C4-45AD-A848-6DBE28A0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A3D80-6027-4917-9F85-414D9B4F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C1A-9858-4314-B47B-BAA85C4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B7A5A-0127-46E2-90C8-E426EC55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9B112-2844-4587-803B-CA83EC1A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08F3B-0D5E-44F4-A3FC-436EAC4C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BC76-172F-4B72-8452-648D881E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D634A-4CC9-43FF-84AF-A33CB1C3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4A575-377C-43BF-AC94-21452D49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F989-72CB-4AEA-8C99-AE19FFAA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2FB45-3DE7-4E5F-A37B-DD250AF5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16B57-A1A8-47EF-8FC8-5AA09A92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CC44F-9293-40F3-B730-FA8CD451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84F-8451-4504-B893-CC730470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EDCC1-AF5F-4B4E-AA27-B70F76E7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04E5-77C2-4F3F-8488-D86A583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0823C-813D-40E5-9E44-44A39FE5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AD18E-145F-49CB-976B-AC841BFC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6CEC4-A4AC-4782-ABDE-55FA827B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697-3A17-488A-AB24-8B827F50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9308-B995-4C77-9342-3856EF763EA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239-7750-4BE3-B064-0853B46F979A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BCC-195D-4891-AC9E-BE6A70C8E85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5FE2-4C9E-463A-ACC0-C023B3BB09B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D4A6-66FF-464B-AF16-B4D4C01A9D1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0F11-DD54-4170-A664-245416DAB9E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7D2B-492C-458B-A3FC-E1685D97262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85840" y="388620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324000" y="3141720"/>
            <a:ext cx="741672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КОРОНЫ</a:t>
            </a:r>
            <a:br>
              <a:rPr sz="4000"/>
            </a:b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РОССИЙСКОЙ ИМПЕРИИ,</a:t>
            </a:r>
            <a:br>
              <a:rPr sz="4000"/>
            </a:b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БРИТАНСКОЙ ИМПЕРИИ</a:t>
            </a:r>
            <a:br>
              <a:rPr sz="4000"/>
            </a:b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КАРПЕНКО Д.Д.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475920"/>
            <a:ext cx="8229600" cy="61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настоящее время корона Британской империи находится в постоянной экспозиции Тауэра, кроме времени, когда она используется в процедуре открытия Парламент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Тем не менее, именно в короне Британской империи ежегодно королева открывает сессию Парламента. Существует традиция, по которой корона и другие драгоценности отдельно доставляются в специальной карете в Вестминстерский дворец до отъезда королевы из Букингемского дворца и надеваются ею непосредственно перед процедурой открытия Парламент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ОПИСА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64b3c"/>
                </a:solidFill>
                <a:latin typeface="Century Gothic"/>
              </a:rPr>
              <a:t>Корона Британской империи по своей форме изготовлена подобно короне святого Эдуарда: венец с чередующимися четырьмя крестами и четырьмя геральдическими лилиями, выше которых от крестов идут четыре полудуги. Венчает корону шар с крестом. Внутри — бархатная шапка с горностаевой опушкой. Корона несёт на себе: 2868 алмазов, 273 жемчужины, 17 сапфиров, 11 изумрудов и 5 рубинов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64b3c"/>
                </a:solidFill>
                <a:latin typeface="Century Gothic"/>
              </a:rPr>
              <a:t>В корону вставлены драгоценные камни, имеющие историческое значение. В верхний крест короны вставлен сапфир, известный как сапфир св. Эдуарда; в передний крест вставлен рубин Чёрного Принца; ниже рубина на фронтоне установлен алмаз Куллинан-II (Малая Звезда Африки), в тыловую часть обода короны вставлен сапфир Стюартов.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НТЕРЕСНЫЕ ФАКТЫ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 1367 г. король Кастилии подарил этот камень Эдуарду, принцу Уэльскому и Аквитанскому за его военную помощь. В 1415 г. камнем владел английский король Генрих V. В одном из сражений Столетней войны шлем короля раскололся от удара меча, но король остался жив. Полагают, что жизнь ему спас «Черный принц», который был при нем. В середине XVII в. во времена буржуазной революции все сокровища казны были распроданы. «Черный принц» надолго исчез. После реставрации монархии в 1660 г. к королевской семье вернулся и ее алый талисман. С тех пор шпинель «Рубин Черный принц» служит украшением короны английских монархов вместе с другим историческим камнем - бриллиантом «Куллинан -II» весом 317,40 карат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b7d72"/>
                </a:solidFill>
                <a:latin typeface="Book Antiqua"/>
              </a:rPr>
              <a:t>КАЗАНСКАЯ ШАПКА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2071800" y="1571760"/>
            <a:ext cx="46479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СТОР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Century Gothic"/>
              </a:rPr>
              <a:t>Помимо "Шапки Мономаха" другим наиболее древним венцом, хранящимся в музеях Московского Кремля, является "Казанская Шапка". Она внесена в книгу "Выдающиеся сокровища мира" как шедевр мирового ювелирного искусства, достойно представляющий Россию.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1600" spc="-1" strike="noStrike">
                <a:solidFill>
                  <a:srgbClr val="564b3c"/>
                </a:solidFill>
                <a:latin typeface="Century Gothic"/>
              </a:rPr>
              <a:t>«Шапка Казанская» была изготовлена, приблизительно в 1553 году, для Иоанна IV сразу после покорения и присоединения Казанского ханства к Русскому государству и упрочения титула Казанского царя. Точных сведений о том, когда и кем был изготовлен венец, нет. Существует версия, что её изготовили ювелиры покорённого ханства. По мнению некоторых ученых, "Казанская Шапка" была изготовлена в мастерских Кремля в честь взятия Казани в 1552 г. Другие исследователи считают, что она имеет татарское происхождение, что подтверждает "Историческое описание Оружейной палаты" 1835 г. В этом документе сказано: "Корона Царства Казанского, видом своим отлична от наших: оная сделана в Восточном вкусе из золота с чернью и формою наподобие высокой шапки к верху остро оканчивающейся, вся ея наружность украшена в фигурах яхонтами, рубинами, бирюзами и весьма крупным жемчугом". Скорее всего, "Казанский Венец" был присвоен Иваном IV в качестве военного трофея. Об этом говорят как украшающие Шапку драгоценные камни, традиционные для татарского ювелирного искусства: бирюза, альмандины, жемчуг, так и их расположение на узорном орнаментальном фоне.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ОПИСАНИЕ</a:t>
            </a:r>
            <a:br>
              <a:rPr sz="36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и изготовлении шапки использовалось золото, серебро, мех, драгоценные камни: жемчуг, ахонт, бирюза, альмандины, рубины и сапфир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именены следующие ювелирные приёмы: чеканка, литьё, резьба, чернь, эмаль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Золотая тулья украшена мелким цветочным черневым орнаментом, исполненным в «восточном» стиле. Рядами к ней прикреплены резные кокошники — очень похожие на «городки», очень распространённые в русской архитектуре и прикладном искусстве. В центре каждого «городка» — крупный драгоценный камень или большая жемчужина. Венчает шапку жёлтый сапфир в 90 каратов. жемчу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НТЕРЕСНЫЕ ФАКТЫ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Шапка выполнена в характерной для головных уборов казанских татар форме - в виде полусферической шапки, опушенной дорогим мехом. Завершение "Казанской шапки" - янтарь вытянутой грушевидной формы с двумя жемчугами по ее сторонам - украшение более позднее. Оно не соответствует структуре короны, которая, по-видимому, ранее завершалась золотым полумесяцем или изображением полиморфного чудовища, наподобие изображению в гербе Казани. Такое предположение было высказано Ф.Х. Валеевым, который впервые атрибутировал Казанскую шапку как произведение татарских ювелиров конца XV - начала XVI веков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равнительный анализ выявил стилистическое родство элементов декора короны с сохранившимися произведениями татарских мастеров XVI века: золотыми поясными застежками от костюма татарской знати и сохранившимися каменными надгробьями первой половины XVI века. Так называемые кокошники, или городки-шапки, в форме трилистников, отделяются от их основания глубоким вырезом, как и в составных частях - медальонах поясных застежек и полу розеток надгробий. Завершение блях и орнаментальных мотивов трилистниками, как и переход от них к остальной части формы бляхи через глубокий вырез - явление типичное для искусства волжских булгар и казанских татар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Тулья шапки украшена тонким рельефным орнаментом на густом черневом фоне. Эта своеобразная техника нанесения узора, путем выбирания фона и последующей заливкой его чернью, имела значительное место в украшении ювелирных изделий булгарских ремесленников. Сохранились булгарские серьги, перстни, замочки, украшенные этой техникой. О булгаро-татарском происхождении короны свидетельствует и система инкрустации ее самоцветами и цветовой подбор их - небесно-голубая бирюза в сочетании с лилово-розовыми альмандинами или красными гранатами, зеленой яшмой или красноватым топазом, что также является характерным для булгарских и татарских ювелирных изделий. Эти излюбленные у казанских татар самоцветы являлись камнями-талисманами, обладавшими, по поверьям, чудодейственной силой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Казанская шапка по всему своему облику, формам, деталям, орнаментальным мотивам и их трактовке, особенностям чернения, системе инкрустации самоцветами, их сочетанию является произведением татарских ювелиров Казани эпохи Казанского ханства. Предположение о том, что корона могла быть сделана в Москве, приехавшими из Казани татарскими ювелирами, на наш взгляд, неубедительно. Гораздо более оснований утверждать, что шапка была увезена в Москву из Казани вместе с "до угрожения лодей великим златом и сребром, и сосуды сребряными и златыми, и украшенными постелями, и многоразличными одеянми царьскими, и воиньскими оружми всякими", - пишет казанский летописец XVI века. Об этом писал и русский дореволюционный историк Н. Спасский: "В награду за победу (над Казанью, прим. авт.) царь взял себе лишь приведенного к нему хана Едигера, ханскую корону, жезл, знамена и пушки". В старинной русской былине приводятся следующие строки: "Он (т.е. Иван IV, прим. авт.) и взял с него (т.е. с Едигера, прим. авт.) царскую корону, и снял царскую порфиру, он царский костыль в руки принял"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Казанская шапка своим великолепием и изысканным убранством поражала умы видевших ее на голове русского царя. Так, посол императора Максимилиана II - канцлер Ян Кобенцль, посетивший Ивана IV в 1576 году, восторженно писал: "В минувшем году видел я короны, или митры, святейшего нашего господина в замке святого Ангела... Видел корону и все одеяние короля католического... видел многие украшения короля Франции и его императорского величества как в Венгерском королевстве, так и в Богемии и других местах. Поверьте же мне, что все сие ни в малейшей степени сравниться не может с тем, что я здесь увидел"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СХОДСТВА И РАЗЛИЧИЯ ПРЕДСТАВЛЕННЫХ ШЕДЕВРОВ ЮВЕЛИРНОГО ИСКУССТВА 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5092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37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64b3c"/>
                </a:solidFill>
                <a:latin typeface="Century Gothic"/>
              </a:rPr>
              <a:t>Все рассмотренные императорские и царские регалии являются достоянием мирового ювелирного искусства. Каждый правитель желал иметь несравненную по красоте и величеству корону, поэтому, для создания такого шедевра было использовано огромное количество  драгоценных камней и металлов, а также мехов. Бриллианты, алмазы, жемчужины используются как в Большой императорской короне Российской империи , так и в короне Британской империи. В Казанской шапке также присутствуют жемчуга, рубин и сапфир, но еще использованы мех, золото, серебро, бирюза , альмандины и яхонт. Для создания Казанской шапки были использованы следующие ювелирные приемы : чеканка, литье, резьба, чернь, эмаль.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1500" spc="-1" strike="noStrike">
                <a:solidFill>
                  <a:srgbClr val="564b3c"/>
                </a:solidFill>
                <a:latin typeface="Century Gothic"/>
              </a:rPr>
              <a:t>Форма короны Российской империи несет в себе смысл: два серебряных полушария олицетворяют соединение Востока и Запада на территории Российской империи. 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1500" spc="-1" strike="noStrike">
                <a:solidFill>
                  <a:srgbClr val="564b3c"/>
                </a:solidFill>
                <a:latin typeface="Century Gothic"/>
              </a:rPr>
              <a:t>Корона Британской империи по своей форме изготовлена подобно короне святого Эдуарда: венец с чередующимися четырьмя крестами и четырьмя геральдическими лилиями, выше которых от крестов идут четыре полудуги. Венчает корону шар с крестом. Внутри — бархатная шапка с горностаевой опушкой.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1500" spc="-1" strike="noStrike">
                <a:solidFill>
                  <a:srgbClr val="564b3c"/>
                </a:solidFill>
                <a:latin typeface="Century Gothic"/>
              </a:rPr>
              <a:t>В Казанской шапке золотая тулья украшена мелким цветочным черневым орнаментом, исполненным в «восточном» стиле. Рядами к ней прикреплены резные кокошники —  похожие на «городки», очень распространённые в русской архитектуре и прикладном искусстве.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64b3c"/>
                </a:solidFill>
                <a:latin typeface="Century Gothic"/>
              </a:rPr>
              <a:t>     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564b3c"/>
                </a:solidFill>
                <a:uFillTx/>
                <a:latin typeface="Century Gothic"/>
              </a:rPr>
              <a:t>Цель: </a:t>
            </a: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Создать модель короны для выпускного бала на основе синтеза структурных компонентов головных уборов Татарстана, России, Англии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564b3c"/>
                </a:solidFill>
                <a:uFillTx/>
                <a:latin typeface="Century Gothic"/>
              </a:rPr>
              <a:t>Задачи: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Выявить характерные особенности императорской короны России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Рассмотреть особенности корон Британской империи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Изучить «Шапку Казанскую» как шедевр мирового ювелирного искусства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Выявить черты сходства и различия представленных шедевров и на их основе смоделировать собственный головной убор короля и королевы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  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24000" y="0"/>
          <a:ext cx="8229600" cy="688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Сходст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Различ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она Британской империи была изготовлена для коронации Георг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она Российской империи была изготовлена для коронации Павл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но по причине его смерти, этой короной короновалась Екатери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занская шапка была изготовлена для Иоан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 короны изготовлены в разные столетия. Кроме того, в отличие от короны Российской империи и Казанской шапки, которые находятся на музейном хранении, корона Британской империи до сих пор используется при ежегодном открытии сессий парла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занская шапка была изготовлена не для коронации Иоан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а в честь присоединения Казанского ханства к Русскому государст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коронах Российской и Британской империй присутствуют драгоценные камни: алмазы, бриллианты, а также жемчу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короне Российской империи, как и в Казанской шапке используется золото и серебр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короне Британской империи, как и в Казанской шапке присутствуют сапфи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лько для изготовления Казанской шапки был использован ме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лько в корону Британской империи вставлены камни, имеющие историческое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она Российской империи, как и  Казанская шапка несет в себе смысл: два серебряных полушария короны олицетворяют соединение Востока и Запада на территории Росс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 золотой тулье Казанской шапки прикреплены резные кокошники, символизирующие «городки» на территории Русского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а короны Британской империи подобна форме короны св. Эдуарда, которая является, скорее, неким традиционным стандартом для королевских регалий Англии, нежели формой, несущей в себе какой-либо определенный смыс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велиры короны Российской империи известны – И. Позье и Г.Ф. Эка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ена изготовителей короны Британской империи и Казанской шапки неизвест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БОЛЬШАЯ ИМПЕРАТОРСКАЯ </a:t>
            </a:r>
            <a:br>
              <a:rPr sz="3600"/>
            </a:b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КОРОНА РОССИ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1100160" y="1752480"/>
            <a:ext cx="6943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СТОР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Корона Российской империи — особый драгоценный коронационный головной убор императоров России, символизирующий наивысшую ступень в иерархии и являющийся эмблемой верховной власти — знак монаршего достоинства; Большая Императорская корона Российской империи, которую возлагали на голову нового самодержца. 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Большой императорской короной короновались в России все императоры, начиная с Екатерины II Великой.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Императорская корона изготовлена придворным ювелиром Георгом-Фридрихом Экартом и бриллиантовых дел мастером Иеремией Позье для коронации императора Петра III, но он не дожил до коронации и этой короной короновалась Екатерина II в 1762 году. Корона создана в рекордно короткий срок — всего за два месяца.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Руководил работой по созданию короны ювелир Г.-Ф. Экарт. Он создал эскиз и каркас. Подбором бриллиантов занимался И. Позье.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ОПИСА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Большая императорская корона изготовлена в виде головного убора, тяготеющего к восточным традициям. Она составлена из двух серебряных полушарий, олицетворяющих соединение Востока и Запада на территории Российской импер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еличественный рисунок короны не только прекрасен, но и наполнен глубоким смыслом. Снизу сетку полушарий охватывают лавровые ветви — символ власти и славы, а в рисунке гирлянды между полушариями помещены дубовые листья и жёлуди, что символизирует крепость и прочность вла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ПАРАМЕТРЫ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спользованы материалы — серебро, золото, бриллианты, жемчуг, шпинель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Мастера оправили в серебро 4936 бриллиантов весом в 2858 карат. Сверкание бриллиантового кружева подчеркнуто двумя рядами крупных матовых жемчужин, всего 75 штук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Высота короны с крестом 27,5 см. Длина нижней окружности — 64 см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Масса короны — 1993,80 грамм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Корону венчает редкий драгоценный камень ярко красного цвета — благородная шпинель величиной 398,72 карата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НТЕРЕСНЫЕ ФАКТЫ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7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Венчает корону редкий драгоценный камень – благородная шпинель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 этим камнем связаны многочисленные легенды и поверья, но все они сводятся к магическим медицинским свойствам - способности вылечивать от различных болезней. Так, мелко истолченный порошок шпинели добавляли в лекарственную смесь, полагая, что принятая внутрь, она может веселить человека, придать его лицу румянец и поддерживать в порядке желудок. Древние мудрецы утверждали, что ношение этого камня предохраняет от множества болезней, особенно от боли в пояснице, плохих снов и бесовских помыслов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7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На Востоке особенно ценилась красная шпинель. Ее носили, чтобы предохранить глаза от ослепляющего действия Солнца. Считалось, что шпинель разжигает в человеке страсти и ее нужно прятать от детей, поскольку главное магическое свойство камня заключается в возбуждении влече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7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Шпинель также всегда считали талисманом государей-воинов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КОРОНА БРИТАНСКОЙ ИМПЕР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4" name="Picture 6" descr=""/>
          <p:cNvPicPr/>
          <p:nvPr/>
        </p:nvPicPr>
        <p:blipFill>
          <a:blip r:embed="rId1"/>
          <a:stretch/>
        </p:blipFill>
        <p:spPr>
          <a:xfrm>
            <a:off x="1633680" y="1700280"/>
            <a:ext cx="61070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СТОР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4000" y="119664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4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Корона Британской империи – относится к так называемым Драгоценностям Короны – королевским регалиям, ювелирным украшениям, принадлежащим не лично британскому монарху, а государству.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64b3c"/>
                </a:solidFill>
                <a:latin typeface="Century Gothic"/>
              </a:rPr>
              <a:t>    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«Повседневная» корона Британской империи была изготовлена для коронации короля Георга VI в 1937 году. Она является точной копией более ранней короны Британской империи, изготовленной для королевы Виктории, но имеет более лёгкий вес и более удобна для длительного ношения. Из-за своего веса (910 г.) монарх часто надевает корону в своей частной резиденции, утром в день открытия Парламента, чтобы привыкнуть к весу и чувствовать себя увереннее. По словам одного придворного, он видел, как королева Елизавета II утром в день открытия Парламента принимала завтрак, сидя за столом с короной Британской империи на голове и читая газету.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Остовы старых корон Британской империи королей Георга I, Георга IV и королевы Виктории хранятся Тауэре. Корона Британской империи, как самая носимая, и наиболее подверженная износу и старению, почти для каждого монарха изготавливалась новая, при этом учитывался личный вкус монарха.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4:04:48Z</dcterms:created>
  <dc:creator>User</dc:creator>
  <dc:description/>
  <dc:language>en-US</dc:language>
  <cp:lastModifiedBy>Denis</cp:lastModifiedBy>
  <dcterms:modified xsi:type="dcterms:W3CDTF">2015-09-24T14:18:48Z</dcterms:modified>
  <cp:revision>21</cp:revision>
  <dc:subject/>
  <dc:title>Слайд 1</dc:title>
</cp:coreProperties>
</file>