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20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12.jpeg" ContentType="image/jpeg"/>
  <Override PartName="/ppt/media/image34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235-F95F-47E7-84F5-B79012BB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F43-A9C2-422A-8720-8675DEC7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3A936-AB1C-4B00-A3F5-96AB9B9E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23D18-E028-4E84-BAAB-A067DE48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31BA0-8716-4F8E-ADD5-02FE8850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9E0E7-8087-405E-B3A0-52C0F964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FFCFA-B083-4C17-B087-61E969EB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2312F-2060-4649-989D-28FDB18B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F72E2-2123-4ADA-9F02-BA665A7D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706EB-645E-4D3D-B3F0-D317EF0E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E65D2-6ACF-4500-B4CA-DC0CBCAE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A37-F13C-425D-826F-848718E8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845-E37E-4F37-B219-10FB1BD9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5C9E-FC2C-4134-811D-18824DD6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96BB-F5F5-4CC2-AFA0-B8D5F95C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2A63-3B92-4A8A-950E-637658A8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3EDF-E996-4E53-9D68-0CB58962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E89E-E44E-491D-A2D0-A49383DA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28B2-4060-4A9D-93B0-9C159A27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659E-2A86-4D70-812B-37A77B8F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1F2-71D6-4B35-805E-CDFCA344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CBBA-999A-4AE4-ABB7-137DF046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59B7-6095-49FC-8B13-26FF15DB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F2CC-BB56-4A37-B1D2-A4E4FFA1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0D3E-3C0F-4402-8487-BA364A2B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AEBD-6677-48DF-BF2D-E57A2595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D242-3530-4DD0-BBED-99A4F1C5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A697-F837-48E7-A897-0B096DD5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3DC9-2BBE-4E8B-8940-A88380EE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C75E-2936-4E54-885C-17648F9A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7F81-436C-42C5-B973-0E0CACF6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A7B-503B-4DAD-80A6-3DC480AB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D1464-9459-4F52-B492-CBAFC3D1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224EF-F3FE-4BD1-8D46-A68BC098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5D8C-93CD-4128-BD22-617D5AA6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64B61-95B8-451C-9979-21FC4D75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1FB98-2810-4941-80EC-2A5F1611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93AE-18A2-43BC-912C-49CB4F07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5B9F8-DDFD-4ACE-B283-5EEB06F3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7BCF0-4987-4BEE-8BAD-5C6D4128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57808-6934-4EE4-9644-5012C4E7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80EBC-24F3-4688-A3F0-6980A488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5FE-A524-4E1D-874A-1BF6449C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7769-83C6-4107-A250-D633F98A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A7308-5F5F-477D-A366-1EFD7B98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F2758-616D-43B9-A3A7-9B0F0CD0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97F90-9095-4759-9C78-A2AFDF1B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53769-0F0D-4CD4-A1D6-1F088611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203A-B707-450D-B24E-A7CCAA9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E6614-7BCF-4B10-8F86-ED0BE820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6EF2-015F-4D31-9F02-1C5CEA74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F6658-94B8-409C-BB49-6FF23A65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A749-1A05-4114-8154-1244FF4D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756-42A5-4392-A8C5-B5806BFB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5D07F-58F7-4F4C-A438-7A8CDD31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63E08-90CD-4681-BF21-0510B5AB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B23F-56AF-4978-B05B-6EBBA26F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5DE0-9524-4DCB-B103-F6C4287A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B6593-FBF0-4D91-B579-1ED81562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4485D-7A11-425A-A158-6E093BE7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F62FF-B841-49EF-A5F0-EDF75B69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0B8B3-7BBE-497D-AB31-CA532A48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26048-93C8-4F69-9546-3D9789AD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E5009-2452-4C70-914C-732FB2F3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8B6-FCB5-473C-B5A6-1F99D782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69C4A-6D41-47D4-BD3D-CE9F518D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56A1F-95DC-4E30-BC95-96A2E91B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74003-C474-46B2-B3C6-F38A4E0D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7D226-11D9-4385-A81E-45AB30F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F7CF9-80C8-4548-AD0F-F397EE40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AB7DA-E363-4F69-8789-DE91635F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D267D-FCB8-48C2-98A5-80E7B948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5F172-03E4-4654-A08D-2DCCD69D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3DE50-388A-4B60-81D4-DF66A94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DDCCA-23AA-4553-9F99-030C4E0D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E97-4644-4B09-9B32-61A04CDB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82BF-DED6-4F50-8FF7-E7D1784A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9EE54-B9D3-49B2-9182-58002EE2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AC284-BD4A-48DE-A32E-816DEF41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CB8F6-8441-41D1-950D-032F3F6E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5DBD8-1F4E-480B-B633-64CA6A65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6B58D-2B10-4E3F-8601-E58920A1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C7C16-D8EB-4E9D-BE0C-1957E24A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FB8B3-C0A9-4486-BFD3-4113AA6F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927FE-C53E-4D6B-BE56-DBAFAD2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DBDD9-25E5-4FFC-B545-A687557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820-E275-4B77-8AD5-D022E0E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77D8F-C168-4D05-B950-3F0FE92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8A497-E643-46EB-9986-A0FE371C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662B8-B36F-43E9-A31F-6723D8F5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FCE6D-15A5-4FAB-B709-9DCE1CFC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CBC61-743E-4D10-9A58-A2F991DE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4A7F2-5B83-45AB-9B17-E296ABDD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D5CF2-BA70-4A48-8741-DF438DE2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CF583-8AE7-4EDF-AADE-F9500BFD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14F97-D171-4397-9506-5A1148DA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5119F-5DAA-43CB-8AA5-C019F7BA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40B-DF17-4927-81B9-17E1FB4D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01EE6-12F3-41F8-9BC7-D60F0FDF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5A16F-5D5B-488C-9AA3-E4ECF879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E983B-7C1A-4587-9402-C3150688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BCCE5-04D5-4AA7-B9D7-65E76489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96ADA-5981-4482-B7A0-31ACABD5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0436A-3AEB-4FAE-807E-BA8A2831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DDC19-AD28-4166-8EE4-24CDA879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FA3F7-C532-4FAD-ACCD-C534B74B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553E3-E8C0-40B4-99AD-72F68A30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96DB8-3B78-489C-B3DF-EA505982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9948-42D7-4066-B489-0ED757ECFB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0987-2D30-43B3-955B-D3D026387F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366E-ADF8-4975-A5C8-340AB5C612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4504-5B7E-4402-B702-A3F4F561B1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3462-66C5-40E8-85BC-1958A7C9F7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47AD-31BC-447E-B1BB-07998A89B8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BAF9-7AC2-4CC4-B7F8-C8E477703C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9A16-6F36-4056-A493-CD0D62ADA3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66C0-3B5A-4731-AAFD-F82461A68D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image" Target="../media/image37.jpeg"/><Relationship Id="rId18" Type="http://schemas.openxmlformats.org/officeDocument/2006/relationships/image" Target="../media/image38.png"/><Relationship Id="rId19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58800" y="1139760"/>
            <a:ext cx="8021520" cy="3359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5840"/>
            <a:ext cx="8458200" cy="19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Franklin Gothic Book"/>
              </a:rPr>
              <a:t>МХК  10 класс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2143080" y="64296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бобщение по тем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рямоугольник 1"/>
          <p:cNvSpPr/>
          <p:nvPr/>
        </p:nvSpPr>
        <p:spPr>
          <a:xfrm>
            <a:off x="1500120" y="3244680"/>
            <a:ext cx="64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одготовила учитель МХ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МБОУ «Ардатовская СОШ» Дубенского района РМ  Клементьева Е.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2014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42560" y="107172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Medium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1. Дайте определение следующим понятиям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1 вариант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рельеф, курос, фриз, акропол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b050"/>
                </a:solidFill>
                <a:uFillTx/>
                <a:latin typeface="Franklin Gothic Book"/>
              </a:rPr>
              <a:t>2 вариант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    барельеф, кора, фронтон, орде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Franklin Gothic Book"/>
              </a:rPr>
              <a:t>3 </a:t>
            </a:r>
            <a:r>
              <a:rPr b="1" lang="ru-RU" sz="3200" spc="-1" strike="noStrike" u="sng">
                <a:solidFill>
                  <a:srgbClr val="0070c0"/>
                </a:solidFill>
                <a:uFillTx/>
                <a:latin typeface="Franklin Gothic Book"/>
              </a:rPr>
              <a:t>вариант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  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амфора, лира, некрополь, капител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98440" y="-115920"/>
            <a:ext cx="8620200" cy="1689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krit7"/>
          <p:cNvPicPr/>
          <p:nvPr/>
        </p:nvPicPr>
        <p:blipFill>
          <a:blip r:embed="rId2"/>
          <a:stretch/>
        </p:blipFill>
        <p:spPr>
          <a:xfrm>
            <a:off x="2614680" y="2571840"/>
            <a:ext cx="3537000" cy="2071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krit21"/>
          <p:cNvPicPr/>
          <p:nvPr/>
        </p:nvPicPr>
        <p:blipFill>
          <a:blip r:embed="rId3"/>
          <a:stretch/>
        </p:blipFill>
        <p:spPr>
          <a:xfrm>
            <a:off x="214200" y="1630440"/>
            <a:ext cx="2298960" cy="365580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5"/>
          <p:cNvSpPr/>
          <p:nvPr/>
        </p:nvSpPr>
        <p:spPr>
          <a:xfrm>
            <a:off x="652320" y="55008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1 вари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3724200" y="4929120"/>
            <a:ext cx="15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Calibri"/>
              </a:rPr>
              <a:t>2 вариант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3" descr="http://keep4u.ru/imgs/b/2009/04/08/05/05e85ac8489027d85b.jpg"/>
          <p:cNvPicPr/>
          <p:nvPr/>
        </p:nvPicPr>
        <p:blipFill>
          <a:blip r:embed="rId4"/>
          <a:stretch/>
        </p:blipFill>
        <p:spPr>
          <a:xfrm>
            <a:off x="6286680" y="1511280"/>
            <a:ext cx="2500200" cy="405144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8"/>
          <p:cNvSpPr/>
          <p:nvPr/>
        </p:nvSpPr>
        <p:spPr>
          <a:xfrm>
            <a:off x="6869880" y="578628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3 </a:t>
            </a: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вариа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Documents and Settings\Александр\Мои документы\Мои рисунки\АФРОДИТА.jpg"/>
          <p:cNvPicPr/>
          <p:nvPr/>
        </p:nvPicPr>
        <p:blipFill>
          <a:blip r:embed="rId1"/>
          <a:stretch/>
        </p:blipFill>
        <p:spPr>
          <a:xfrm>
            <a:off x="0" y="714240"/>
            <a:ext cx="2023920" cy="5526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Александр\Мои документы\Мои рисунки\ДИСКОБОЛ.jpg"/>
          <p:cNvPicPr/>
          <p:nvPr/>
        </p:nvPicPr>
        <p:blipFill>
          <a:blip r:embed="rId2"/>
          <a:stretch/>
        </p:blipFill>
        <p:spPr>
          <a:xfrm>
            <a:off x="2571840" y="928800"/>
            <a:ext cx="3327480" cy="542916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5"/>
          <p:cNvSpPr/>
          <p:nvPr/>
        </p:nvSpPr>
        <p:spPr>
          <a:xfrm>
            <a:off x="509400" y="62150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1 вари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3366720" y="6396120"/>
            <a:ext cx="15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Calibri"/>
              </a:rPr>
              <a:t>2 вариант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одержимое 2"/>
          <p:cNvSpPr/>
          <p:nvPr/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13" descr="дорифор.JPG"/>
          <p:cNvPicPr/>
          <p:nvPr/>
        </p:nvPicPr>
        <p:blipFill>
          <a:blip r:embed="rId3"/>
          <a:srcRect l="27276" t="0" r="27272" b="0"/>
          <a:stretch/>
        </p:blipFill>
        <p:spPr>
          <a:xfrm>
            <a:off x="6113520" y="1000080"/>
            <a:ext cx="3030480" cy="500076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9"/>
          <p:cNvSpPr/>
          <p:nvPr/>
        </p:nvSpPr>
        <p:spPr>
          <a:xfrm>
            <a:off x="6796080" y="614376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3 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вари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8"/>
          <p:cNvSpPr/>
          <p:nvPr/>
        </p:nvSpPr>
        <p:spPr>
          <a:xfrm>
            <a:off x="214200" y="2142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3. Назовите скульптуры, и периоды их со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C:\Documents and Settings\Александр\Мои документы\Мои рисунки\ЭРРЕХТЕЙОН.jpg"/>
          <p:cNvPicPr/>
          <p:nvPr/>
        </p:nvPicPr>
        <p:blipFill>
          <a:blip r:embed="rId1"/>
          <a:stretch/>
        </p:blipFill>
        <p:spPr>
          <a:xfrm>
            <a:off x="214200" y="642960"/>
            <a:ext cx="3929040" cy="2946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C:\Documents and Settings\Александр\Мои документы\Мои рисунки\gre_klassik_nika.jpg"/>
          <p:cNvPicPr/>
          <p:nvPr/>
        </p:nvPicPr>
        <p:blipFill>
          <a:blip r:embed="rId2"/>
          <a:stretch/>
        </p:blipFill>
        <p:spPr>
          <a:xfrm>
            <a:off x="4500720" y="642960"/>
            <a:ext cx="4157640" cy="2936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Александр\Мои документы\Мои рисунки\ПАРФЕНОН.jpg"/>
          <p:cNvPicPr/>
          <p:nvPr/>
        </p:nvPicPr>
        <p:blipFill>
          <a:blip r:embed="rId3"/>
          <a:stretch/>
        </p:blipFill>
        <p:spPr>
          <a:xfrm>
            <a:off x="2786040" y="3786120"/>
            <a:ext cx="401652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6"/>
          <p:cNvSpPr/>
          <p:nvPr/>
        </p:nvSpPr>
        <p:spPr>
          <a:xfrm>
            <a:off x="438120" y="35719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1 вари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7295760" y="3643200"/>
            <a:ext cx="15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2 вариант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8"/>
          <p:cNvSpPr/>
          <p:nvPr/>
        </p:nvSpPr>
        <p:spPr>
          <a:xfrm>
            <a:off x="4010040" y="63961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Calibri"/>
              </a:rPr>
              <a:t>3 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Calibri"/>
              </a:rPr>
              <a:t>вари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7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Назовите шедевры архите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krit23"/>
          <p:cNvPicPr/>
          <p:nvPr/>
        </p:nvPicPr>
        <p:blipFill>
          <a:blip r:embed="rId1"/>
          <a:stretch/>
        </p:blipFill>
        <p:spPr>
          <a:xfrm>
            <a:off x="214200" y="1000080"/>
            <a:ext cx="2667240" cy="3643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" descr="C:\Documents and Settings\Александр\Мои документы\Мои рисунки\КРАСНОФ КРАТЕР.jpg"/>
          <p:cNvPicPr/>
          <p:nvPr/>
        </p:nvPicPr>
        <p:blipFill>
          <a:blip r:embed="rId2"/>
          <a:srcRect l="-1388" t="0" r="-1355" b="0"/>
          <a:stretch/>
        </p:blipFill>
        <p:spPr>
          <a:xfrm>
            <a:off x="5786280" y="1357200"/>
            <a:ext cx="3357720" cy="3429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http://zdorovosport.ru/oldsport1.gif"/>
          <p:cNvPicPr/>
          <p:nvPr/>
        </p:nvPicPr>
        <p:blipFill>
          <a:blip r:embed="rId3"/>
          <a:srcRect l="8318" t="0" r="12593" b="11325"/>
          <a:stretch/>
        </p:blipFill>
        <p:spPr>
          <a:xfrm>
            <a:off x="2928960" y="3000240"/>
            <a:ext cx="2714760" cy="385776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4"/>
          <p:cNvSpPr/>
          <p:nvPr/>
        </p:nvSpPr>
        <p:spPr>
          <a:xfrm>
            <a:off x="6867360" y="48578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2 вари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723600" y="47149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1 вари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5438520" y="614376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Calibri"/>
              </a:rPr>
              <a:t>3 вари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5. Опишите тему росписи  ваз,  укажите периоды их со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C:\Documents and Settings\Александр\Мои документы\Мои рисунки\ОРДЕР.jpg"/>
          <p:cNvPicPr/>
          <p:nvPr/>
        </p:nvPicPr>
        <p:blipFill>
          <a:blip r:embed="rId1"/>
          <a:stretch/>
        </p:blipFill>
        <p:spPr>
          <a:xfrm>
            <a:off x="357120" y="1522440"/>
            <a:ext cx="7858080" cy="5335560"/>
          </a:xfrm>
          <a:prstGeom prst="rect">
            <a:avLst/>
          </a:prstGeom>
          <a:ln w="0">
            <a:noFill/>
          </a:ln>
        </p:spPr>
      </p:pic>
      <p:pic>
        <p:nvPicPr>
          <p:cNvPr id="433" name="Заголовок 2" descr=""/>
          <p:cNvPicPr/>
          <p:nvPr/>
        </p:nvPicPr>
        <p:blipFill>
          <a:blip r:embed="rId2"/>
          <a:stretch/>
        </p:blipFill>
        <p:spPr>
          <a:xfrm>
            <a:off x="208080" y="85680"/>
            <a:ext cx="8727840" cy="135900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3"/>
          <p:cNvSpPr/>
          <p:nvPr/>
        </p:nvSpPr>
        <p:spPr>
          <a:xfrm>
            <a:off x="865800" y="12142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1 вари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4"/>
          <p:cNvSpPr/>
          <p:nvPr/>
        </p:nvSpPr>
        <p:spPr>
          <a:xfrm>
            <a:off x="3937680" y="12142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050"/>
                </a:solidFill>
                <a:uFillTx/>
                <a:latin typeface="Calibri"/>
              </a:rPr>
              <a:t>2 вари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"/>
          <p:cNvSpPr/>
          <p:nvPr/>
        </p:nvSpPr>
        <p:spPr>
          <a:xfrm>
            <a:off x="6866640" y="114300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70c0"/>
                </a:solidFill>
                <a:uFillTx/>
                <a:latin typeface="Calibri"/>
              </a:rPr>
              <a:t>3 вари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13" descr="дорифор.JPG"/>
          <p:cNvPicPr/>
          <p:nvPr/>
        </p:nvPicPr>
        <p:blipFill>
          <a:blip r:embed="rId1"/>
          <a:stretch/>
        </p:blipFill>
        <p:spPr>
          <a:xfrm>
            <a:off x="6286680" y="4357800"/>
            <a:ext cx="1214280" cy="235728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2" descr="дискобол.JPG"/>
          <p:cNvPicPr/>
          <p:nvPr/>
        </p:nvPicPr>
        <p:blipFill>
          <a:blip r:embed="rId2"/>
          <a:stretch/>
        </p:blipFill>
        <p:spPr>
          <a:xfrm>
            <a:off x="2714760" y="4214880"/>
            <a:ext cx="1785960" cy="23572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213840" y="357120"/>
            <a:ext cx="8929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Medium"/>
              </a:rPr>
              <a:t>7. Узнайте памятник культуры и выбери для него соответствующую эпоху  Древней  Греци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Рисунок 3" descr="parfenon.jpg"/>
          <p:cNvPicPr/>
          <p:nvPr/>
        </p:nvPicPr>
        <p:blipFill>
          <a:blip r:embed="rId3"/>
          <a:stretch/>
        </p:blipFill>
        <p:spPr>
          <a:xfrm>
            <a:off x="500040" y="1643040"/>
            <a:ext cx="2382840" cy="178596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6" descr="i[10].jpg"/>
          <p:cNvPicPr/>
          <p:nvPr/>
        </p:nvPicPr>
        <p:blipFill>
          <a:blip r:embed="rId4"/>
          <a:stretch/>
        </p:blipFill>
        <p:spPr>
          <a:xfrm>
            <a:off x="2928960" y="1857240"/>
            <a:ext cx="2071800" cy="156060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7" descr="attach.asp.jpg"/>
          <p:cNvPicPr/>
          <p:nvPr/>
        </p:nvPicPr>
        <p:blipFill>
          <a:blip r:embed="rId5"/>
          <a:stretch/>
        </p:blipFill>
        <p:spPr>
          <a:xfrm>
            <a:off x="5000760" y="1857240"/>
            <a:ext cx="2280960" cy="15004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8" descr="mik[1].jpg"/>
          <p:cNvPicPr/>
          <p:nvPr/>
        </p:nvPicPr>
        <p:blipFill>
          <a:blip r:embed="rId6"/>
          <a:stretch/>
        </p:blipFill>
        <p:spPr>
          <a:xfrm>
            <a:off x="7286760" y="1428840"/>
            <a:ext cx="1674720" cy="235728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9" descr="450px-Laokoon-Gruppe-02.jpg"/>
          <p:cNvPicPr/>
          <p:nvPr/>
        </p:nvPicPr>
        <p:blipFill>
          <a:blip r:embed="rId7"/>
          <a:stretch/>
        </p:blipFill>
        <p:spPr>
          <a:xfrm>
            <a:off x="857160" y="4286160"/>
            <a:ext cx="1768680" cy="23576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5" descr="nik002.jpg"/>
          <p:cNvPicPr/>
          <p:nvPr/>
        </p:nvPicPr>
        <p:blipFill>
          <a:blip r:embed="rId8"/>
          <a:stretch/>
        </p:blipFill>
        <p:spPr>
          <a:xfrm>
            <a:off x="4572000" y="4286160"/>
            <a:ext cx="1665360" cy="24289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16"/>
          <p:cNvSpPr/>
          <p:nvPr/>
        </p:nvSpPr>
        <p:spPr>
          <a:xfrm>
            <a:off x="153000" y="242892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8"/>
          <p:cNvSpPr/>
          <p:nvPr/>
        </p:nvSpPr>
        <p:spPr>
          <a:xfrm>
            <a:off x="447120" y="542916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9"/>
          <p:cNvSpPr/>
          <p:nvPr/>
        </p:nvSpPr>
        <p:spPr>
          <a:xfrm>
            <a:off x="357120" y="3857760"/>
            <a:ext cx="69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) Крито-микенская  Б) Архаика  В) Классика  Д) Элл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TextBox 17" descr=""/>
          <p:cNvPicPr/>
          <p:nvPr/>
        </p:nvPicPr>
        <p:blipFill>
          <a:blip r:embed="rId9"/>
          <a:stretch/>
        </p:blipFill>
        <p:spPr>
          <a:xfrm>
            <a:off x="566640" y="1944720"/>
            <a:ext cx="542880" cy="433440"/>
          </a:xfrm>
          <a:prstGeom prst="rect">
            <a:avLst/>
          </a:prstGeom>
          <a:ln w="0">
            <a:noFill/>
          </a:ln>
        </p:spPr>
      </p:pic>
      <p:pic>
        <p:nvPicPr>
          <p:cNvPr id="450" name="TextBox 20" descr=""/>
          <p:cNvPicPr/>
          <p:nvPr/>
        </p:nvPicPr>
        <p:blipFill>
          <a:blip r:embed="rId10"/>
          <a:stretch/>
        </p:blipFill>
        <p:spPr>
          <a:xfrm>
            <a:off x="2992320" y="2090880"/>
            <a:ext cx="519120" cy="426960"/>
          </a:xfrm>
          <a:prstGeom prst="rect">
            <a:avLst/>
          </a:prstGeom>
          <a:ln w="0">
            <a:noFill/>
          </a:ln>
        </p:spPr>
      </p:pic>
      <p:pic>
        <p:nvPicPr>
          <p:cNvPr id="451" name="TextBox 21" descr=""/>
          <p:cNvPicPr/>
          <p:nvPr/>
        </p:nvPicPr>
        <p:blipFill>
          <a:blip r:embed="rId11"/>
          <a:stretch/>
        </p:blipFill>
        <p:spPr>
          <a:xfrm>
            <a:off x="5065560" y="1878120"/>
            <a:ext cx="549360" cy="426960"/>
          </a:xfrm>
          <a:prstGeom prst="rect">
            <a:avLst/>
          </a:prstGeom>
          <a:ln w="0">
            <a:noFill/>
          </a:ln>
        </p:spPr>
      </p:pic>
      <p:pic>
        <p:nvPicPr>
          <p:cNvPr id="452" name="TextBox 22" descr=""/>
          <p:cNvPicPr/>
          <p:nvPr/>
        </p:nvPicPr>
        <p:blipFill>
          <a:blip r:embed="rId12"/>
          <a:stretch/>
        </p:blipFill>
        <p:spPr>
          <a:xfrm>
            <a:off x="7351560" y="1517760"/>
            <a:ext cx="549360" cy="426960"/>
          </a:xfrm>
          <a:prstGeom prst="rect">
            <a:avLst/>
          </a:prstGeom>
          <a:ln w="0">
            <a:noFill/>
          </a:ln>
        </p:spPr>
      </p:pic>
      <p:pic>
        <p:nvPicPr>
          <p:cNvPr id="453" name="TextBox 24" descr=""/>
          <p:cNvPicPr/>
          <p:nvPr/>
        </p:nvPicPr>
        <p:blipFill>
          <a:blip r:embed="rId13"/>
          <a:stretch/>
        </p:blipFill>
        <p:spPr>
          <a:xfrm>
            <a:off x="2206800" y="4449600"/>
            <a:ext cx="523800" cy="427320"/>
          </a:xfrm>
          <a:prstGeom prst="rect">
            <a:avLst/>
          </a:prstGeom>
          <a:ln w="0">
            <a:noFill/>
          </a:ln>
        </p:spPr>
      </p:pic>
      <p:pic>
        <p:nvPicPr>
          <p:cNvPr id="454" name="TextBox 25" descr=""/>
          <p:cNvPicPr/>
          <p:nvPr/>
        </p:nvPicPr>
        <p:blipFill>
          <a:blip r:embed="rId14"/>
          <a:stretch/>
        </p:blipFill>
        <p:spPr>
          <a:xfrm>
            <a:off x="3992400" y="4230720"/>
            <a:ext cx="482760" cy="433440"/>
          </a:xfrm>
          <a:prstGeom prst="rect">
            <a:avLst/>
          </a:prstGeom>
          <a:ln w="0">
            <a:noFill/>
          </a:ln>
        </p:spPr>
      </p:pic>
      <p:pic>
        <p:nvPicPr>
          <p:cNvPr id="455" name="TextBox 26" descr=""/>
          <p:cNvPicPr/>
          <p:nvPr/>
        </p:nvPicPr>
        <p:blipFill>
          <a:blip r:embed="rId15"/>
          <a:stretch/>
        </p:blipFill>
        <p:spPr>
          <a:xfrm>
            <a:off x="5499000" y="4449600"/>
            <a:ext cx="474840" cy="427320"/>
          </a:xfrm>
          <a:prstGeom prst="rect">
            <a:avLst/>
          </a:prstGeom>
          <a:ln w="0">
            <a:noFill/>
          </a:ln>
        </p:spPr>
      </p:pic>
      <p:pic>
        <p:nvPicPr>
          <p:cNvPr id="456" name="TextBox 27" descr=""/>
          <p:cNvPicPr/>
          <p:nvPr/>
        </p:nvPicPr>
        <p:blipFill>
          <a:blip r:embed="rId16"/>
          <a:stretch/>
        </p:blipFill>
        <p:spPr>
          <a:xfrm>
            <a:off x="7066080" y="4376880"/>
            <a:ext cx="480960" cy="4269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C:\Documents and Settings\Александр\Мои документы\Мои рисунки\КОРА.jpg"/>
          <p:cNvPicPr/>
          <p:nvPr/>
        </p:nvPicPr>
        <p:blipFill>
          <a:blip r:embed="rId17"/>
          <a:stretch/>
        </p:blipFill>
        <p:spPr>
          <a:xfrm>
            <a:off x="7643880" y="4035600"/>
            <a:ext cx="1187280" cy="282240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29" descr=""/>
          <p:cNvPicPr/>
          <p:nvPr/>
        </p:nvPicPr>
        <p:blipFill>
          <a:blip r:embed="rId18"/>
          <a:stretch/>
        </p:blipFill>
        <p:spPr>
          <a:xfrm>
            <a:off x="8424720" y="4091040"/>
            <a:ext cx="5112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85840" y="714240"/>
            <a:ext cx="88581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Medium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8.  Дайте характеристику одному из этапов древнегреческой культуры (характер, памятники культуры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1 вариант -  Крито-микенский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Franklin Gothic Book"/>
              </a:rPr>
              <a:t>2 вариант – Классик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Franklin Gothic Book"/>
              </a:rPr>
              <a:t>3 вариант - Эллинизм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30:29Z</dcterms:created>
  <dc:creator>Суханов</dc:creator>
  <dc:description/>
  <dc:language>en-US</dc:language>
  <cp:lastModifiedBy>Суханов</cp:lastModifiedBy>
  <dcterms:modified xsi:type="dcterms:W3CDTF">2018-02-08T18:32:39Z</dcterms:modified>
  <cp:revision>22</cp:revision>
  <dc:subject/>
  <dc:title>  КУЛЬТУРА ДРЕВНЕЙ ГРЕЦИИ</dc:title>
</cp:coreProperties>
</file>