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20C-E792-490A-8F93-BA46B765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B53-55AD-4D6C-A1FC-D408C75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B19-A777-4997-8C42-1FA4A9C3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6C4-C3A8-45E7-9FF6-752F33D9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5E3-7543-4908-AF26-E84CA85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74E-01AB-4462-9C55-2CBADEE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87D-82C6-4BE3-8B43-5997F4A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DB4-9D84-4E5C-A1D6-0DDB1E3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16C-E586-4955-A9B4-81BA84F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7CF-897E-425C-9599-FB3348A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679-6232-461F-A193-96A2896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545-6B96-459C-9D36-203B348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6325-DF62-4E67-8E18-1305D3E73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2636640"/>
            <a:ext cx="69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етодика решени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рекурсивных алгоритмов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проблемы решения задач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анного типа а Е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732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иляева О.И., учитель информатики и ИКТ МБОУ СОШ № 9 г. Хол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4"/>
          <p:cNvSpPr/>
          <p:nvPr/>
        </p:nvSpPr>
        <p:spPr>
          <a:xfrm>
            <a:off x="395280" y="5589720"/>
            <a:ext cx="820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3.docme.ru/store/data/000447065_1-087b6a27b65acd90ac2352cc74b8deca.png"/>
          <p:cNvPicPr/>
          <p:nvPr/>
        </p:nvPicPr>
        <p:blipFill>
          <a:blip r:embed="rId1"/>
          <a:stretch/>
        </p:blipFill>
        <p:spPr>
          <a:xfrm>
            <a:off x="0" y="0"/>
            <a:ext cx="2664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8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5610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686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8929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14200" y="836640"/>
            <a:ext cx="8929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68360" y="333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екурс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это свойство объекта подражать самому себе. Объект является рекурсивным если его части выглядят также как весь объект. Рекурсия очень широко применяется в математике и программиро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666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9640" y="765000"/>
            <a:ext cx="763272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то нужно зна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урсия – это приём, позволяющий свести исходную задачу к одной или нескольким более простым задачам того же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определить рекурсию, нужно зад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е остановки рекурсии (базовый случай или несколько базовых случае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уррентную формул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ую рекурсивную процедуру можно запрограммировать с помощью ци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урсия позволяет заменить цикл и в некоторых сложных задачах делает решение более понятным, хотя часто менее эффектив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ют языки программирования, в которых рекурсия используется как один из основных приемов обработки данны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skel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900000" y="0"/>
            <a:ext cx="7236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752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134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29440" cy="403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8893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138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06280" y="692280"/>
            <a:ext cx="8937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5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8:22:33Z</dcterms:created>
  <dc:creator>admin</dc:creator>
  <dc:description/>
  <dc:language>en-US</dc:language>
  <cp:lastModifiedBy>oksana</cp:lastModifiedBy>
  <dcterms:modified xsi:type="dcterms:W3CDTF">2018-02-08T04:35:26Z</dcterms:modified>
  <cp:revision>14</cp:revision>
  <dc:subject/>
  <dc:title>Методика решения рекурсивных алгоритмов (проблемы решения задач данного типа а ЕГЭ)</dc:title>
</cp:coreProperties>
</file>