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1667-3793-46A2-88CC-45763FEA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839-20D9-4784-8EA4-99012F08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09E5-7A36-4B5B-A61D-9CC832CA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20BF-078D-4829-B4E3-D3FE4E9B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381E-7D2E-4AC5-BD64-FF36A226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1241-51E1-43D4-B4C1-299FE420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F0BB-8E5D-4F9D-B669-10336561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91DA-0A30-4865-B818-077F9CC2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F647-665B-46CC-9C58-DEA11CB3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2F81-6902-43DD-9C0E-818CCFFF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4136-3D9F-4C3F-813E-920325C9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C88B-E177-4D4C-B894-52B20C7B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C890-8339-40A7-8944-39730B14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1DD6-DCC9-45D8-8116-EB07E6B4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9779-8DEA-4180-A134-B300900F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2AFC-D5D4-4076-B56E-15BDFAED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0167-74CC-48D1-97B2-8E40042B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052-54B4-4034-A9E0-0DC8D10E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005A-EB27-4BF9-B45E-7A838D4C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AD53-4E1C-4F31-B0C3-343F51AE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DFF2-5896-4DEA-B49E-864CB3FC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69CE-74C2-419A-B9B1-2E9B6CCE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7465-BB52-4FF8-BF4A-8D5947BC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CB08-1098-4C87-9284-79A89BA6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2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3" name="Group 6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4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6" name="Group 9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7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" name="Group 47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28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0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Line 14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400"/>
                    <a:gd name="textAreaBottom" fmla="*/ 725760 h 72540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360"/>
                    <a:gd name="textAreaBottom" fmla="*/ 684720 h 68436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1720"/>
                    <a:gd name="textAreaBottom" fmla="*/ 532080 h 53172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8" name="Freeform 27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29" name="Freeform 29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0" name="Freeform 30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3" name="Line 33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6" name="Freeform 46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85B3-6053-450D-A054-2528BBB4CF0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8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2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0" name="Rectangle 3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91" name="Group 6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4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3" name="Freeform 5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4" name="Group 9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7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" name="Freeform 8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7" name="Group 47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28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0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0" name="Freeform 11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1" name="Freeform 12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2" name="Freeform 13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3" name="Line 14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4" name="Freeform 15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760"/>
                    <a:gd name="textAreaBottom" fmla="*/ 726120 h 72576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5" name="Freeform 16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000"/>
                    <a:gd name="textAreaBottom" fmla="*/ 684360 h 68400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6" name="Freeform 17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7" name="Freeform 18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8" name="Freeform 19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9" name="Freeform 20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0" name="Freeform 21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1" name="Freeform 22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2080"/>
                    <a:gd name="textAreaBottom" fmla="*/ 532440 h 53208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2" name="Freeform 23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3" name="Freeform 24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4" name="Freeform 25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5" name="Freeform 26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6" name="Freeform 27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117" name="Freeform 29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8" name="Freeform 30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9" name="Freeform 31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0" name="Freeform 32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2" name="Freeform 34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3" name="Freeform 35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4" name="Freeform 36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5" name="Freeform 37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6" name="Freeform 38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7" name="Freeform 39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8" name="Freeform 40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9" name="Freeform 41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0" name="Freeform 42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1" name="Freeform 43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2" name="Freeform 44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3" name="Freeform 45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4" name="Freeform 46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2FEC-5A40-4D67-8C65-4BE8B714B85D}" type="slidenum"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Times New Roman"/>
              </a:rPr>
              <a:t>МИКЕНЫ И ТРО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Древнейшая Греция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1.Микены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2.Троянская война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3.Миф о начале троянской войны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39640" y="764640"/>
            <a:ext cx="3809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99"/>
                </a:solidFill>
                <a:uFillTx/>
                <a:latin typeface="Times New Roman"/>
              </a:rPr>
              <a:t>1.Микен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1523520"/>
            <a:ext cx="4038480" cy="48769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47005e"/>
              </a:gs>
              <a:gs pos="100000">
                <a:srgbClr val="9900cc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В середине 2 тыся-челетия до н.э. од-ним из самых могу-щественных стал г.Микены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Крепость города была сложена из огром-ных каменных плит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Греки думали,что ее построили циклопы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2" name="Picture 6" descr="Рисунок8"/>
          <p:cNvPicPr/>
          <p:nvPr/>
        </p:nvPicPr>
        <p:blipFill>
          <a:blip r:embed="rId1"/>
          <a:stretch/>
        </p:blipFill>
        <p:spPr>
          <a:xfrm>
            <a:off x="692280" y="1484280"/>
            <a:ext cx="3735360" cy="49672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1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032" descr="Рисунок6"/>
          <p:cNvPicPr/>
          <p:nvPr/>
        </p:nvPicPr>
        <p:blipFill>
          <a:blip r:embed="rId1"/>
          <a:stretch/>
        </p:blipFill>
        <p:spPr>
          <a:xfrm>
            <a:off x="561960" y="1292400"/>
            <a:ext cx="4297320" cy="53766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32000" y="41400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Times New Roman"/>
              </a:rPr>
              <a:t>1.Микен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865400" y="2147760"/>
            <a:ext cx="3809880" cy="365760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47005e"/>
              </a:gs>
              <a:gs pos="100000">
                <a:srgbClr val="9900cc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ссмотрите карту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?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Выгодное ли по-ложение занимали Микены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?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Почему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?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Что в этом поло-жении было хоро-шего, и что было плохого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?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AutoShape 1029"/>
          <p:cNvSpPr/>
          <p:nvPr/>
        </p:nvSpPr>
        <p:spPr>
          <a:xfrm>
            <a:off x="1787400" y="4119480"/>
            <a:ext cx="228600" cy="304920"/>
          </a:xfrm>
          <a:prstGeom prst="flowChartConnector">
            <a:avLst/>
          </a:prstGeom>
          <a:solidFill>
            <a:srgbClr val="da1a35"/>
          </a:solidFill>
          <a:ln w="57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87" name="Text Box 1030"/>
          <p:cNvSpPr/>
          <p:nvPr/>
        </p:nvSpPr>
        <p:spPr>
          <a:xfrm>
            <a:off x="2029320" y="404352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 Cyr"/>
              </a:rPr>
              <a:t>Микены</a:t>
            </a:r>
            <a:endParaRPr b="0" lang="en-US" sz="32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Times New Roman"/>
              </a:rPr>
              <a:t>2.Троянская войн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3925800"/>
            <a:ext cx="7772400" cy="274320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47005e"/>
              </a:gs>
              <a:gs pos="100000">
                <a:srgbClr val="9900cc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В 1200 году до н.э. началась война между грека-ми и Троянским царством за побережье Малой Азии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Греки разрушили Трою, но вскоре подверглись нашествию северных племен и Микены при-шли в упадок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0" name="Picture 7" descr="Рисунок5"/>
          <p:cNvPicPr/>
          <p:nvPr/>
        </p:nvPicPr>
        <p:blipFill>
          <a:blip r:embed="rId1"/>
          <a:stretch/>
        </p:blipFill>
        <p:spPr>
          <a:xfrm>
            <a:off x="898560" y="1469880"/>
            <a:ext cx="7345440" cy="24004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" dur="1" fill="hold"/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Times New Roman"/>
              </a:rPr>
              <a:t>2.Троянская войн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43480" y="1844640"/>
            <a:ext cx="3657600" cy="46195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47005e"/>
              </a:gs>
              <a:gs pos="100000">
                <a:srgbClr val="9900cc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По преданию после нескольких лет осады, греки пош-ли на хитрость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Они построили де-ревянного коня, спрятали туда во-инов, и оставили его у крепостных ворот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3" name="Picture 7" descr="1"/>
          <p:cNvPicPr/>
          <p:nvPr/>
        </p:nvPicPr>
        <p:blipFill>
          <a:blip r:embed="rId1"/>
          <a:stretch/>
        </p:blipFill>
        <p:spPr>
          <a:xfrm>
            <a:off x="1109520" y="1628640"/>
            <a:ext cx="3248280" cy="5040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1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Times New Roman"/>
              </a:rPr>
              <a:t>3.Миф о начале троянской войн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84520" y="1988640"/>
            <a:ext cx="4191120" cy="4038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Предводителем Греков был царь Микен-Ага-мемнон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Сего именем археологи связывают огромное количество находок на месте разрушен-ной Трои и в Мике-нах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6" name="Picture 7" descr="Рисунок2"/>
          <p:cNvPicPr/>
          <p:nvPr/>
        </p:nvPicPr>
        <p:blipFill>
          <a:blip r:embed="rId2"/>
          <a:stretch/>
        </p:blipFill>
        <p:spPr>
          <a:xfrm>
            <a:off x="611280" y="1844640"/>
            <a:ext cx="3735360" cy="4041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97" name="Text Box 8"/>
          <p:cNvSpPr/>
          <p:nvPr/>
        </p:nvSpPr>
        <p:spPr>
          <a:xfrm>
            <a:off x="516240" y="5950080"/>
            <a:ext cx="40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Золотая маска Агамемнона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" dur="1" fill="hold"/>
                                  <p:tgtEl>
                                    <p:spTgt spid="1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Times New Roman"/>
              </a:rPr>
              <a:t>3.Миф о начале троянской войн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3560" y="4797360"/>
            <a:ext cx="7696080" cy="182880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47005e"/>
              </a:gs>
              <a:gs pos="100000">
                <a:srgbClr val="9900cc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Гробница Агамемнона. В этой сокровищнице было обнаружено огромное количество находок относящихся к периоду Троянской войны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0" name="Picture 6" descr="Рисунок1"/>
          <p:cNvPicPr/>
          <p:nvPr/>
        </p:nvPicPr>
        <p:blipFill>
          <a:blip r:embed="rId1"/>
          <a:stretch/>
        </p:blipFill>
        <p:spPr>
          <a:xfrm>
            <a:off x="866880" y="1465200"/>
            <a:ext cx="7488000" cy="32371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1:03:29Z</dcterms:created>
  <dc:creator>ЧЕРНОВ АЛЕКСЕЙ</dc:creator>
  <dc:description/>
  <dc:language>en-US</dc:language>
  <cp:lastModifiedBy>школа 2</cp:lastModifiedBy>
  <dcterms:modified xsi:type="dcterms:W3CDTF">2018-01-17T07:49:46Z</dcterms:modified>
  <cp:revision>10</cp:revision>
  <dc:subject/>
  <dc:title>МИКЕНЫ И ТРОЯ</dc:title>
</cp:coreProperties>
</file>