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6F1-516D-45C3-AC6F-49B7A245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796-6A6A-4005-B091-7380C9E0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C6E-F79D-457C-8F89-F31011AB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B93-15AE-4B98-84DF-C89FC4C5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78E6-F2BD-4249-944D-1D85F39C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091C-45A1-4BAB-95A5-44A6094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D2C-2359-4776-BD4C-0238D001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2375-FB8F-4BD5-A951-19F2C1D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774-25AF-407B-95C4-AAA703D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13BA-15A9-4936-9BA1-D0F05552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083-A5FE-44D4-B96C-2EEC2CF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1BC-BFC2-41B3-A563-9C7AFDC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E9F-0FCB-4ECF-A5DB-5693B47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E5F9-648D-4165-93C9-67E0A71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F7A4-470E-4B88-8DE4-DA34E38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CA45-17D2-40DD-9A24-7EED1414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F5E-0C37-4C6F-83AB-7D8376DD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A22-CC81-4B46-A9D7-491F737C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0A8-4C05-4A03-B661-CA03D09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901-936A-438F-BECE-7E5E0AE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F04-9F5D-43AB-A2C4-D2460262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96B-B85F-42AA-B976-2FEB893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373-280A-4058-B504-4C76F53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D08-BA98-4BFE-9A21-F082ACA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BDD-C9F5-47C3-9451-4D5074DC38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D69-DD47-40CC-A302-0998CF4E07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Book Antiqua"/>
              </a:rPr>
              <a:t>Охрана труда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Book Antiqua"/>
              </a:rPr>
              <a:t>в образовательном учрежден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049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 Antiqua"/>
              </a:rPr>
              <a:t>Основная цель государственной системы управления охраны труда –обеспечить право работника на здоровые и безопасные условия тру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14400" y="5486400"/>
            <a:ext cx="7696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cc"/>
                </a:solidFill>
                <a:latin typeface="Monotype Corsiva"/>
              </a:rPr>
              <a:t>Зубарева  Надежда  Ивановна</a:t>
            </a:r>
            <a:r>
              <a:rPr b="0" lang="ru-RU" sz="1600" spc="-1" strike="noStrike">
                <a:solidFill>
                  <a:srgbClr val="6666cc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66cc"/>
                </a:solidFill>
                <a:latin typeface="Arial"/>
              </a:rPr>
              <a:t>Зам. директора по учебно–производственной рабо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66cc"/>
                </a:solidFill>
                <a:latin typeface="Arial"/>
              </a:rPr>
              <a:t>преподаватель по охране труда и дисциплин профессионального цик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66cc"/>
                </a:solidFill>
                <a:latin typeface="Arial"/>
              </a:rPr>
              <a:t>ГБПОУ ВО «Воронежский техникум промышленно-строительных технолог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Требован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Ознакомление работников с требованиями охраны труд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8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Обязательное социальное страхование работников от несчастных случаев на производстве и профессиональных заболеваний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ook Antiqua"/>
              </a:rPr>
              <a:t>Субъектами страхования являются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Страховщ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нд социального страхования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Страхова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я, в которой работает застрахова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Застрахова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лицо, выполняющее работу на основании трудового договора, заключенного со страхователе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Book Antiqua"/>
              </a:rPr>
              <a:t>Должностные обязанности руководителя учебного заведения по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Руководитель образовательного учрежде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Организует исполнение Федеральных законов, приказов, распоряжений, инструктивных писем органов образования и отраслевых комитетов профсоюзов по вопросам охраны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лжностные обязанности руководителя учебного заведения по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Определяет обязанности должностных лиц по обеспечению безопасных условий труда и учебно-воспитательного процесс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 Обеспечивает безопасную эксплуатацию инженерно-технических коммуникаций, оборудования, средств защит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лжностные обязанности руководителя учебного заведения по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 Обеспечивает своевременное обучение инженерно-педагогических работников по вопросам охраны труд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 Организует оснащение учебно-воспитательного процесса необходимой документацией и учебно-наглядными пособиями по охране труд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лжностные обязанности руководителя учебного заведения по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 Регулярно отчитывается на общих собраниях трудового коллектива о состоянии охраны труда, выполнении мероприятий по оздоровлению работающих, учащихся и детей сотрудник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0" lang="ru-RU" sz="3300" spc="-1" strike="noStrike">
                <a:solidFill>
                  <a:srgbClr val="000000"/>
                </a:solidFill>
                <a:latin typeface="Book Antiqua"/>
              </a:rPr>
              <a:t> Немедленно сообщает о несчастных случаях с работающими и учащимися в вышестоящий орган управления образование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Должностные обязанности работников образования по охране труда.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аведующий учебным кабинетом, мастерской, руководитель общественно полезного труда, кружка, спортсе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 Antiqua"/>
              </a:rPr>
              <a:t>Разработка инструкций по охране тру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Для работников отдельных профессий и должносте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На отдельные виды работ (при проведении занятий в кабинетах, спортивных залах, мастерских и т.д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Содержание инструкц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Общие требования безопасност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Требования безопасности перед началом работ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Требования безопасности во время работ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Требования безопасности в аварийных ситуация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 Antiqua"/>
              </a:rPr>
              <a:t>Требования безопасности по окончании работ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Обучение и инструктирование работников обра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162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 Antiqua"/>
              </a:rPr>
              <a:t>Обучению по охране труда и проверке знаний требований охраны труда в соответствии с Порядком обучения подлежат все работники организации, в т. ч. её руководител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Законодательные и нормативные правовые акты по охране</a:t>
            </a: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труда</a:t>
            </a:r>
            <a:br>
              <a:rPr sz="3600"/>
            </a:br>
            <a:br>
              <a:rPr sz="2000"/>
            </a:br>
            <a:br>
              <a:rPr sz="1000"/>
            </a:br>
            <a:br>
              <a:rPr sz="10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т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(принята всенародным голосованием 12 декабря 1993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рудовой кодекс РФ от 30.12.01 г. № 197-ФЗ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(введен в действие 01.02.2002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иказ Минтруда «Об утверждении типового положения о системе управления охраной труда» от 19.08.2016 г.  № 438н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едеральный закон от 29.12.2012  №273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б образовании в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Виды инструктажей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Вводный инструктаж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Первичный инструктаж на рабочем месте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Повторный инструктаж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Внеплановый инструктаж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Book Antiqua"/>
              </a:rPr>
              <a:t>Целевой инструктаж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6172200" y="1828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800600" y="29718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6705720" y="3581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7238880" y="43434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019920" y="48769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водный инструктаж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принимаемые на работу лица и другие лица, участвующие в производственной деятельности проходят в установленном порядке, который регистрируется в журнале вводного инструкта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8153280" y="579132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ервичный инструктаж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 рабочем мест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оводится до начала самостоятельной  работы со всеми вновь принятыми в организацию работниками независимо от условий и срока  трудового догово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81532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ffff"/>
                </a:solidFill>
                <a:latin typeface="Arial"/>
              </a:rPr>
              <a:t>Повторный инструктаж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оходят все работники не реже одного раза в шесть месяцев по программам, разработанным для проведения первичного инструктаж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82296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неплановый инструктаж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тся при изменении нормативной базы по охране труда, инструкций по охране труда, замене или модернизации оборудования, при нарушении работниками требований охраны труда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ffffff"/>
                </a:solidFill>
                <a:latin typeface="Arial"/>
              </a:rPr>
              <a:t>Целевой инструктаж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 при выполнении разовых работ, при ликвидации последствий аварий, а также при проведении в организации массовых меропри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8229600" y="57150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онтроль соблюдения требований охраны труд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ации по организации административно-общественного контроля охран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упень трёхступенчатого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упень трёхступенчатого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ья ступень трёхступенчатого контрол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ервая ступень трёхступенчатого контрол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уществляют заведующие кабинет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изики, химии,биологи, информатики, спортивного зала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аведующие учебными мастерски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еподаватели, воспитатели, педагоги дополните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ая ступень трёхступенчатого контро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дит ответственный и уполномоченный представитель по охране труда один раз в квар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ья ступень трёхступенчатого контроля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руководитель и председатель комитета профсоюза не реже одного раза в полуго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Законодательные и нормативные правовые акты по охране</a:t>
            </a: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 Antiqua"/>
              </a:rPr>
              <a:t>труда</a:t>
            </a:r>
            <a:br>
              <a:rPr sz="3600"/>
            </a:br>
            <a:br>
              <a:rPr sz="2500"/>
            </a:br>
            <a:br>
              <a:rPr sz="20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т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едеральный закон от 24.07. 98 г. № 125 «Об обязательном социальном страховании от несчастных случаев и профессиональных заболеваний» (с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едеральный закон от 12.01.96 г. № 10-ФЗ «О профессиональных союзах, их правах и гарантиях деятельности» (с изменениями и дополнениями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Федеральный закон от 27.12.2002 г. № 184-ФЗ «О техническом регулирова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Журнал административно-общественного контрол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т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ен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3429000"/>
          <a:ext cx="8153640" cy="2270160"/>
        </p:xfrm>
        <a:graphic>
          <a:graphicData uri="http://schemas.openxmlformats.org/drawingml/2006/table">
            <a:tbl>
              <a:tblPr/>
              <a:tblGrid>
                <a:gridCol w="668520"/>
                <a:gridCol w="1447560"/>
                <a:gridCol w="1600200"/>
                <a:gridCol w="1676520"/>
                <a:gridCol w="1236600"/>
                <a:gridCol w="1524240"/>
              </a:tblGrid>
              <a:tr h="15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контрол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едостатки по О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 по устранению наруш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испол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 о выполнени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а, подпись, отв. за выполн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тветственность за нарушение законодательства об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Дисциплинарная ответ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амечание, выговор, строгий выговор, перевод на нижеоплачиваемую работу или понижение в должности, лишение премии, уволь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тветственность за нарушение законодательства об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Административная ответствен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екс РФ об административных правонаруш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т 30.12.01 г. № 196-Ф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в ред. Федеральных законов от 04.07.2003 г. № 103-Ф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татья 5.27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рушение законодательства о труд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 об охране труд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рушение законодательства о труде и об охране труда – влечет наложение административного штрафа на должностных лиц в размере от пяти до пятидесяти минимальных размеров оплат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рушение законодательства о труде о об охране труда лицом, ранее подвергнутым административному правонарушению, - влечет дисквалификацию на срок от одного года до трех лет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тветственность за нарушение законодательства об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Материальная ответственность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Трудовой кодекс РФ статьи 232-2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имеет два вида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ственность работника, за нанесенный им ущерб предприятию (работодате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ственность предприятия (работодателя) перед работником за нанесенный ему ущерб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тветственность за нарушение законодательства об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Уголовная ответственность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овный кодекс РФ от 13.06.96 г. № 63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Извлечение с учетом изменений и дополнений, принятых Федеральным законом от 08.12.2003 г. № 162-Ф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Статья 143. Нарушение правил охраны тру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техники безопасности или иных правил охраны труда, совершенное лицом, на котором лежали обязанности по соблюдению этих правил, если это повлекло по неосторожности причинение тяжкого вреда здоровью человек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наказывается штрафом в размере до двухсот тысяч рублей или в размере заработной платы или иного дохода осужденного за период до восемнадцати месяце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либо исправительными работниками на срок до двух лет, либо лишением свободы на срок до од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тветственность за нарушение законодательства об охране тру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То же деяние, повлекшее по неосторожности смерть человека: наказывается лишением свободы на срок до трех лет с лишением права занимать определенные должности или заниматься определенной деятельностью на срок до т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х лет или без таковог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alk1"/>
          <p:cNvPicPr/>
          <p:nvPr/>
        </p:nvPicPr>
        <p:blipFill>
          <a:blip r:embed="rId1"/>
          <a:stretch/>
        </p:blipFill>
        <p:spPr>
          <a:xfrm>
            <a:off x="533520" y="304812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eystviya"/>
          <p:cNvPicPr/>
          <p:nvPr/>
        </p:nvPicPr>
        <p:blipFill>
          <a:blip r:embed="rId2"/>
          <a:stretch/>
        </p:blipFill>
        <p:spPr>
          <a:xfrm>
            <a:off x="2514600" y="2514600"/>
            <a:ext cx="1684440" cy="236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lectroust"/>
          <p:cNvPicPr/>
          <p:nvPr/>
        </p:nvPicPr>
        <p:blipFill>
          <a:blip r:embed="rId3"/>
          <a:stretch/>
        </p:blipFill>
        <p:spPr>
          <a:xfrm>
            <a:off x="4419720" y="2286000"/>
            <a:ext cx="1673280" cy="236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electroust"/>
          <p:cNvPicPr/>
          <p:nvPr/>
        </p:nvPicPr>
        <p:blipFill>
          <a:blip r:embed="rId4"/>
          <a:stretch/>
        </p:blipFill>
        <p:spPr>
          <a:xfrm>
            <a:off x="6324480" y="2057400"/>
            <a:ext cx="1670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kabel"/>
          <p:cNvPicPr/>
          <p:nvPr/>
        </p:nvPicPr>
        <p:blipFill>
          <a:blip r:embed="rId1"/>
          <a:stretch/>
        </p:blipFill>
        <p:spPr>
          <a:xfrm>
            <a:off x="533520" y="1523880"/>
            <a:ext cx="291456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aska2"/>
          <p:cNvPicPr/>
          <p:nvPr/>
        </p:nvPicPr>
        <p:blipFill>
          <a:blip r:embed="rId2"/>
          <a:stretch/>
        </p:blipFill>
        <p:spPr>
          <a:xfrm>
            <a:off x="3733920" y="1523880"/>
            <a:ext cx="291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kaska"/>
          <p:cNvPicPr/>
          <p:nvPr/>
        </p:nvPicPr>
        <p:blipFill>
          <a:blip r:embed="rId1"/>
          <a:stretch/>
        </p:blipFill>
        <p:spPr>
          <a:xfrm>
            <a:off x="533520" y="1523880"/>
            <a:ext cx="3130560" cy="4419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krov"/>
          <p:cNvPicPr/>
          <p:nvPr/>
        </p:nvPicPr>
        <p:blipFill>
          <a:blip r:embed="rId2"/>
          <a:stretch/>
        </p:blipFill>
        <p:spPr>
          <a:xfrm>
            <a:off x="3962520" y="1523880"/>
            <a:ext cx="31003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kaska_essl"/>
          <p:cNvPicPr/>
          <p:nvPr/>
        </p:nvPicPr>
        <p:blipFill>
          <a:blip r:embed="rId1"/>
          <a:stretch/>
        </p:blipFill>
        <p:spPr>
          <a:xfrm>
            <a:off x="762120" y="1447920"/>
            <a:ext cx="3022560" cy="4267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kotel"/>
          <p:cNvPicPr/>
          <p:nvPr/>
        </p:nvPicPr>
        <p:blipFill>
          <a:blip r:embed="rId2"/>
          <a:stretch/>
        </p:blipFill>
        <p:spPr>
          <a:xfrm>
            <a:off x="4343400" y="1523880"/>
            <a:ext cx="3022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Основные понят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рана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система сохранения жизни и здоровья работников в процессе трудовой деятельности, включающая в себя правовые, социально-экономические, организационно-технические, санитарно-гигиенические, лечебно-профилактические мероприятия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совокупность факторов производственной среды и трудового процесса, оказывающего влияние на работоспособность и здоровье работник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nekurit"/>
          <p:cNvPicPr/>
          <p:nvPr/>
        </p:nvPicPr>
        <p:blipFill>
          <a:blip r:embed="rId1"/>
          <a:stretch/>
        </p:blipFill>
        <p:spPr>
          <a:xfrm>
            <a:off x="609480" y="1523880"/>
            <a:ext cx="323856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nevlez"/>
          <p:cNvPicPr/>
          <p:nvPr/>
        </p:nvPicPr>
        <p:blipFill>
          <a:blip r:embed="rId2"/>
          <a:stretch/>
        </p:blipFill>
        <p:spPr>
          <a:xfrm>
            <a:off x="4343400" y="1523880"/>
            <a:ext cx="3184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ns"/>
          <p:cNvPicPr/>
          <p:nvPr/>
        </p:nvPicPr>
        <p:blipFill>
          <a:blip r:embed="rId1"/>
          <a:stretch/>
        </p:blipFill>
        <p:spPr>
          <a:xfrm>
            <a:off x="609480" y="1523880"/>
            <a:ext cx="3022560" cy="426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ob_ev"/>
          <p:cNvPicPr/>
          <p:nvPr/>
        </p:nvPicPr>
        <p:blipFill>
          <a:blip r:embed="rId2"/>
          <a:stretch/>
        </p:blipFill>
        <p:spPr>
          <a:xfrm>
            <a:off x="4038480" y="1523880"/>
            <a:ext cx="299268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op5"/>
          <p:cNvPicPr/>
          <p:nvPr/>
        </p:nvPicPr>
        <p:blipFill>
          <a:blip r:embed="rId1"/>
          <a:stretch/>
        </p:blipFill>
        <p:spPr>
          <a:xfrm>
            <a:off x="1066680" y="1523880"/>
            <a:ext cx="3065760" cy="4326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prav"/>
          <p:cNvPicPr/>
          <p:nvPr/>
        </p:nvPicPr>
        <p:blipFill>
          <a:blip r:embed="rId2"/>
          <a:stretch/>
        </p:blipFill>
        <p:spPr>
          <a:xfrm>
            <a:off x="4800600" y="1600200"/>
            <a:ext cx="307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pred_zn"/>
          <p:cNvPicPr/>
          <p:nvPr/>
        </p:nvPicPr>
        <p:blipFill>
          <a:blip r:embed="rId1"/>
          <a:stretch/>
        </p:blipFill>
        <p:spPr>
          <a:xfrm>
            <a:off x="990720" y="1523880"/>
            <a:ext cx="3012840" cy="4254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reanymac"/>
          <p:cNvPicPr/>
          <p:nvPr/>
        </p:nvPicPr>
        <p:blipFill>
          <a:blip r:embed="rId2"/>
          <a:stretch/>
        </p:blipFill>
        <p:spPr>
          <a:xfrm>
            <a:off x="4495680" y="1523880"/>
            <a:ext cx="3022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ie"/>
          <p:cNvPicPr/>
          <p:nvPr/>
        </p:nvPicPr>
        <p:blipFill>
          <a:blip r:embed="rId1"/>
          <a:stretch/>
        </p:blipFill>
        <p:spPr>
          <a:xfrm>
            <a:off x="990720" y="1523880"/>
            <a:ext cx="3184560" cy="4496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siz"/>
          <p:cNvPicPr/>
          <p:nvPr/>
        </p:nvPicPr>
        <p:blipFill>
          <a:blip r:embed="rId2"/>
          <a:stretch/>
        </p:blipFill>
        <p:spPr>
          <a:xfrm>
            <a:off x="4800600" y="1523880"/>
            <a:ext cx="3292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5800" y="4572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228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каты по охран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error"/>
          <p:cNvPicPr/>
          <p:nvPr/>
        </p:nvPicPr>
        <p:blipFill>
          <a:blip r:embed="rId1"/>
          <a:stretch/>
        </p:blipFill>
        <p:spPr>
          <a:xfrm>
            <a:off x="838080" y="1523880"/>
            <a:ext cx="3191040" cy="450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transpotirovka"/>
          <p:cNvPicPr/>
          <p:nvPr/>
        </p:nvPicPr>
        <p:blipFill>
          <a:blip r:embed="rId2"/>
          <a:stretch/>
        </p:blipFill>
        <p:spPr>
          <a:xfrm>
            <a:off x="4191120" y="1523880"/>
            <a:ext cx="31906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571680"/>
                <a:tab algn="l" pos="2774880"/>
                <a:tab algn="l" pos="5549760"/>
                <a:tab algn="l" pos="83250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5716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став образовательного учреждения (наличие и правильность оформления раздела по охране тру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5716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5716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териалы по лицензированию образовательного учреждения (наличие заключения по охране тру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5716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авила внутреннег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трудовог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аспорядка для работников образовательного учреждения (доведение работникам под роспис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ы руководителя  образовательного учреждения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 личному составу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и личные дела работников (правильность их оформлени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лжностные обязанности  по охране труда работников образовательного учреждения с их личными подписями (доведение под роспись производится ежегодно перед началом учебного го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Основные понят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дный производственный факт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производственный фактор, воздействие которого на работника может привести к его заболевани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опасные условия тру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условия труда, при которых воздействие на работающих вредных или опасных производственных факторов исключе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место, где работник должен находиться или куда ему необходимо прибыть в связи с его работой и которая прямо или косвенно находится под контролем работодател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500" spc="-1" strike="noStrike">
                <a:solidFill>
                  <a:srgbClr val="000000"/>
                </a:solidFill>
                <a:latin typeface="Bookman Old Style"/>
              </a:rPr>
              <a:t>6.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уководителя   образовательного учреждения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  назначении ответственных лиц за организацию безопасной работы,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как по учреждению, так и по его структурным подразделениям (издается ежегодно перед началом учебного года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7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токол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обрания    трудовог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коллектива    (профсоюзной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рганизации)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    выборам уполномоченного по охране труда и членов в совместный комитет (комиссию) по охране труд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8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 руководителя образовательного учреждения о назначении представителей администрации в совместный комитет (комиссию) по охране труд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9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 руководителя образовательного учреждения о назначении комиссии для проверки знаний по охране труда (число членов комиссии должно быть не менее трех, они должны быть  обучены и аттестованы в вышестоящей организации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достоверения о проверки знаний по охране труда руководителя образовательного учреждения, его заместителей и членов комиссии по проверке знани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1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токолы проверки знаний   по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хране труда работников   образовательного учреждения (оформляются один раз в 3 года, вновь принятых на работ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 течение месяца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5400"/>
                <a:tab algn="l" pos="190440"/>
                <a:tab algn="l" pos="380880"/>
                <a:tab algn="l" pos="476280"/>
                <a:tab algn="l" pos="76212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5400"/>
                <a:tab algn="l" pos="190440"/>
                <a:tab algn="l" pos="380880"/>
                <a:tab algn="l" pos="476280"/>
                <a:tab algn="l" pos="76212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териалы по проведению аттестации рабочих мест по условиям труда (оформляются не реже 1 раза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5400"/>
                <a:tab algn="l" pos="190440"/>
                <a:tab algn="l" pos="380880"/>
                <a:tab algn="l" pos="476280"/>
                <a:tab algn="l" pos="76212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 лет)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5400"/>
                <a:tab algn="l" pos="190440"/>
                <a:tab algn="l" pos="380880"/>
                <a:tab algn="l" pos="476280"/>
                <a:tab algn="l" pos="76212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3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Технический паспорт на здание образовательного учреждения (если его нет, то необходимо получить в бюро технической инвентаризации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4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 готовности образовательного учреждения к новому учебному году по утвержденной форме (оформляется ежегодно перед началом учебного года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5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   общего   технического   осмотра комиссией зданий   и   сооружений   образовательного   учреждения (оформляются 2 раза в год: весной и осенью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6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-разрешения на проведение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нятий в учебных мастерских и в   спортивных залах (оформляется ежегодно перед началом учебного года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Основные понят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ства индивидуальной и коллективной защи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 технические средства, используемые для предотвращения или уменьшения воздействия на работников вредных или опасных производственных факторов, а также защиты от загрязнен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ональное заболе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хроническое или острое заболевание, являющееся результатом воздействия на работника вредных производственных факторов и повлекшее временную или стойкую утрату им профессиональной трудоспособности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7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-разрешения на проведение занятий в кабинетах физики, химии, биологии, информатики, ОБЖ (оформляются для вновь организованных и реконструированных кабинетов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8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 приемки пищеблока к новому учебному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9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 о назначении ответственных лиц за пожарную безопасность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20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Инструкции о мерах пожарной безопаснос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21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ы регистрации противопожарного инструктажа вводного и на рабоче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22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лан (схема) и инструкция по эвакуации людей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23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 ревизии  состояния котельной (оформляется ежегодно перед началом отопительного сезона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24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  гидравлического   испытания   (опрессовки)   отопительной   системы (оформляется ежегодно перед началом отопительного сезона)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25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токолы   проверки   сопротивления изоляции проводов оформляются один раз в 3 года, а заземления   оборудования – оформляются ежегод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76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</a:rPr>
              <a:t>26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Коллективный договор (наличие раздела по охране труда)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</a:rPr>
              <a:t>27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оглашение  по  охране труда образовательного  учреждения, утвержденное руководителем этого учреждения   (заключается на календарный год)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5256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</a:rPr>
              <a:t>28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 проверки выполнения Соглашения по охране труда (оформляются 2 раза в год)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</a:rPr>
              <a:t>29</a:t>
            </a:r>
            <a:r>
              <a:rPr b="1" i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учета инструкций по охране труда с присвоением порядкового номера должен охватывать все виды работ и профессии учреждения, ведется специалистом по охране труда или  руководителем образовательного учреждения.</a:t>
            </a: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0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Инструкции по охране труда для всех должностей и по всем видам работ (утверждаются руководителем образовательного учреждения по согласованию с профкомом, пересматри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 раз в 5 лет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1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токолы заседания профкома  по рассмотрению и согласованию инструкций по охране труд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2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грамма вводного   инструктажа по охране труда   (утверждается руководителем образовательного учреждения при согласовании с профком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Требован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Безопасность работников на производ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менение средств индивидуальной и коллективной за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облюдение режима труда и отдыха работ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в соответствии с законодательством РФ и законодательством субъектов РФ).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3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проведения вводного инструктажа по охране труда (оформляется специалистом по охране труда или руководителем учреждения при приеме на работу, вводный инструктаж должны проходить все поступающие на работу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4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ограмма первичного инструктажа по охране труда на рабочем месте (составляется с учетом особенностей работы, утверждается руководителем образовательного учреждения при согласовании с профкомом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5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проведения инструктажа по охране труда на рабочем месте (оформляется руководителем структурного подразделения при приеме на работу всех работников, а в последующем не реже 2 раз в год в первом и втором полугодиях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6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иказ руководителя образовательного учреждения о назначении ответственного за электрохозяйство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37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проверки знаний у персонала с 1-ой группой электробезопасности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38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административно-общественного контроля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39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несчастных случаев, происшедших с работающими в образовательном учреждении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40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 оформления  несчастных случаев на производстве по форме Н-1 (хранятся 45 л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41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ообщения о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следствиях несчастного  случая на производств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в вышестоящую организацию,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Фонд социального страхования, а при смертельном, групповом или тяжелом несчастном случае дополнительно: в соответствующую Госинспекцию труда РФ, прокуратуру, в орган исполнительной власти, в территориальное объединение профсоюза).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42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инструктажа учащихся по охране труда при организации общественно полезного, производительного труда и проведении внеклассных и внешкольных мероприяти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43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полнение листка здоровья в журналах теоретического обучения на всех учащихся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44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Журнал регистрации несчастных случаев с обучающимися (воспитанниками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ЕНКЛАТУРА ДЕЛ ПО ОХРАНЕ ТРУД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 ОБРАЗОВАТЕЛЬНОМ УЧРЕЖДЕНИИ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45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кты оформления несчастных случаев с обучающимися по форме Н-2 (хранятся 45лет)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46.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редписания органов государственного надзор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380880"/>
                <a:tab algn="l" pos="476280"/>
                <a:tab algn="l" pos="2774880"/>
                <a:tab algn="l" pos="5549760"/>
                <a:tab algn="l" pos="8325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2296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Требован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 Antiqua"/>
              </a:rPr>
              <a:t>Инструктажи по охране труда, проверка знаний требований охраны труд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 Antiqua"/>
              </a:rPr>
              <a:t>Контроль за состоянием условий условий труда на рабочих местах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Book Antiqua"/>
              </a:rPr>
              <a:t>Организация обязательных (при поступлении на работу) и периодических (в течение трудовой деятельности) медицинских осмотров (обследований) работников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Требования охраны труд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Book Antiqua"/>
              </a:rPr>
              <a:t>Принятие мер по предотвращению аварийных ситуаций сохранению жизни и здоровью работ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Book Antiqua"/>
              </a:rPr>
              <a:t>Выполнение предписаний должностных лиц, органов государственного надзо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7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Book Antiqua"/>
              </a:rPr>
              <a:t>Разработка инструкций по охране труда для работников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8-02-08T08:39:51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