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2.jpeg" ContentType="image/jpeg"/>
  <Override PartName="/ppt/media/image29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AC79-A9EA-4598-BC36-E8EE8489D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8225-5F54-4D02-ADD9-E113DE820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7820-3418-4075-9284-769F15DF8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FFDB-0DDB-4C0D-B928-A31CC4C14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23696B-6521-4D39-BA75-2E3D21D5B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A7C65E-BC70-42AF-A71C-BD148B6AB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CFE0C9-6184-4574-AE46-D1D060AFB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302BEC-571D-45E7-8A79-862DB92C9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7DE46B-6011-4BE4-BFA6-3E2487E09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3C10E7-D8E2-458E-B706-08F0850DD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9DE3C6-2BFB-440B-87E4-40647169F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EF8E-180D-46B2-A953-7393B7C0C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D92162-6B0F-4F27-9C4C-7F34CA168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64AFF4-A499-4A74-A0AE-CC7E9E7BF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DC8E47-2AD0-48F9-B5E9-D620EBAE9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756249-D530-41E6-8FFA-DC61D21BE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25CBD5-7D1F-47FC-A0F6-8837C43AB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60FB-509F-41DD-AC5F-8C1371C4F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5CF1-77CF-4A50-AA40-7C1284DD4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4A13-0FEE-47D6-B82E-421F6A8CC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B448-C8C3-4A84-8490-DD23B3C2E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A9B9-679B-48A3-A60E-956F49B07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2DCA-2D92-43FD-9882-A229CCBBA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8FD5-DA4A-4E7F-9DC8-A34954D05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15E75-2ED5-4D01-8B8E-82583E3AA9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6EB54-3DAC-45D7-8070-255BAC22889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file:///&#1058;&#1077;&#1089;&#1090;%20&#1078;&#1080;&#1079;&#1085;&#1100;%20&#1074;%20&#1084;&#1086;&#1088;&#1103;&#1093;%20&#1080;%20&#1086;&#1082;&#1077;&#1072;&#1085;&#1072;&#1093;%20(&#1079;&#1072;&#1082;&#1088;&#1077;&#1087;&#1083;&#1077;&#1085;&#1080;&#1077;).htm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2590560"/>
            <a:ext cx="7391520" cy="1600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. Закон 0:0 - точности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. Закон един, говорит один (уважай говорящего)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. Закон инициативы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Не согласен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– возражай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озражаешь – предлагай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едлагаешь - делай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599840" y="3886200"/>
            <a:ext cx="61722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4. Закон чистоты (содержи свое рабочее место в чистоте и поряд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Содержимое 3" descr="чс.jpeg"/>
          <p:cNvPicPr/>
          <p:nvPr/>
        </p:nvPicPr>
        <p:blipFill>
          <a:blip r:embed="rId1"/>
          <a:stretch/>
        </p:blipFill>
        <p:spPr>
          <a:xfrm>
            <a:off x="343080" y="174600"/>
            <a:ext cx="5143320" cy="302580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4" descr="i.jpeg"/>
          <p:cNvPicPr/>
          <p:nvPr/>
        </p:nvPicPr>
        <p:blipFill>
          <a:blip r:embed="rId2"/>
          <a:stretch/>
        </p:blipFill>
        <p:spPr>
          <a:xfrm>
            <a:off x="1371600" y="3429000"/>
            <a:ext cx="7113600" cy="30481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257440" y="291960"/>
            <a:ext cx="3429000" cy="313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Водоросли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и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ланктон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Содержимое 3" descr="128525003581.jpg"/>
          <p:cNvPicPr/>
          <p:nvPr/>
        </p:nvPicPr>
        <p:blipFill>
          <a:blip r:embed="rId1"/>
          <a:stretch/>
        </p:blipFill>
        <p:spPr>
          <a:xfrm>
            <a:off x="304920" y="228600"/>
            <a:ext cx="4724280" cy="354348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4" descr="i.jpeg"/>
          <p:cNvPicPr/>
          <p:nvPr/>
        </p:nvPicPr>
        <p:blipFill>
          <a:blip r:embed="rId2"/>
          <a:stretch/>
        </p:blipFill>
        <p:spPr>
          <a:xfrm>
            <a:off x="3448080" y="3848040"/>
            <a:ext cx="5086440" cy="2857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Живые организмы живут на небольших глубина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Обитают прикрепленные к дну водоросли, моллюски, актинии, раки – отшельники, креветки, морские звезды, осьминоги и множество рыб: камбала, скаты, удильщик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685800" y="152280"/>
            <a:ext cx="7467480" cy="1524240"/>
          </a:xfrm>
          <a:prstGeom prst="flowChartPunchedTap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Tahoma"/>
              </a:rPr>
              <a:t>Донное сообщество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Picture 5" descr="1235932809_011[1]"/>
          <p:cNvPicPr/>
          <p:nvPr/>
        </p:nvPicPr>
        <p:blipFill>
          <a:blip r:embed="rId1"/>
          <a:stretch/>
        </p:blipFill>
        <p:spPr>
          <a:xfrm>
            <a:off x="4724280" y="1676520"/>
            <a:ext cx="1602000" cy="1063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slide0019_image020[1]"/>
          <p:cNvPicPr/>
          <p:nvPr/>
        </p:nvPicPr>
        <p:blipFill>
          <a:blip r:embed="rId2"/>
          <a:stretch/>
        </p:blipFill>
        <p:spPr>
          <a:xfrm>
            <a:off x="6629400" y="1600200"/>
            <a:ext cx="2363760" cy="1574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1235932833_015[1]"/>
          <p:cNvPicPr/>
          <p:nvPr/>
        </p:nvPicPr>
        <p:blipFill>
          <a:blip r:embed="rId3"/>
          <a:stretch/>
        </p:blipFill>
        <p:spPr>
          <a:xfrm>
            <a:off x="4495680" y="3276720"/>
            <a:ext cx="2806920" cy="19461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slide0017_image018[1]"/>
          <p:cNvPicPr/>
          <p:nvPr/>
        </p:nvPicPr>
        <p:blipFill>
          <a:blip r:embed="rId4"/>
          <a:stretch/>
        </p:blipFill>
        <p:spPr>
          <a:xfrm>
            <a:off x="6553080" y="5224320"/>
            <a:ext cx="2371680" cy="16336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9"/>
          <p:cNvSpPr/>
          <p:nvPr/>
        </p:nvSpPr>
        <p:spPr>
          <a:xfrm>
            <a:off x="4724280" y="2819520"/>
            <a:ext cx="1447920" cy="3045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Краб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7543800" y="3352680"/>
            <a:ext cx="144792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Морско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коне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Rectangle 11"/>
          <p:cNvSpPr/>
          <p:nvPr/>
        </p:nvSpPr>
        <p:spPr>
          <a:xfrm>
            <a:off x="4724280" y="5257800"/>
            <a:ext cx="1371600" cy="3049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Акти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Rectangle 12"/>
          <p:cNvSpPr/>
          <p:nvPr/>
        </p:nvSpPr>
        <p:spPr>
          <a:xfrm>
            <a:off x="7620120" y="4876920"/>
            <a:ext cx="1371600" cy="3045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Камбал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hecker dir="horz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14640" y="267120"/>
            <a:ext cx="2971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Содержимое 3" descr="23dbbbcf590b.jpg"/>
          <p:cNvPicPr/>
          <p:nvPr/>
        </p:nvPicPr>
        <p:blipFill>
          <a:blip r:embed="rId1"/>
          <a:stretch/>
        </p:blipFill>
        <p:spPr>
          <a:xfrm>
            <a:off x="1905120" y="150840"/>
            <a:ext cx="5333760" cy="321768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4" descr="i.jpeg"/>
          <p:cNvPicPr/>
          <p:nvPr/>
        </p:nvPicPr>
        <p:blipFill>
          <a:blip r:embed="rId2"/>
          <a:stretch/>
        </p:blipFill>
        <p:spPr>
          <a:xfrm>
            <a:off x="304920" y="3735360"/>
            <a:ext cx="3733560" cy="297972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5" descr="епи.jpeg"/>
          <p:cNvPicPr/>
          <p:nvPr/>
        </p:nvPicPr>
        <p:blipFill>
          <a:blip r:embed="rId3"/>
          <a:stretch/>
        </p:blipFill>
        <p:spPr>
          <a:xfrm>
            <a:off x="4419720" y="3733920"/>
            <a:ext cx="4414680" cy="29559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228600" y="1905120"/>
            <a:ext cx="4114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Наиболее разнообразное сообществ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Коралловые рифы – постройки, созданные бесчисленными маленькими животными – коралловыми полипа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Рифы распространены в  теплых тропических моря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AutoShape 4"/>
          <p:cNvSpPr/>
          <p:nvPr/>
        </p:nvSpPr>
        <p:spPr>
          <a:xfrm>
            <a:off x="457200" y="304920"/>
            <a:ext cx="8458200" cy="1447560"/>
          </a:xfrm>
          <a:prstGeom prst="flowChartPunchedTap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Tahoma"/>
              </a:rPr>
              <a:t>Сообщество коралловых рифо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5" descr="Sad_morja[1]"/>
          <p:cNvPicPr/>
          <p:nvPr/>
        </p:nvPicPr>
        <p:blipFill>
          <a:blip r:embed="rId1"/>
          <a:stretch/>
        </p:blipFill>
        <p:spPr>
          <a:xfrm>
            <a:off x="5943600" y="1752480"/>
            <a:ext cx="3084480" cy="20732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44" name="Picture 6" descr="1218065794_2110755960_b53d645897_b[1]"/>
          <p:cNvPicPr/>
          <p:nvPr/>
        </p:nvPicPr>
        <p:blipFill>
          <a:blip r:embed="rId2"/>
          <a:stretch/>
        </p:blipFill>
        <p:spPr>
          <a:xfrm>
            <a:off x="5715000" y="4419720"/>
            <a:ext cx="3198960" cy="22590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145" name="Picture 7" descr="1244911207_0lik"/>
          <p:cNvPicPr/>
          <p:nvPr/>
        </p:nvPicPr>
        <p:blipFill>
          <a:blip r:embed="rId3"/>
          <a:stretch/>
        </p:blipFill>
        <p:spPr>
          <a:xfrm>
            <a:off x="4648320" y="3124080"/>
            <a:ext cx="2079360" cy="158616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8"/>
          <p:cNvSpPr/>
          <p:nvPr/>
        </p:nvSpPr>
        <p:spPr>
          <a:xfrm>
            <a:off x="7162920" y="3962520"/>
            <a:ext cx="1676160" cy="3045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Коралл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Rectangle 9"/>
          <p:cNvSpPr/>
          <p:nvPr/>
        </p:nvSpPr>
        <p:spPr>
          <a:xfrm>
            <a:off x="4419720" y="4800600"/>
            <a:ext cx="1218960" cy="2286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Рыба-клоун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4000"/>
                            </p:stCondLst>
                            <p:childTnLst>
                              <p:par>
                                <p:cTn id="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Содержимое 3" descr="i.jpeg"/>
          <p:cNvPicPr/>
          <p:nvPr/>
        </p:nvPicPr>
        <p:blipFill>
          <a:blip r:embed="rId1"/>
          <a:stretch/>
        </p:blipFill>
        <p:spPr>
          <a:xfrm>
            <a:off x="457200" y="30492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4" descr="щшг.jpeg"/>
          <p:cNvPicPr/>
          <p:nvPr/>
        </p:nvPicPr>
        <p:blipFill>
          <a:blip r:embed="rId2"/>
          <a:stretch/>
        </p:blipFill>
        <p:spPr>
          <a:xfrm>
            <a:off x="2133720" y="3179880"/>
            <a:ext cx="4562280" cy="344016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5" descr="ып.jpeg"/>
          <p:cNvPicPr/>
          <p:nvPr/>
        </p:nvPicPr>
        <p:blipFill>
          <a:blip r:embed="rId3"/>
          <a:stretch/>
        </p:blipFill>
        <p:spPr>
          <a:xfrm>
            <a:off x="4876920" y="30492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Сложилось на больших глубинах океана, в вечной темнот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Многие  из здешних обитателей светятс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AutoShape 4"/>
          <p:cNvSpPr/>
          <p:nvPr/>
        </p:nvSpPr>
        <p:spPr>
          <a:xfrm>
            <a:off x="838080" y="152280"/>
            <a:ext cx="7467840" cy="1600200"/>
          </a:xfrm>
          <a:prstGeom prst="flowChartPunchedTap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Tahoma"/>
              </a:rPr>
              <a:t>Глубоководное сообщество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5" descr="52275[1]"/>
          <p:cNvPicPr/>
          <p:nvPr/>
        </p:nvPicPr>
        <p:blipFill>
          <a:blip r:embed="rId1"/>
          <a:stretch/>
        </p:blipFill>
        <p:spPr>
          <a:xfrm>
            <a:off x="4648320" y="1676520"/>
            <a:ext cx="1652400" cy="16333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55" name="Picture 6" descr="84(1)[1]"/>
          <p:cNvPicPr/>
          <p:nvPr/>
        </p:nvPicPr>
        <p:blipFill>
          <a:blip r:embed="rId2"/>
          <a:stretch/>
        </p:blipFill>
        <p:spPr>
          <a:xfrm>
            <a:off x="6477120" y="1981080"/>
            <a:ext cx="2438280" cy="17812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1261385381_d185d0b0d183d0bbd0b8d0bed0b4-4[1]"/>
          <p:cNvPicPr/>
          <p:nvPr/>
        </p:nvPicPr>
        <p:blipFill>
          <a:blip r:embed="rId3"/>
          <a:stretch/>
        </p:blipFill>
        <p:spPr>
          <a:xfrm>
            <a:off x="5562720" y="4572000"/>
            <a:ext cx="3276360" cy="19940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57" name="Rectangle 8"/>
          <p:cNvSpPr/>
          <p:nvPr/>
        </p:nvSpPr>
        <p:spPr>
          <a:xfrm>
            <a:off x="5943600" y="4114800"/>
            <a:ext cx="2666880" cy="3049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Хаулиод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4724280" y="3352680"/>
            <a:ext cx="175284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Глубоководны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удильщи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1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Содержимое 3" descr="i.jpeg"/>
          <p:cNvPicPr/>
          <p:nvPr/>
        </p:nvPicPr>
        <p:blipFill>
          <a:blip r:embed="rId1"/>
          <a:stretch/>
        </p:blipFill>
        <p:spPr>
          <a:xfrm>
            <a:off x="237960" y="7920"/>
            <a:ext cx="4943520" cy="339408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4" descr="1.jpg"/>
          <p:cNvPicPr/>
          <p:nvPr/>
        </p:nvPicPr>
        <p:blipFill>
          <a:blip r:embed="rId2"/>
          <a:stretch/>
        </p:blipFill>
        <p:spPr>
          <a:xfrm>
            <a:off x="3809880" y="3048120"/>
            <a:ext cx="4711680" cy="327636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Содержимое 3" descr="8з.jpeg"/>
          <p:cNvPicPr/>
          <p:nvPr/>
        </p:nvPicPr>
        <p:blipFill>
          <a:blip r:embed="rId1"/>
          <a:stretch/>
        </p:blipFill>
        <p:spPr>
          <a:xfrm>
            <a:off x="457200" y="39996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4" descr="i.jpeg"/>
          <p:cNvPicPr/>
          <p:nvPr/>
        </p:nvPicPr>
        <p:blipFill>
          <a:blip r:embed="rId2"/>
          <a:stretch/>
        </p:blipFill>
        <p:spPr>
          <a:xfrm>
            <a:off x="173160" y="3513240"/>
            <a:ext cx="4073400" cy="258264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5" descr="одж.jpeg"/>
          <p:cNvPicPr/>
          <p:nvPr/>
        </p:nvPicPr>
        <p:blipFill>
          <a:blip r:embed="rId3"/>
          <a:stretch/>
        </p:blipFill>
        <p:spPr>
          <a:xfrm>
            <a:off x="4838760" y="380880"/>
            <a:ext cx="3886200" cy="259092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6" descr="мя.jpeg"/>
          <p:cNvPicPr/>
          <p:nvPr/>
        </p:nvPicPr>
        <p:blipFill>
          <a:blip r:embed="rId4"/>
          <a:stretch/>
        </p:blipFill>
        <p:spPr>
          <a:xfrm>
            <a:off x="4876920" y="3502080"/>
            <a:ext cx="3733560" cy="26240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9144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Морские звёзды и морские ежи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Рыбы-удильщики, лучевики, морской чёрт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Скаты, морские ежи, скорпен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Акулы, дельфины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Планктон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mb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Содержимое 4" descr="i.jpeg"/>
          <p:cNvPicPr/>
          <p:nvPr/>
        </p:nvPicPr>
        <p:blipFill>
          <a:blip r:embed="rId1"/>
          <a:stretch/>
        </p:blipFill>
        <p:spPr>
          <a:xfrm>
            <a:off x="762120" y="38088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5" descr="ор.jpeg"/>
          <p:cNvPicPr/>
          <p:nvPr/>
        </p:nvPicPr>
        <p:blipFill>
          <a:blip r:embed="rId2"/>
          <a:stretch/>
        </p:blipFill>
        <p:spPr>
          <a:xfrm>
            <a:off x="5181480" y="38088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6" descr="4fae5fef2bfd8c122c73ca0baec8d3a7.jpg"/>
          <p:cNvPicPr/>
          <p:nvPr/>
        </p:nvPicPr>
        <p:blipFill>
          <a:blip r:embed="rId3"/>
          <a:stretch/>
        </p:blipFill>
        <p:spPr>
          <a:xfrm>
            <a:off x="2286000" y="3216240"/>
            <a:ext cx="4724280" cy="34704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4572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Сообщество поверхности океана - 1 этаж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Сообщество кораллового рифа – 2 этаж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Сообщество толщи воды – 3этаж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Глубоководное сообщество – 4 этаж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Донное сообщество – 5 этаж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hecke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30492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Тест</a:t>
            </a: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1.Что такое планктон?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1)множество живых существ, парящих в толще воды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2)мелкие организмы, на дне морей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3)мельчайшие организмы, парящие на поверхности воды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304920"/>
            <a:ext cx="822960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2. «Отложения известняка, образовавшегося из остатков кораллов и водорослей». Это  происходит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1) на поверхности воды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2)в коралловых рифах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3)на больших глубинах океана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3. О каком сообществе идет речь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ножество живых существ, активно плавающих в воде. Водоросли, лучевики, рачки - все они мелкие, и обычно имеют на теле выросты, щетинки чтобы вода лучше поддерживала их. Активно плавают различные рыбы, киты, кальмар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)сообщество кораллового рифа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)сообщество поверхности воды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)сообщество толщи вод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304920"/>
            <a:ext cx="822960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4. Найди лишнее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1)актини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2)звезд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3)кальмар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5. «То ли цветы, то ли животные?»  Карл Линней отнёс их к животным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1) морская звезда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2)планктон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3) кораллы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7617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Ответ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1 – 1,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2 - 2,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3 – 3,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4 – 3,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5 -  3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trips dir="l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26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) Сообщество кораллового рифа                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) Сообщество поверхности воды 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) Донное  сообщество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4) Сообщество толщи воды 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5) Глубоководное сообщество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28191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) множество живых  существ  парящих в толще вод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) морские организмы живущие в   коралловых рифа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)особое сообщество, которое  расположено на больших глубинах   океана, в вечной    темнот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4)организмы, которые обитают на  поверхности морей и океан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5) растения и животные, обитающие  на небольших глубина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trips dir="l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8380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Ответы: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1 – б,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2 – г,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3 – д,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4 – а,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5 – 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Выполнить задан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Домашнее зада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исунок на тему: «Жизнь в морях и океана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2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20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" dur="20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Содержимое 3" descr="akuly.jpg"/>
          <p:cNvPicPr/>
          <p:nvPr/>
        </p:nvPicPr>
        <p:blipFill>
          <a:blip r:embed="rId1"/>
          <a:stretch/>
        </p:blipFill>
        <p:spPr>
          <a:xfrm>
            <a:off x="457200" y="304920"/>
            <a:ext cx="4038480" cy="296856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4" descr="па.jpeg"/>
          <p:cNvPicPr/>
          <p:nvPr/>
        </p:nvPicPr>
        <p:blipFill>
          <a:blip r:embed="rId2"/>
          <a:stretch/>
        </p:blipFill>
        <p:spPr>
          <a:xfrm>
            <a:off x="5105520" y="324000"/>
            <a:ext cx="3936960" cy="295272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5" descr="ек.jpeg"/>
          <p:cNvPicPr/>
          <p:nvPr/>
        </p:nvPicPr>
        <p:blipFill>
          <a:blip r:embed="rId3"/>
          <a:stretch/>
        </p:blipFill>
        <p:spPr>
          <a:xfrm>
            <a:off x="1914480" y="3486240"/>
            <a:ext cx="4867200" cy="32446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WordArt 4"/>
          <p:cNvSpPr txBox="1"/>
          <p:nvPr/>
        </p:nvSpPr>
        <p:spPr>
          <a:xfrm>
            <a:off x="609480" y="1600200"/>
            <a:ext cx="7925040" cy="126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ЖИЗНЬ В МОРЯХ И ОКЕАНАХ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1"/>
          <a:stretch/>
        </p:blipFill>
        <p:spPr>
          <a:xfrm>
            <a:off x="3316320" y="4572000"/>
            <a:ext cx="2814480" cy="20574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"/>
          <p:cNvPicPr/>
          <p:nvPr/>
        </p:nvPicPr>
        <p:blipFill>
          <a:blip r:embed="rId2"/>
          <a:stretch/>
        </p:blipFill>
        <p:spPr>
          <a:xfrm>
            <a:off x="6172200" y="3178080"/>
            <a:ext cx="2819520" cy="2232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"/>
          <p:cNvPicPr/>
          <p:nvPr/>
        </p:nvPicPr>
        <p:blipFill>
          <a:blip r:embed="rId3"/>
          <a:stretch/>
        </p:blipFill>
        <p:spPr>
          <a:xfrm>
            <a:off x="380880" y="3014640"/>
            <a:ext cx="2855880" cy="204480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252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Дать представление о разнообразии живых организмов в морях и океанах, об их распространении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243792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Раскрыть черты приспособленности обитателей к разнообразным условиям. 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Показать необходимо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ь защиты вод Мирового океан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риродное сообщество – это совместно обитающие и живущие на одной территории  разные по виду растения, животные, микроорганизм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- Сообщество поверхности воды,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- толщи воды,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- донное сообщество,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- сообщество кораллового рифа,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- глубоководное сообщество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68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Живут родственники медуз –португальский военный кораблик, парусник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Обитают морские водомерки, летучие рыб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AutoShape 4"/>
          <p:cNvSpPr/>
          <p:nvPr/>
        </p:nvSpPr>
        <p:spPr>
          <a:xfrm>
            <a:off x="609480" y="152280"/>
            <a:ext cx="7772400" cy="1676520"/>
          </a:xfrm>
          <a:prstGeom prst="flowChartPunchedTap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Tahoma"/>
              </a:rPr>
              <a:t>Сообщество поверхности вод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5" descr="Korablik_jiv[1]"/>
          <p:cNvPicPr/>
          <p:nvPr/>
        </p:nvPicPr>
        <p:blipFill>
          <a:blip r:embed="rId1"/>
          <a:stretch/>
        </p:blipFill>
        <p:spPr>
          <a:xfrm>
            <a:off x="4495680" y="1828800"/>
            <a:ext cx="2368800" cy="1555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7" name="Picture 6" descr="Parusnik"/>
          <p:cNvPicPr/>
          <p:nvPr/>
        </p:nvPicPr>
        <p:blipFill>
          <a:blip r:embed="rId2"/>
          <a:stretch/>
        </p:blipFill>
        <p:spPr>
          <a:xfrm>
            <a:off x="4267080" y="4267080"/>
            <a:ext cx="2417760" cy="1559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8" name="Picture 7" descr="летучая рыба"/>
          <p:cNvPicPr/>
          <p:nvPr/>
        </p:nvPicPr>
        <p:blipFill>
          <a:blip r:embed="rId3"/>
          <a:stretch/>
        </p:blipFill>
        <p:spPr>
          <a:xfrm>
            <a:off x="7010280" y="4114800"/>
            <a:ext cx="1936800" cy="2639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9" name="Rectangle 8"/>
          <p:cNvSpPr/>
          <p:nvPr/>
        </p:nvSpPr>
        <p:spPr>
          <a:xfrm>
            <a:off x="7010280" y="1905120"/>
            <a:ext cx="2133720" cy="5331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Португальски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военный корабли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4495680" y="5867280"/>
            <a:ext cx="1752840" cy="762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Парусни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Rectangle 12"/>
          <p:cNvSpPr/>
          <p:nvPr/>
        </p:nvSpPr>
        <p:spPr>
          <a:xfrm>
            <a:off x="7010280" y="3429000"/>
            <a:ext cx="182880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Летучие рыб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AutoShape 4"/>
          <p:cNvSpPr/>
          <p:nvPr/>
        </p:nvSpPr>
        <p:spPr>
          <a:xfrm>
            <a:off x="838080" y="152280"/>
            <a:ext cx="7391520" cy="1447920"/>
          </a:xfrm>
          <a:prstGeom prst="flowChartPunchedTap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Tahoma"/>
              </a:rPr>
              <a:t>Сообщество толщи вод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7" descr="2"/>
          <p:cNvPicPr/>
          <p:nvPr/>
        </p:nvPicPr>
        <p:blipFill>
          <a:blip r:embed="rId1"/>
          <a:stretch/>
        </p:blipFill>
        <p:spPr>
          <a:xfrm>
            <a:off x="7467480" y="1828800"/>
            <a:ext cx="1524240" cy="11462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14" name="Picture 8" descr="1"/>
          <p:cNvPicPr/>
          <p:nvPr/>
        </p:nvPicPr>
        <p:blipFill>
          <a:blip r:embed="rId2"/>
          <a:stretch/>
        </p:blipFill>
        <p:spPr>
          <a:xfrm>
            <a:off x="6019920" y="4952880"/>
            <a:ext cx="2971800" cy="1150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15" name="Rectangle 9"/>
          <p:cNvSpPr/>
          <p:nvPr/>
        </p:nvSpPr>
        <p:spPr>
          <a:xfrm>
            <a:off x="7543800" y="3124080"/>
            <a:ext cx="1600200" cy="3049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Акула-моло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Rectangle 10"/>
          <p:cNvSpPr/>
          <p:nvPr/>
        </p:nvSpPr>
        <p:spPr>
          <a:xfrm>
            <a:off x="6172200" y="6248520"/>
            <a:ext cx="1371600" cy="3045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Акул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Rectangle 11"/>
          <p:cNvSpPr/>
          <p:nvPr/>
        </p:nvSpPr>
        <p:spPr>
          <a:xfrm>
            <a:off x="7848720" y="6172200"/>
            <a:ext cx="1295280" cy="3049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Дельфин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16" descr=""/>
          <p:cNvPicPr/>
          <p:nvPr/>
        </p:nvPicPr>
        <p:blipFill>
          <a:blip r:embed="rId3"/>
          <a:stretch/>
        </p:blipFill>
        <p:spPr>
          <a:xfrm>
            <a:off x="4724280" y="2209680"/>
            <a:ext cx="2649600" cy="19368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17"/>
          <p:cNvSpPr/>
          <p:nvPr/>
        </p:nvSpPr>
        <p:spPr>
          <a:xfrm>
            <a:off x="4952880" y="4343400"/>
            <a:ext cx="2362320" cy="3808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Планктон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Rectangle 18"/>
          <p:cNvSpPr/>
          <p:nvPr/>
        </p:nvSpPr>
        <p:spPr>
          <a:xfrm>
            <a:off x="380880" y="2057400"/>
            <a:ext cx="4114800" cy="44956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Включает планктон 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активн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плавающие организм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randomBar dir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PK</cp:lastModifiedBy>
  <dcterms:modified xsi:type="dcterms:W3CDTF">2014-05-25T15:36:55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