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E20-59CE-4F51-9A4C-7375144B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38C-B71E-4362-A868-FDCEB631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FD9-5730-48D5-AAB3-91D0DA31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D37-5FA8-489A-BCF3-56C3D3EB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72B-E9F3-4B36-9526-D2672B5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03E-088C-49E5-887B-CBB13D0E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47C-76FF-4842-BB6D-1F523B4D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063-291F-42EA-8D4F-921C8F2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8BE-776D-4737-B23C-F988DFF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40D-080A-4819-BE86-4E402691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485-5021-404C-A7C3-0677C4A8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AF7-4904-463B-ADBF-07D823C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00"/>
            </a:gs>
            <a:gs pos="100000">
              <a:srgbClr val="99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ADF0-8E00-41B5-B9D4-E299A0145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2280" y="1828800"/>
            <a:ext cx="8763120" cy="2362320"/>
          </a:xfrm>
          <a:prstGeom prst="rect">
            <a:avLst/>
          </a:prstGeom>
        </p:spPr>
        <p:txBody>
          <a:bodyPr wrap="none" lIns="90000" rIns="90000" tIns="46800" bIns="46800" anchor="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5308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676160" y="4191120"/>
            <a:ext cx="68180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5229"/>
                </a:solidFill>
                <a:latin typeface="Arial"/>
                <a:ea typeface="EucrosiaUPC"/>
              </a:rPr>
              <a:t>Подготовила: Безмогарычная Наталья Александровна, воспитатель первой квалификационной категории МБДОУ Детский сад «Оленёно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5229"/>
                </a:solidFill>
                <a:latin typeface="Arial"/>
                <a:ea typeface="EucrosiaUPC"/>
              </a:rPr>
              <a:t>ст.Новогражда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5229"/>
                </a:solidFill>
                <a:latin typeface="Arial"/>
                <a:ea typeface="EucrosiaUPC"/>
              </a:rPr>
              <a:t>201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-135000"/>
            <a:ext cx="9144000" cy="69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спитать интерес к истории России, народному творчеству на примере русской национальной матрёшк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: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*дети младшей группы;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*педагог;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*родители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46160" y="152280"/>
            <a:ext cx="9290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чи для детей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познакомить детей с историей матрёшки, как народного промы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* дать знания о матрёшке, о её цветовой гам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* развивать сенсорные нав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*помочь увидеть необычное в обыч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* учить получать радость от увиденн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* освоить некоторые художественные элеме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* поддерживать интерес любознательны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* содействовать развитию творческих способносте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педаг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*способствовать творческой активност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*создать условия для формирования у детей познавательных ум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*вовлекать семьи воспитанников в образовательны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*развивать социально-профессиональную компетентность и личностный потенц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-135000"/>
            <a:ext cx="9144000" cy="69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1219320" y="950760"/>
            <a:ext cx="655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) познакомить с особенностями русской народной игрушки (матери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а, цвет, уз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) разучить простейшие элементы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) дать представление о цветовой гамме матрё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4)расширить и активизировать словарный запас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5) вылепить матрёшек, расписать узором сарафаны матрё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-76320" y="-131760"/>
            <a:ext cx="9220320" cy="69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еда : «Русская игрушка-матрё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Admin\Desktop\1.jpg"/>
          <p:cNvPicPr/>
          <p:nvPr/>
        </p:nvPicPr>
        <p:blipFill>
          <a:blip r:embed="rId1"/>
          <a:stretch/>
        </p:blipFill>
        <p:spPr>
          <a:xfrm>
            <a:off x="1828800" y="2128680"/>
            <a:ext cx="5257800" cy="312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457200" y="10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ая игра «Собери матрёш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Admin\Desktop\3.jpg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-6480" y="39600"/>
            <a:ext cx="9355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ественное творчество аппл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ая матрё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Users\Admin\Desktop\4.jpg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6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-209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Users\Admin\Desktop\5.jpg"/>
          <p:cNvPicPr/>
          <p:nvPr/>
        </p:nvPicPr>
        <p:blipFill>
          <a:blip r:embed="rId1"/>
          <a:stretch/>
        </p:blipFill>
        <p:spPr>
          <a:xfrm>
            <a:off x="685800" y="2438280"/>
            <a:ext cx="7620120" cy="4038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тавка семейных матрёшек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«Наша дружная сем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228600" y="-260280"/>
            <a:ext cx="9478800" cy="705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2-08T18:05:03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