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252-6D1F-41F8-BA70-BB76C72C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74C-6BC3-418C-8FD2-C0EB47C4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3D1-404D-408E-8997-168A2F78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BF3-C080-4489-AD66-9FAD6204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3711-8246-4EA3-B59C-63AE462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5A9B-18F8-437A-B4EF-B09C644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343-472F-4EBB-8E00-83024B67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F92F-6959-4A6A-84B9-6E3C063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0AF-7BB2-4BCE-966E-D41EAF77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C30A-46F0-4C7A-AF7A-9E208CC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015-1BDF-44EF-9431-17CC28C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EC1-526C-4A6C-A625-611298F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292F-C15C-4676-B7F3-4FF1428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B554-5ADB-4010-9915-0AEC6D9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B3B-A74C-4F79-9C1D-854966F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4CDE-9195-4006-99FC-4021E575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1662-FC05-444A-A18F-79926321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FDF-C3FE-4A97-B2F1-AE6275C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F47-185D-4C5C-904F-A24A419D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239-807D-4FF0-BBE4-8EF0EC2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E13-D75D-47E1-A667-A698B36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FFD-6A78-4E84-AE5E-4747804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061-5E53-46FB-AF21-8FA17CCA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8C0-6C6A-4B3E-901B-69E6303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7D8-9BCC-4693-B1B8-DA757A827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AAC0-B10F-408C-9866-0D971AAFE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Родительское собрание</a:t>
            </a:r>
            <a:br>
              <a:rPr sz="5400"/>
            </a:b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«Ума палата»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коны памят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вниман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ярк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значим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интерес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мотив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деятель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понимания и осмыслен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предыдущих знаний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настройки и установк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кон тормозов памя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Рекомендации по запоминанию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поминайте важную информацию утром или вечером. В это время влияние процессов торможения наименьше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айте перерывы при запоминании. Во время перерывов нельзя получать никакую другую информацию ( читать, смотреть телевизор, слушать музыку). Это уменьшит влияние процессов тормож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 запоминайте однотипную информацию друг за другом. Так, не следует учить математику после запоминания исторических дат. И там, и там работа происходит с цифрами. Это затруднит запомин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 делайте сразу после запоминания ничего сложного для вас. Мозг сосредоточится на сложной деятельности и не сможет  правильно  разместить запоминавшуюся информаци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8:15:38Z</dcterms:created>
  <dc:creator>Student</dc:creator>
  <dc:description/>
  <dc:language>en-US</dc:language>
  <cp:lastModifiedBy>Student</cp:lastModifiedBy>
  <dcterms:modified xsi:type="dcterms:W3CDTF">2007-08-31T18:27:43Z</dcterms:modified>
  <cp:revision>2</cp:revision>
  <dc:subject/>
  <dc:title>Родительское собрание «Ума палата»</dc:title>
</cp:coreProperties>
</file>