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27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2DB-0015-4A34-9F06-4ADC56C4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949-8010-4B55-BAA8-1C6EC1FC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FEF-0980-4E3B-9F0F-1B95EEF5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8CB-1A56-4B1B-9909-B3E6426F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E5C-B63C-4730-ACCE-5356DF8E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7B2-54E5-4291-B98B-2223526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D39-86EE-4C6C-996C-EAC6FA13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F34-54F6-441B-9D56-98E01D25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9DB-AB8A-4EB4-AC40-7B16311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208-10C0-4EDE-A1D6-F830335A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34E-C5E8-4FB6-BEA1-5E4161C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C15-B498-4776-8354-1C712CB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52BD-8C1A-4822-B456-E8907EF8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55;&#1086;&#1079;&#1074;&#1086;&#1085;&#1086;&#1095;&#1085;&#1099;&#1081;_&#1089;&#1090;&#1086;&#1083;&#1073;" TargetMode="External"/><Relationship Id="rId3" Type="http://schemas.openxmlformats.org/officeDocument/2006/relationships/hyperlink" Target="http://ru.wikipedia.org/wiki/&#1057;&#1087;&#1080;&#1085;&#1085;&#1086;&#1081;_&#1084;&#1086;&#1079;&#1075;" TargetMode="External"/><Relationship Id="rId4" Type="http://schemas.openxmlformats.org/officeDocument/2006/relationships/hyperlink" Target="http://ru.wikipedia.org/wiki/&#1050;&#1088;&#1077;&#1089;&#1090;&#1077;&#1094;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43;&#1088;&#1091;&#1076;&#1085;&#1072;&#1103;_&#1082;&#1083;&#1077;&#1090;&#1082;&#1072;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58;&#1072;&#1079;" TargetMode="External"/><Relationship Id="rId3" Type="http://schemas.openxmlformats.org/officeDocument/2006/relationships/hyperlink" Target="http://ru.wikipedia.org/wiki/&#1043;&#1088;&#1091;&#1076;&#1085;&#1072;&#1103;_&#1082;&#1083;&#1077;&#1090;&#1082;&#1072;" TargetMode="External"/><Relationship Id="rId4" Type="http://schemas.openxmlformats.org/officeDocument/2006/relationships/hyperlink" Target="http://ru.wikipedia.org/wiki/&#1063;&#1077;&#1083;&#1102;&#1089;&#1090;&#1080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Урок биологии в 8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Учитель Борзунова О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77760"/>
            <a:ext cx="2292120" cy="670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59280" y="2060640"/>
            <a:ext cx="5472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келет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26028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рганизму – он оп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 его страшнее н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н в «ужастиках» встречает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ывается .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ицевая часть чере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954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елет тулов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3744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звоночник, или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озвоночный стол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является главной осью тела, опорой всего скелета; состоит из 32—34 позвонков,  внутри позвоночного канала проходит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пинной мозг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йные позвонки (7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дные позвонки (12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сничные позвонки (5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естцовые позвонки (5) срослись в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ресте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пчиковые позвонки (3—5) срослись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пч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995640" y="692280"/>
            <a:ext cx="475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848720" cy="5381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4000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болевания позвоно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Скелет тулов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рудная клет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имеет форму усечённого сжатого конуса, является костной основой груди и вместилищем для внутренних органов. Состоит из 12 грудных позвонков, 12 рёбер и груд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492360" y="1200240"/>
            <a:ext cx="54723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с верхних конеч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747960" cy="245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3174840" cy="1181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227640" y="1268280"/>
            <a:ext cx="2286000" cy="2882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1188720"/>
            <a:ext cx="58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и́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в человеческой анатомии — небольшая трубчатая кость S-образной формы из пояса верхней конечности, соединяющая лопатку с грудной костью плечевого пояса и укрепляющ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4645080"/>
            <a:ext cx="389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па́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кость пояса верхних конечностей, обеспечивающая сочленение плечевой кости с ключицей. У человека это плоская кость приблизительно треугольн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00480" cy="6435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50920" y="259920"/>
            <a:ext cx="47624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елет верхней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84360" y="2852280"/>
            <a:ext cx="25210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ече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кте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е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я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ланги па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1413000"/>
            <a:ext cx="223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еч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л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елет пояса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зовая кость (2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здошная кость (2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далищная кость (2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бковая кость ( (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6279" t="35639" r="29214" b="45287"/>
          <a:stretch/>
        </p:blipFill>
        <p:spPr>
          <a:xfrm>
            <a:off x="5003640" y="1844640"/>
            <a:ext cx="3311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елет нижней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188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де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>
            <a:lum contrast="6000"/>
          </a:blip>
          <a:srcRect l="0" t="3566" r="0" b="0"/>
          <a:stretch/>
        </p:blipFill>
        <p:spPr>
          <a:xfrm>
            <a:off x="5796000" y="189000"/>
            <a:ext cx="289548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0000" y="1989000"/>
            <a:ext cx="3097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дренн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ьшая берцо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ая берцовая 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плю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ю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аланги па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8000" y="692280"/>
            <a:ext cx="1439640" cy="2592360"/>
          </a:xfrm>
          <a:prstGeom prst="rect">
            <a:avLst/>
          </a:prstGeom>
          <a:solidFill>
            <a:srgbClr val="daf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60280"/>
            <a:ext cx="143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К-Ч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1844640"/>
            <a:ext cx="3384360" cy="43344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ия от скелета живо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14172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249228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3213000"/>
            <a:ext cx="936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ере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3789360"/>
            <a:ext cx="1368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звон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4149720"/>
            <a:ext cx="1368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уд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3776760"/>
            <a:ext cx="1368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2133720"/>
            <a:ext cx="136836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яса конеч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9" idx="0"/>
            <a:endCxn id="207" idx="2"/>
          </p:cNvCxnSpPr>
          <p:nvPr/>
        </p:nvCxnSpPr>
        <p:spPr>
          <a:xfrm flipH="1" flipV="1" rot="5400000">
            <a:off x="6355440" y="1719360"/>
            <a:ext cx="214920" cy="1331280"/>
          </a:xfrm>
          <a:prstGeom prst="curvedConnector5">
            <a:avLst>
              <a:gd name="adj1" fmla="val 50335"/>
              <a:gd name="adj2" fmla="val 49986"/>
              <a:gd name="adj3" fmla="val 5033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6732720" y="2709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озговой отдел (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2720" y="2997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ицевой отдел (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32720" y="335772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вижная нижняя челю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09" idx="1"/>
            <a:endCxn id="208" idx="0"/>
          </p:cNvCxnSpPr>
          <p:nvPr/>
        </p:nvCxnSpPr>
        <p:spPr>
          <a:xfrm flipV="1" rot="10800000">
            <a:off x="4068000" y="2709360"/>
            <a:ext cx="1008720" cy="4327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8" idx="3"/>
            <a:endCxn id="210" idx="1"/>
          </p:cNvCxnSpPr>
          <p:nvPr/>
        </p:nvCxnSpPr>
        <p:spPr>
          <a:xfrm>
            <a:off x="4788000" y="3320640"/>
            <a:ext cx="792720" cy="35640"/>
          </a:xfrm>
          <a:prstGeom prst="curvedConnector5">
            <a:avLst>
              <a:gd name="adj1" fmla="val 49886"/>
              <a:gd name="adj2" fmla="val 50000"/>
              <a:gd name="adj3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0" idx="3"/>
            <a:endCxn id="216" idx="1"/>
          </p:cNvCxnSpPr>
          <p:nvPr/>
        </p:nvCxnSpPr>
        <p:spPr>
          <a:xfrm flipV="1">
            <a:off x="6516720" y="2847240"/>
            <a:ext cx="216720" cy="50868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0" idx="3"/>
            <a:endCxn id="217" idx="1"/>
          </p:cNvCxnSpPr>
          <p:nvPr/>
        </p:nvCxnSpPr>
        <p:spPr>
          <a:xfrm flipV="1">
            <a:off x="6516720" y="3134520"/>
            <a:ext cx="216720" cy="22140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7" idx="2"/>
            <a:endCxn id="218" idx="1"/>
          </p:cNvCxnSpPr>
          <p:nvPr/>
        </p:nvCxnSpPr>
        <p:spPr>
          <a:xfrm flipH="1" rot="16200000">
            <a:off x="7476120" y="3427920"/>
            <a:ext cx="315360" cy="2160"/>
          </a:xfrm>
          <a:prstGeom prst="curvedConnector5">
            <a:avLst>
              <a:gd name="adj1" fmla="val 13028"/>
              <a:gd name="adj2" fmla="val -7200000"/>
              <a:gd name="adj3" fmla="val 130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443640" y="4162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 изги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45943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ро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5300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д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3440" y="43783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: амор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0360" y="48229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зво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0360" y="5025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рящевые д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720" y="5589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ейный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8720" y="5805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удной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8720" y="6021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ясничный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6237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рестцовый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08720" y="6453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чиковый 1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6" idx="2"/>
            <a:endCxn id="230" idx="1"/>
          </p:cNvCxnSpPr>
          <p:nvPr/>
        </p:nvCxnSpPr>
        <p:spPr>
          <a:xfrm flipH="1" rot="16200000">
            <a:off x="7015680" y="5435280"/>
            <a:ext cx="1530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6" idx="2"/>
            <a:endCxn id="231" idx="1"/>
          </p:cNvCxnSpPr>
          <p:nvPr/>
        </p:nvCxnSpPr>
        <p:spPr>
          <a:xfrm flipH="1" rot="16200000">
            <a:off x="6907680" y="5543280"/>
            <a:ext cx="3690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6" idx="2"/>
            <a:endCxn id="232" idx="1"/>
          </p:cNvCxnSpPr>
          <p:nvPr/>
        </p:nvCxnSpPr>
        <p:spPr>
          <a:xfrm flipH="1" rot="16200000">
            <a:off x="6799680" y="5651280"/>
            <a:ext cx="5850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6" idx="2"/>
            <a:endCxn id="233" idx="1"/>
          </p:cNvCxnSpPr>
          <p:nvPr/>
        </p:nvCxnSpPr>
        <p:spPr>
          <a:xfrm flipH="1" rot="16200000">
            <a:off x="6692040" y="5759280"/>
            <a:ext cx="80064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6" idx="2"/>
            <a:endCxn id="234" idx="1"/>
          </p:cNvCxnSpPr>
          <p:nvPr/>
        </p:nvCxnSpPr>
        <p:spPr>
          <a:xfrm flipH="1" rot="16200000">
            <a:off x="6584040" y="5867280"/>
            <a:ext cx="101664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5" idx="2"/>
            <a:endCxn id="228" idx="1"/>
          </p:cNvCxnSpPr>
          <p:nvPr/>
        </p:nvCxnSpPr>
        <p:spPr>
          <a:xfrm flipH="1" rot="16200000">
            <a:off x="7099200" y="4680360"/>
            <a:ext cx="92520" cy="4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5" idx="2"/>
            <a:endCxn id="229" idx="1"/>
          </p:cNvCxnSpPr>
          <p:nvPr/>
        </p:nvCxnSpPr>
        <p:spPr>
          <a:xfrm flipH="1" rot="16200000">
            <a:off x="6997680" y="4782240"/>
            <a:ext cx="295560" cy="4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4" idx="2"/>
            <a:endCxn id="227" idx="1"/>
          </p:cNvCxnSpPr>
          <p:nvPr/>
        </p:nvCxnSpPr>
        <p:spPr>
          <a:xfrm flipH="1" rot="16200000">
            <a:off x="7124400" y="4188240"/>
            <a:ext cx="80280" cy="577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08" idx="3"/>
            <a:endCxn id="211" idx="1"/>
          </p:cNvCxnSpPr>
          <p:nvPr/>
        </p:nvCxnSpPr>
        <p:spPr>
          <a:xfrm>
            <a:off x="4787640" y="3321000"/>
            <a:ext cx="1152720" cy="612000"/>
          </a:xfrm>
          <a:prstGeom prst="curvedConnector5">
            <a:avLst>
              <a:gd name="adj1" fmla="val 49859"/>
              <a:gd name="adj2" fmla="val 49970"/>
              <a:gd name="adj3" fmla="val 49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608472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4720" y="522936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450864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08" idx="2"/>
            <a:endCxn id="212" idx="0"/>
          </p:cNvCxnSpPr>
          <p:nvPr/>
        </p:nvCxnSpPr>
        <p:spPr>
          <a:xfrm flipH="1" rot="16200000">
            <a:off x="3976560" y="3591360"/>
            <a:ext cx="650160" cy="467640"/>
          </a:xfrm>
          <a:prstGeom prst="curvedConnector5">
            <a:avLst>
              <a:gd name="adj1" fmla="val 49861"/>
              <a:gd name="adj2" fmla="val 50000"/>
              <a:gd name="adj3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4427640" y="494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уд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7640" y="52275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 пар реб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5516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удной отдел позвоноч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12" idx="2"/>
            <a:endCxn id="249" idx="1"/>
          </p:cNvCxnSpPr>
          <p:nvPr/>
        </p:nvCxnSpPr>
        <p:spPr>
          <a:xfrm rot="5400000">
            <a:off x="4158720" y="4701960"/>
            <a:ext cx="645480" cy="108720"/>
          </a:xfrm>
          <a:prstGeom prst="curvedConnector5">
            <a:avLst>
              <a:gd name="adj1" fmla="val 39118"/>
              <a:gd name="adj2" fmla="val 155813"/>
              <a:gd name="adj3" fmla="val 39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12" idx="2"/>
            <a:endCxn id="250" idx="1"/>
          </p:cNvCxnSpPr>
          <p:nvPr/>
        </p:nvCxnSpPr>
        <p:spPr>
          <a:xfrm rot="5400000">
            <a:off x="4015080" y="4845600"/>
            <a:ext cx="932760" cy="108720"/>
          </a:xfrm>
          <a:prstGeom prst="curvedConnector5">
            <a:avLst>
              <a:gd name="adj1" fmla="val 42393"/>
              <a:gd name="adj2" fmla="val 155813"/>
              <a:gd name="adj3" fmla="val 423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12" idx="2"/>
            <a:endCxn id="251" idx="1"/>
          </p:cNvCxnSpPr>
          <p:nvPr/>
        </p:nvCxnSpPr>
        <p:spPr>
          <a:xfrm rot="5400000">
            <a:off x="3825360" y="5035320"/>
            <a:ext cx="1312200" cy="108720"/>
          </a:xfrm>
          <a:prstGeom prst="curvedConnector5">
            <a:avLst>
              <a:gd name="adj1" fmla="val 41136"/>
              <a:gd name="adj2" fmla="val 155813"/>
              <a:gd name="adj3" fmla="val 411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116000" y="335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ерх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3789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7280" y="1255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еч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5440" y="12556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еч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170028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дплеч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5440" y="161460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октевая и луч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8000" y="247968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адо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65440" y="210492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ти запяст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249228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ти пя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8000" y="213192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пяст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8000" y="284004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аль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3640" y="28526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алан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765000"/>
            <a:ext cx="11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ь те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63640" y="76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402920" y="14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40292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029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40292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40292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227664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-6120" y="253512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и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08" idx="2"/>
            <a:endCxn id="213" idx="0"/>
          </p:cNvCxnSpPr>
          <p:nvPr/>
        </p:nvCxnSpPr>
        <p:spPr>
          <a:xfrm rot="5400000">
            <a:off x="3335040" y="3043800"/>
            <a:ext cx="277200" cy="118980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08" idx="1"/>
            <a:endCxn id="214" idx="2"/>
          </p:cNvCxnSpPr>
          <p:nvPr/>
        </p:nvCxnSpPr>
        <p:spPr>
          <a:xfrm flipH="1" rot="10800000">
            <a:off x="3347640" y="2599560"/>
            <a:ext cx="613440" cy="721440"/>
          </a:xfrm>
          <a:prstGeom prst="curvedConnector5">
            <a:avLst>
              <a:gd name="adj1" fmla="val -37287"/>
              <a:gd name="adj2" fmla="val 31153"/>
              <a:gd name="adj3" fmla="val -372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13" idx="1"/>
            <a:endCxn id="255" idx="2"/>
          </p:cNvCxnSpPr>
          <p:nvPr/>
        </p:nvCxnSpPr>
        <p:spPr>
          <a:xfrm rot="10800000">
            <a:off x="1620000" y="3631320"/>
            <a:ext cx="575640" cy="28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13" idx="1"/>
            <a:endCxn id="256" idx="3"/>
          </p:cNvCxnSpPr>
          <p:nvPr/>
        </p:nvCxnSpPr>
        <p:spPr>
          <a:xfrm flipV="1" rot="10800000">
            <a:off x="1331280" y="3919320"/>
            <a:ext cx="86436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468360" y="4149720"/>
            <a:ext cx="1439640" cy="2592360"/>
          </a:xfrm>
          <a:prstGeom prst="rect">
            <a:avLst/>
          </a:prstGeom>
          <a:solidFill>
            <a:srgbClr val="daf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7640" y="47131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ед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25800" y="471312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едр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515772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ол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25800" y="507204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ольшая и малая берц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595008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ти плюс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63104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алан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4222800"/>
            <a:ext cx="11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ь те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24000" y="42228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63280" y="4870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763280" y="5302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6328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763280" y="609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763280" y="6454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0720" y="573408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1800" y="59911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о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24000" y="558972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ти предплюс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48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125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ерх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1890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юч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40464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оп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0"/>
            <a:endCxn id="300" idx="3"/>
          </p:cNvCxnSpPr>
          <p:nvPr/>
        </p:nvCxnSpPr>
        <p:spPr>
          <a:xfrm flipV="1" rot="16200000">
            <a:off x="3290760" y="670680"/>
            <a:ext cx="583200" cy="326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8" idx="0"/>
            <a:endCxn id="299" idx="3"/>
          </p:cNvCxnSpPr>
          <p:nvPr/>
        </p:nvCxnSpPr>
        <p:spPr>
          <a:xfrm flipV="1" rot="16200000">
            <a:off x="3182760" y="562680"/>
            <a:ext cx="799200" cy="326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3924360" y="54936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азовые 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14" idx="0"/>
            <a:endCxn id="297" idx="2"/>
          </p:cNvCxnSpPr>
          <p:nvPr/>
        </p:nvCxnSpPr>
        <p:spPr>
          <a:xfrm flipH="1" flipV="1" rot="5400000">
            <a:off x="4096800" y="1621800"/>
            <a:ext cx="37548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14" idx="0"/>
            <a:endCxn id="298" idx="2"/>
          </p:cNvCxnSpPr>
          <p:nvPr/>
        </p:nvCxnSpPr>
        <p:spPr>
          <a:xfrm flipV="1" rot="16200000">
            <a:off x="3485520" y="1658520"/>
            <a:ext cx="734400" cy="2163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7" idx="0"/>
            <a:endCxn id="303" idx="2"/>
          </p:cNvCxnSpPr>
          <p:nvPr/>
        </p:nvCxnSpPr>
        <p:spPr>
          <a:xfrm flipV="1" rot="16200000">
            <a:off x="4279320" y="1154880"/>
            <a:ext cx="478440" cy="180000"/>
          </a:xfrm>
          <a:prstGeom prst="curvedConnector5">
            <a:avLst>
              <a:gd name="adj1" fmla="val 49774"/>
              <a:gd name="adj2" fmla="val 49899"/>
              <a:gd name="adj3" fmla="val 497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"/>
          <p:cNvGrpSpPr/>
          <p:nvPr/>
        </p:nvGrpSpPr>
        <p:grpSpPr>
          <a:xfrm>
            <a:off x="6206760" y="187920"/>
            <a:ext cx="547200" cy="360720"/>
            <a:chOff x="6206760" y="187920"/>
            <a:chExt cx="547200" cy="360720"/>
          </a:xfrm>
        </p:grpSpPr>
        <p:sp>
          <p:nvSpPr>
            <p:cNvPr id="308" name=""/>
            <p:cNvSpPr/>
            <p:nvPr/>
          </p:nvSpPr>
          <p:spPr>
            <a:xfrm rot="20525400">
              <a:off x="6227640" y="259920"/>
              <a:ext cx="505080" cy="216000"/>
            </a:xfrm>
            <a:prstGeom prst="ellipse">
              <a:avLst/>
            </a:prstGeom>
            <a:solidFill>
              <a:srgbClr val="f3fe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00720" y="331920"/>
              <a:ext cx="716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360" y="18900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516720" y="476280"/>
            <a:ext cx="71280" cy="792000"/>
          </a:xfrm>
          <a:custGeom>
            <a:avLst/>
            <a:gdLst/>
            <a:ahLst/>
            <a:rect l="l" t="t" r="r" b="b"/>
            <a:pathLst>
              <a:path w="72" h="592">
                <a:moveTo>
                  <a:pt x="40" y="0"/>
                </a:moveTo>
                <a:cubicBezTo>
                  <a:pt x="31" y="13"/>
                  <a:pt x="21" y="25"/>
                  <a:pt x="16" y="40"/>
                </a:cubicBezTo>
                <a:cubicBezTo>
                  <a:pt x="21" y="72"/>
                  <a:pt x="39" y="95"/>
                  <a:pt x="52" y="124"/>
                </a:cubicBezTo>
                <a:cubicBezTo>
                  <a:pt x="57" y="136"/>
                  <a:pt x="60" y="148"/>
                  <a:pt x="64" y="160"/>
                </a:cubicBezTo>
                <a:cubicBezTo>
                  <a:pt x="67" y="168"/>
                  <a:pt x="72" y="184"/>
                  <a:pt x="72" y="184"/>
                </a:cubicBezTo>
                <a:cubicBezTo>
                  <a:pt x="69" y="229"/>
                  <a:pt x="62" y="289"/>
                  <a:pt x="36" y="328"/>
                </a:cubicBezTo>
                <a:cubicBezTo>
                  <a:pt x="29" y="354"/>
                  <a:pt x="26" y="359"/>
                  <a:pt x="36" y="396"/>
                </a:cubicBezTo>
                <a:cubicBezTo>
                  <a:pt x="38" y="405"/>
                  <a:pt x="49" y="411"/>
                  <a:pt x="52" y="420"/>
                </a:cubicBezTo>
                <a:cubicBezTo>
                  <a:pt x="67" y="464"/>
                  <a:pt x="43" y="397"/>
                  <a:pt x="64" y="444"/>
                </a:cubicBezTo>
                <a:cubicBezTo>
                  <a:pt x="67" y="452"/>
                  <a:pt x="72" y="468"/>
                  <a:pt x="72" y="468"/>
                </a:cubicBezTo>
                <a:cubicBezTo>
                  <a:pt x="69" y="494"/>
                  <a:pt x="72" y="523"/>
                  <a:pt x="44" y="532"/>
                </a:cubicBezTo>
                <a:cubicBezTo>
                  <a:pt x="35" y="546"/>
                  <a:pt x="34" y="554"/>
                  <a:pt x="20" y="564"/>
                </a:cubicBezTo>
                <a:cubicBezTo>
                  <a:pt x="15" y="578"/>
                  <a:pt x="6" y="579"/>
                  <a:pt x="0" y="5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052640"/>
            <a:ext cx="71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659280" y="105264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6720" y="1484280"/>
            <a:ext cx="712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38960" y="1600200"/>
            <a:ext cx="146160" cy="33480"/>
          </a:xfrm>
          <a:custGeom>
            <a:avLst/>
            <a:gdLst/>
            <a:ahLst/>
            <a:rect l="l" t="t" r="r" b="b"/>
            <a:pathLst>
              <a:path w="92" h="21">
                <a:moveTo>
                  <a:pt x="0" y="20"/>
                </a:moveTo>
                <a:cubicBezTo>
                  <a:pt x="30" y="0"/>
                  <a:pt x="15" y="2"/>
                  <a:pt x="44" y="8"/>
                </a:cubicBezTo>
                <a:cubicBezTo>
                  <a:pt x="49" y="11"/>
                  <a:pt x="61" y="21"/>
                  <a:pt x="68" y="20"/>
                </a:cubicBezTo>
                <a:cubicBezTo>
                  <a:pt x="76" y="19"/>
                  <a:pt x="92" y="12"/>
                  <a:pt x="92" y="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072200" y="691200"/>
            <a:ext cx="546840" cy="360720"/>
            <a:chOff x="7072200" y="691200"/>
            <a:chExt cx="546840" cy="360720"/>
          </a:xfrm>
        </p:grpSpPr>
        <p:sp>
          <p:nvSpPr>
            <p:cNvPr id="317" name=""/>
            <p:cNvSpPr/>
            <p:nvPr/>
          </p:nvSpPr>
          <p:spPr>
            <a:xfrm rot="20525400">
              <a:off x="7093080" y="763200"/>
              <a:ext cx="504720" cy="216000"/>
            </a:xfrm>
            <a:prstGeom prst="ellipse">
              <a:avLst/>
            </a:prstGeom>
            <a:solidFill>
              <a:srgbClr val="f3fe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3440" y="763560"/>
              <a:ext cx="712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64360" y="69228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>
            <a:off x="8317080" y="980640"/>
            <a:ext cx="215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42160" y="1484280"/>
            <a:ext cx="71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669080" y="1052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669080" y="162864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8388360" y="112500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18520" y="148428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245080" y="16286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604360" y="1047600"/>
            <a:ext cx="253800" cy="381240"/>
          </a:xfrm>
          <a:custGeom>
            <a:avLst/>
            <a:gdLst/>
            <a:ahLst/>
            <a:rect l="l" t="t" r="r" b="b"/>
            <a:pathLst>
              <a:path w="160" h="240">
                <a:moveTo>
                  <a:pt x="0" y="0"/>
                </a:moveTo>
                <a:cubicBezTo>
                  <a:pt x="11" y="1"/>
                  <a:pt x="22" y="0"/>
                  <a:pt x="32" y="4"/>
                </a:cubicBezTo>
                <a:cubicBezTo>
                  <a:pt x="41" y="7"/>
                  <a:pt x="56" y="20"/>
                  <a:pt x="56" y="20"/>
                </a:cubicBezTo>
                <a:cubicBezTo>
                  <a:pt x="66" y="51"/>
                  <a:pt x="85" y="67"/>
                  <a:pt x="92" y="100"/>
                </a:cubicBezTo>
                <a:cubicBezTo>
                  <a:pt x="94" y="144"/>
                  <a:pt x="89" y="240"/>
                  <a:pt x="160" y="24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69360" y="857160"/>
            <a:ext cx="114120" cy="196920"/>
          </a:xfrm>
          <a:custGeom>
            <a:avLst/>
            <a:gdLst/>
            <a:ahLst/>
            <a:rect l="l" t="t" r="r" b="b"/>
            <a:pathLst>
              <a:path w="72" h="124">
                <a:moveTo>
                  <a:pt x="0" y="0"/>
                </a:moveTo>
                <a:cubicBezTo>
                  <a:pt x="29" y="29"/>
                  <a:pt x="34" y="57"/>
                  <a:pt x="44" y="96"/>
                </a:cubicBezTo>
                <a:cubicBezTo>
                  <a:pt x="47" y="109"/>
                  <a:pt x="72" y="124"/>
                  <a:pt x="72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е соотве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95280" y="1557360"/>
          <a:ext cx="8280000" cy="489636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48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ьные вещества ( неорганическ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чатое 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кост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ь без пол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бчатое 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ют кости упруг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ют кости тверд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ют кости лег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ют кости прочность, твердость и упруг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ущий слой 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 трубчатых к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 плоских к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9976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начение опорно-двигательной систем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читайте  в § 10 раздел «Скелет и мышцы». Выясните, что относится к опорно-двигательной системе, какую функцию она выполняет. Составьте консп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порно-двигательная 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_____________ и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 опорно-двигательной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43640" y="2708280"/>
            <a:ext cx="245124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819680" cy="64771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6180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0" y="115920"/>
            <a:ext cx="17701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716280" cy="5043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2411280" y="189000"/>
            <a:ext cx="47134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170028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 в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имический состав костей. Проанализируйте эксперимент и сделайте выв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Кость бросили в огонь. Все органические вещества сгорели. Какие остались? Кость при этом лежала целая, но как только ее задели, рассыпалась на твердые частич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Кость поместили в соляную кислоту, неорганические вещества растворились.  Какие вещества остались? Такая кость настолько гибкая, что ее можно связать уз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ывод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рганические вещества придают кости _______________, а неорганические вещества ____________. Сочетание тех и других веществ обеспечивает ________________ 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Особенности скеле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635280" cy="510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елет новорожденного ребёнка состоит из более чем трёхсот косточек, но в результате того что многие из них срастаются в процессе взросления, в скелете взрослого их остаётся лишь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20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1046880"/>
            <a:ext cx="4608360" cy="448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жской и женский скелет в целом построены по одному типу, и кардинальных различий между ними нет. Они заключаются лишь в немного изменённой форме или размерах отдельных костей и, соответственно, включающих их структур. Вот некоторые из наиболее явных различий. Кости конечностей и пальцев у мужчин в среднем длиннее и толще. У женщин более широкий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з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а также более узка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рудная клет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менее угловаты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челюст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слабее выражены надбровные дуги и затылочные мыщелки. Существует еще множество более мелких различ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7560" y="6165000"/>
            <a:ext cx="53305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человека массой 70 кг масса скелета 8-9 к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дание 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ипы косте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 С помощью §10 выясните, какие                                    типы костей различают в скелете человека. Заполните таблиц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773360"/>
          <a:ext cx="8208720" cy="49086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Типы к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собенности стр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Трубчатые 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дро, голень, лучевая кость, плече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е компактное вещество, под которым находится губчатое вещество, заполненное красным костным мозг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лоские 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единения костей в скел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3640" y="907560"/>
            <a:ext cx="353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единение костей в скелете подразделяется на три тип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одви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уподвиж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вижн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32000" y="3938760"/>
            <a:ext cx="5554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3681360"/>
            <a:ext cx="8496000" cy="28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80000" y="884160"/>
            <a:ext cx="50036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00480" y="44280"/>
            <a:ext cx="4835520" cy="4656240"/>
          </a:xfrm>
          <a:custGeom>
            <a:avLst/>
            <a:gdLst/>
            <a:ahLst/>
            <a:rect l="l" t="t" r="r" b="b"/>
            <a:pathLst>
              <a:path w="3046" h="2933">
                <a:moveTo>
                  <a:pt x="2638" y="45"/>
                </a:moveTo>
                <a:cubicBezTo>
                  <a:pt x="2517" y="52"/>
                  <a:pt x="2215" y="37"/>
                  <a:pt x="2003" y="45"/>
                </a:cubicBezTo>
                <a:cubicBezTo>
                  <a:pt x="1791" y="53"/>
                  <a:pt x="1550" y="76"/>
                  <a:pt x="1368" y="91"/>
                </a:cubicBezTo>
                <a:cubicBezTo>
                  <a:pt x="1186" y="106"/>
                  <a:pt x="1042" y="76"/>
                  <a:pt x="914" y="136"/>
                </a:cubicBezTo>
                <a:cubicBezTo>
                  <a:pt x="786" y="196"/>
                  <a:pt x="695" y="310"/>
                  <a:pt x="597" y="454"/>
                </a:cubicBezTo>
                <a:cubicBezTo>
                  <a:pt x="499" y="598"/>
                  <a:pt x="408" y="870"/>
                  <a:pt x="325" y="998"/>
                </a:cubicBezTo>
                <a:cubicBezTo>
                  <a:pt x="242" y="1126"/>
                  <a:pt x="151" y="1142"/>
                  <a:pt x="98" y="1225"/>
                </a:cubicBezTo>
                <a:cubicBezTo>
                  <a:pt x="45" y="1308"/>
                  <a:pt x="0" y="1414"/>
                  <a:pt x="7" y="1497"/>
                </a:cubicBezTo>
                <a:cubicBezTo>
                  <a:pt x="14" y="1580"/>
                  <a:pt x="52" y="1671"/>
                  <a:pt x="143" y="1724"/>
                </a:cubicBezTo>
                <a:cubicBezTo>
                  <a:pt x="234" y="1777"/>
                  <a:pt x="393" y="1761"/>
                  <a:pt x="552" y="1814"/>
                </a:cubicBezTo>
                <a:cubicBezTo>
                  <a:pt x="711" y="1867"/>
                  <a:pt x="960" y="1935"/>
                  <a:pt x="1096" y="2041"/>
                </a:cubicBezTo>
                <a:cubicBezTo>
                  <a:pt x="1232" y="2147"/>
                  <a:pt x="1293" y="2337"/>
                  <a:pt x="1368" y="2450"/>
                </a:cubicBezTo>
                <a:cubicBezTo>
                  <a:pt x="1443" y="2563"/>
                  <a:pt x="1443" y="2647"/>
                  <a:pt x="1549" y="2722"/>
                </a:cubicBezTo>
                <a:cubicBezTo>
                  <a:pt x="1655" y="2797"/>
                  <a:pt x="1814" y="2873"/>
                  <a:pt x="2003" y="2903"/>
                </a:cubicBezTo>
                <a:cubicBezTo>
                  <a:pt x="2192" y="2933"/>
                  <a:pt x="2524" y="2933"/>
                  <a:pt x="2683" y="2903"/>
                </a:cubicBezTo>
                <a:cubicBezTo>
                  <a:pt x="2842" y="2873"/>
                  <a:pt x="2896" y="2813"/>
                  <a:pt x="2956" y="2722"/>
                </a:cubicBezTo>
                <a:cubicBezTo>
                  <a:pt x="3016" y="2631"/>
                  <a:pt x="3046" y="2487"/>
                  <a:pt x="3046" y="2359"/>
                </a:cubicBezTo>
                <a:cubicBezTo>
                  <a:pt x="3046" y="2231"/>
                  <a:pt x="2971" y="2125"/>
                  <a:pt x="2956" y="1951"/>
                </a:cubicBezTo>
                <a:cubicBezTo>
                  <a:pt x="2941" y="1777"/>
                  <a:pt x="2949" y="1505"/>
                  <a:pt x="2956" y="1316"/>
                </a:cubicBezTo>
                <a:cubicBezTo>
                  <a:pt x="2963" y="1127"/>
                  <a:pt x="2994" y="953"/>
                  <a:pt x="3001" y="817"/>
                </a:cubicBezTo>
                <a:cubicBezTo>
                  <a:pt x="3008" y="681"/>
                  <a:pt x="2994" y="605"/>
                  <a:pt x="3001" y="499"/>
                </a:cubicBezTo>
                <a:cubicBezTo>
                  <a:pt x="3008" y="393"/>
                  <a:pt x="3046" y="250"/>
                  <a:pt x="3046" y="182"/>
                </a:cubicBezTo>
                <a:cubicBezTo>
                  <a:pt x="3046" y="114"/>
                  <a:pt x="3016" y="114"/>
                  <a:pt x="3001" y="91"/>
                </a:cubicBezTo>
                <a:cubicBezTo>
                  <a:pt x="2986" y="68"/>
                  <a:pt x="3001" y="60"/>
                  <a:pt x="2956" y="45"/>
                </a:cubicBezTo>
                <a:cubicBezTo>
                  <a:pt x="2911" y="30"/>
                  <a:pt x="2789" y="0"/>
                  <a:pt x="2729" y="0"/>
                </a:cubicBezTo>
                <a:cubicBezTo>
                  <a:pt x="2669" y="0"/>
                  <a:pt x="2759" y="38"/>
                  <a:pt x="2638" y="45"/>
                </a:cubicBezTo>
                <a:close/>
              </a:path>
            </a:pathLst>
          </a:custGeom>
          <a:solidFill>
            <a:srgbClr val="cdfb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1604880"/>
            <a:ext cx="4895640" cy="2195640"/>
          </a:xfrm>
          <a:custGeom>
            <a:avLst/>
            <a:gdLst/>
            <a:ahLst/>
            <a:rect l="l" t="t" r="r" b="b"/>
            <a:pathLst>
              <a:path w="3084" h="1383">
                <a:moveTo>
                  <a:pt x="1224" y="15"/>
                </a:moveTo>
                <a:cubicBezTo>
                  <a:pt x="1186" y="22"/>
                  <a:pt x="1262" y="22"/>
                  <a:pt x="1179" y="60"/>
                </a:cubicBezTo>
                <a:cubicBezTo>
                  <a:pt x="1096" y="98"/>
                  <a:pt x="869" y="197"/>
                  <a:pt x="725" y="242"/>
                </a:cubicBezTo>
                <a:cubicBezTo>
                  <a:pt x="581" y="287"/>
                  <a:pt x="430" y="273"/>
                  <a:pt x="317" y="333"/>
                </a:cubicBezTo>
                <a:cubicBezTo>
                  <a:pt x="204" y="393"/>
                  <a:pt x="90" y="492"/>
                  <a:pt x="45" y="605"/>
                </a:cubicBezTo>
                <a:cubicBezTo>
                  <a:pt x="0" y="718"/>
                  <a:pt x="22" y="892"/>
                  <a:pt x="45" y="1013"/>
                </a:cubicBezTo>
                <a:cubicBezTo>
                  <a:pt x="68" y="1134"/>
                  <a:pt x="98" y="1277"/>
                  <a:pt x="181" y="1330"/>
                </a:cubicBezTo>
                <a:cubicBezTo>
                  <a:pt x="264" y="1383"/>
                  <a:pt x="438" y="1337"/>
                  <a:pt x="544" y="1330"/>
                </a:cubicBezTo>
                <a:cubicBezTo>
                  <a:pt x="650" y="1323"/>
                  <a:pt x="703" y="1292"/>
                  <a:pt x="816" y="1285"/>
                </a:cubicBezTo>
                <a:cubicBezTo>
                  <a:pt x="929" y="1278"/>
                  <a:pt x="1111" y="1292"/>
                  <a:pt x="1224" y="1285"/>
                </a:cubicBezTo>
                <a:cubicBezTo>
                  <a:pt x="1337" y="1278"/>
                  <a:pt x="1399" y="1247"/>
                  <a:pt x="1497" y="1240"/>
                </a:cubicBezTo>
                <a:cubicBezTo>
                  <a:pt x="1595" y="1233"/>
                  <a:pt x="1686" y="1233"/>
                  <a:pt x="1814" y="1240"/>
                </a:cubicBezTo>
                <a:cubicBezTo>
                  <a:pt x="1942" y="1247"/>
                  <a:pt x="2109" y="1278"/>
                  <a:pt x="2268" y="1285"/>
                </a:cubicBezTo>
                <a:cubicBezTo>
                  <a:pt x="2427" y="1292"/>
                  <a:pt x="2646" y="1292"/>
                  <a:pt x="2767" y="1285"/>
                </a:cubicBezTo>
                <a:cubicBezTo>
                  <a:pt x="2888" y="1278"/>
                  <a:pt x="2940" y="1278"/>
                  <a:pt x="2993" y="1240"/>
                </a:cubicBezTo>
                <a:cubicBezTo>
                  <a:pt x="3046" y="1202"/>
                  <a:pt x="3084" y="1118"/>
                  <a:pt x="3084" y="1058"/>
                </a:cubicBezTo>
                <a:cubicBezTo>
                  <a:pt x="3084" y="998"/>
                  <a:pt x="3053" y="915"/>
                  <a:pt x="2993" y="877"/>
                </a:cubicBezTo>
                <a:cubicBezTo>
                  <a:pt x="2933" y="839"/>
                  <a:pt x="2827" y="861"/>
                  <a:pt x="2721" y="831"/>
                </a:cubicBezTo>
                <a:cubicBezTo>
                  <a:pt x="2615" y="801"/>
                  <a:pt x="2426" y="748"/>
                  <a:pt x="2358" y="695"/>
                </a:cubicBezTo>
                <a:cubicBezTo>
                  <a:pt x="2290" y="642"/>
                  <a:pt x="2336" y="567"/>
                  <a:pt x="2313" y="514"/>
                </a:cubicBezTo>
                <a:cubicBezTo>
                  <a:pt x="2290" y="461"/>
                  <a:pt x="2267" y="431"/>
                  <a:pt x="2222" y="378"/>
                </a:cubicBezTo>
                <a:cubicBezTo>
                  <a:pt x="2177" y="325"/>
                  <a:pt x="2116" y="241"/>
                  <a:pt x="2041" y="196"/>
                </a:cubicBezTo>
                <a:cubicBezTo>
                  <a:pt x="1966" y="151"/>
                  <a:pt x="1875" y="136"/>
                  <a:pt x="1769" y="106"/>
                </a:cubicBezTo>
                <a:cubicBezTo>
                  <a:pt x="1663" y="76"/>
                  <a:pt x="1497" y="30"/>
                  <a:pt x="1406" y="15"/>
                </a:cubicBezTo>
                <a:cubicBezTo>
                  <a:pt x="1315" y="0"/>
                  <a:pt x="1262" y="8"/>
                  <a:pt x="1224" y="15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3632040"/>
            <a:ext cx="5268960" cy="3157560"/>
          </a:xfrm>
          <a:custGeom>
            <a:avLst/>
            <a:gdLst/>
            <a:ahLst/>
            <a:rect l="l" t="t" r="r" b="b"/>
            <a:pathLst>
              <a:path w="3319" h="1989">
                <a:moveTo>
                  <a:pt x="1270" y="53"/>
                </a:moveTo>
                <a:cubicBezTo>
                  <a:pt x="1157" y="60"/>
                  <a:pt x="1232" y="38"/>
                  <a:pt x="1134" y="53"/>
                </a:cubicBezTo>
                <a:cubicBezTo>
                  <a:pt x="1036" y="68"/>
                  <a:pt x="839" y="76"/>
                  <a:pt x="680" y="144"/>
                </a:cubicBezTo>
                <a:cubicBezTo>
                  <a:pt x="521" y="212"/>
                  <a:pt x="287" y="334"/>
                  <a:pt x="181" y="462"/>
                </a:cubicBezTo>
                <a:cubicBezTo>
                  <a:pt x="75" y="590"/>
                  <a:pt x="68" y="756"/>
                  <a:pt x="45" y="915"/>
                </a:cubicBezTo>
                <a:cubicBezTo>
                  <a:pt x="22" y="1074"/>
                  <a:pt x="0" y="1270"/>
                  <a:pt x="45" y="1414"/>
                </a:cubicBezTo>
                <a:cubicBezTo>
                  <a:pt x="90" y="1558"/>
                  <a:pt x="128" y="1694"/>
                  <a:pt x="317" y="1777"/>
                </a:cubicBezTo>
                <a:cubicBezTo>
                  <a:pt x="506" y="1860"/>
                  <a:pt x="899" y="1883"/>
                  <a:pt x="1179" y="1913"/>
                </a:cubicBezTo>
                <a:cubicBezTo>
                  <a:pt x="1459" y="1943"/>
                  <a:pt x="1724" y="1951"/>
                  <a:pt x="1996" y="1959"/>
                </a:cubicBezTo>
                <a:cubicBezTo>
                  <a:pt x="2268" y="1967"/>
                  <a:pt x="2623" y="1989"/>
                  <a:pt x="2812" y="1959"/>
                </a:cubicBezTo>
                <a:cubicBezTo>
                  <a:pt x="3001" y="1929"/>
                  <a:pt x="3054" y="1898"/>
                  <a:pt x="3130" y="1777"/>
                </a:cubicBezTo>
                <a:cubicBezTo>
                  <a:pt x="3206" y="1656"/>
                  <a:pt x="3236" y="1384"/>
                  <a:pt x="3266" y="1233"/>
                </a:cubicBezTo>
                <a:cubicBezTo>
                  <a:pt x="3296" y="1082"/>
                  <a:pt x="3319" y="976"/>
                  <a:pt x="3311" y="870"/>
                </a:cubicBezTo>
                <a:cubicBezTo>
                  <a:pt x="3303" y="764"/>
                  <a:pt x="3273" y="673"/>
                  <a:pt x="3220" y="598"/>
                </a:cubicBezTo>
                <a:cubicBezTo>
                  <a:pt x="3167" y="523"/>
                  <a:pt x="3091" y="469"/>
                  <a:pt x="2993" y="416"/>
                </a:cubicBezTo>
                <a:cubicBezTo>
                  <a:pt x="2895" y="363"/>
                  <a:pt x="2722" y="333"/>
                  <a:pt x="2631" y="280"/>
                </a:cubicBezTo>
                <a:cubicBezTo>
                  <a:pt x="2540" y="227"/>
                  <a:pt x="2585" y="144"/>
                  <a:pt x="2449" y="99"/>
                </a:cubicBezTo>
                <a:cubicBezTo>
                  <a:pt x="2313" y="54"/>
                  <a:pt x="2018" y="16"/>
                  <a:pt x="1814" y="8"/>
                </a:cubicBezTo>
                <a:cubicBezTo>
                  <a:pt x="1610" y="0"/>
                  <a:pt x="1383" y="46"/>
                  <a:pt x="1270" y="53"/>
                </a:cubicBezTo>
                <a:close/>
              </a:path>
            </a:pathLst>
          </a:custGeom>
          <a:solidFill>
            <a:srgbClr val="cce8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60280"/>
            <a:ext cx="143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К-Ч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4797360"/>
            <a:ext cx="2160720" cy="36036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й сост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860640"/>
            <a:ext cx="2233440" cy="35892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3933720"/>
            <a:ext cx="1150920" cy="433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6" idx="2"/>
            <a:endCxn id="64" idx="0"/>
          </p:cNvCxnSpPr>
          <p:nvPr/>
        </p:nvCxnSpPr>
        <p:spPr>
          <a:xfrm flipH="1" rot="16200000">
            <a:off x="5977440" y="3969000"/>
            <a:ext cx="430920" cy="1226160"/>
          </a:xfrm>
          <a:prstGeom prst="curvedConnector5">
            <a:avLst>
              <a:gd name="adj1" fmla="val 49749"/>
              <a:gd name="adj2" fmla="val 49985"/>
              <a:gd name="adj3" fmla="val 4974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916360" y="1268280"/>
            <a:ext cx="1512720" cy="35892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6" idx="0"/>
            <a:endCxn id="68" idx="2"/>
          </p:cNvCxnSpPr>
          <p:nvPr/>
        </p:nvCxnSpPr>
        <p:spPr>
          <a:xfrm flipV="1" rot="16200000">
            <a:off x="3472920" y="1826280"/>
            <a:ext cx="2307240" cy="1907280"/>
          </a:xfrm>
          <a:prstGeom prst="curvedConnector5">
            <a:avLst>
              <a:gd name="adj1" fmla="val 49953"/>
              <a:gd name="adj2" fmla="val 49990"/>
              <a:gd name="adj3" fmla="val 4995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987640" y="3141720"/>
            <a:ext cx="1800360" cy="36036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остная тк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45940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0"/>
            <a:endCxn id="70" idx="3"/>
          </p:cNvCxnSpPr>
          <p:nvPr/>
        </p:nvCxnSpPr>
        <p:spPr>
          <a:xfrm flipV="1" rot="16200000">
            <a:off x="4878000" y="3231360"/>
            <a:ext cx="611640" cy="7927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427640" y="2276640"/>
            <a:ext cx="1512720" cy="35856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0"/>
            <a:endCxn id="73" idx="2"/>
          </p:cNvCxnSpPr>
          <p:nvPr/>
        </p:nvCxnSpPr>
        <p:spPr>
          <a:xfrm flipV="1" rot="16200000">
            <a:off x="4732560" y="3085920"/>
            <a:ext cx="1299240" cy="396000"/>
          </a:xfrm>
          <a:prstGeom prst="curvedConnector5">
            <a:avLst>
              <a:gd name="adj1" fmla="val 50000"/>
              <a:gd name="adj2" fmla="val 49954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596360" y="54594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746680"/>
            <a:ext cx="216000" cy="21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57466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40720" y="5746680"/>
            <a:ext cx="1224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РО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96360" y="5746680"/>
            <a:ext cx="215640" cy="21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599616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: гибкость и упруг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0360" y="59961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: твер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6453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64533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64" idx="2"/>
            <a:endCxn id="71" idx="0"/>
          </p:cNvCxnSpPr>
          <p:nvPr/>
        </p:nvCxnSpPr>
        <p:spPr>
          <a:xfrm rot="5400000">
            <a:off x="6401520" y="5056200"/>
            <a:ext cx="302400" cy="505440"/>
          </a:xfrm>
          <a:prstGeom prst="curvedConnector5">
            <a:avLst>
              <a:gd name="adj1" fmla="val 49463"/>
              <a:gd name="adj2" fmla="val 49964"/>
              <a:gd name="adj3" fmla="val 49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4" idx="2"/>
            <a:endCxn id="75" idx="1"/>
          </p:cNvCxnSpPr>
          <p:nvPr/>
        </p:nvCxnSpPr>
        <p:spPr>
          <a:xfrm flipH="1" rot="16200000">
            <a:off x="6980040" y="4982040"/>
            <a:ext cx="440640" cy="79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6" idx="0"/>
            <a:endCxn id="65" idx="3"/>
          </p:cNvCxnSpPr>
          <p:nvPr/>
        </p:nvCxnSpPr>
        <p:spPr>
          <a:xfrm rot="5400000">
            <a:off x="4662360" y="3123360"/>
            <a:ext cx="107280" cy="1728000"/>
          </a:xfrm>
          <a:prstGeom prst="curvedConnector5">
            <a:avLst>
              <a:gd name="adj1" fmla="val -214814"/>
              <a:gd name="adj2" fmla="val 33361"/>
              <a:gd name="adj3" fmla="val -21481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68360" y="429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одви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5086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костные ш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724280"/>
            <a:ext cx="216000" cy="21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724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кости чере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157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подви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538632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хря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659560"/>
            <a:ext cx="21564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661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позво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98920" y="4365720"/>
            <a:ext cx="23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вижные (сустав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458136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связ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870440"/>
            <a:ext cx="216000" cy="21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486900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коленный су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65" idx="2"/>
            <a:endCxn id="87" idx="3"/>
          </p:cNvCxnSpPr>
          <p:nvPr/>
        </p:nvCxnSpPr>
        <p:spPr>
          <a:xfrm rot="5400000">
            <a:off x="2288520" y="3983040"/>
            <a:ext cx="2120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65" idx="2"/>
            <a:endCxn id="91" idx="3"/>
          </p:cNvCxnSpPr>
          <p:nvPr/>
        </p:nvCxnSpPr>
        <p:spPr>
          <a:xfrm rot="5400000">
            <a:off x="1819080" y="4379040"/>
            <a:ext cx="1077120" cy="757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65" idx="2"/>
            <a:endCxn id="95" idx="0"/>
          </p:cNvCxnSpPr>
          <p:nvPr/>
        </p:nvCxnSpPr>
        <p:spPr>
          <a:xfrm flipH="1" rot="16200000">
            <a:off x="3229560" y="3726360"/>
            <a:ext cx="146880" cy="1132560"/>
          </a:xfrm>
          <a:prstGeom prst="curvedConnector5">
            <a:avLst>
              <a:gd name="adj1" fmla="val 49877"/>
              <a:gd name="adj2" fmla="val 49984"/>
              <a:gd name="adj3" fmla="val 498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4941720"/>
            <a:ext cx="1420920" cy="177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5640" y="537372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хря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566100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суставная сум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16572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сустав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63640" y="551664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635280" y="5734080"/>
            <a:ext cx="43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564000" y="5734080"/>
            <a:ext cx="503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23493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. костные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360" y="2638440"/>
            <a:ext cx="19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. костные пластинки (межклеточное в-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00" y="3116160"/>
            <a:ext cx="19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. костные канальцы с сосудами и нер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70" idx="1"/>
            <a:endCxn id="109" idx="3"/>
          </p:cNvCxnSpPr>
          <p:nvPr/>
        </p:nvCxnSpPr>
        <p:spPr>
          <a:xfrm rot="10800000">
            <a:off x="1870920" y="2486880"/>
            <a:ext cx="1116720" cy="835920"/>
          </a:xfrm>
          <a:prstGeom prst="curvedConnector5">
            <a:avLst>
              <a:gd name="adj1" fmla="val 49919"/>
              <a:gd name="adj2" fmla="val 49978"/>
              <a:gd name="adj3" fmla="val 499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70" idx="1"/>
            <a:endCxn id="110" idx="3"/>
          </p:cNvCxnSpPr>
          <p:nvPr/>
        </p:nvCxnSpPr>
        <p:spPr>
          <a:xfrm rot="10800000">
            <a:off x="2123280" y="2866320"/>
            <a:ext cx="864360" cy="45648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70" idx="1"/>
            <a:endCxn id="111" idx="3"/>
          </p:cNvCxnSpPr>
          <p:nvPr/>
        </p:nvCxnSpPr>
        <p:spPr>
          <a:xfrm flipV="1" rot="10800000">
            <a:off x="2194920" y="3321720"/>
            <a:ext cx="792720" cy="2268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763640" y="26028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линные трубча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6560" y="47484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476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бедр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7650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роткие трубча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98560" y="979560"/>
            <a:ext cx="216000" cy="216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9810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аланги паль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26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оские 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48284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48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лоп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68" idx="0"/>
            <a:endCxn id="115" idx="3"/>
          </p:cNvCxnSpPr>
          <p:nvPr/>
        </p:nvCxnSpPr>
        <p:spPr>
          <a:xfrm flipH="1" flipV="1" rot="5400000">
            <a:off x="3327840" y="743400"/>
            <a:ext cx="870480" cy="180000"/>
          </a:xfrm>
          <a:prstGeom prst="curvedConnector5">
            <a:avLst>
              <a:gd name="adj1" fmla="val 42118"/>
              <a:gd name="adj2" fmla="val 113627"/>
              <a:gd name="adj3" fmla="val 42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68" idx="0"/>
            <a:endCxn id="118" idx="3"/>
          </p:cNvCxnSpPr>
          <p:nvPr/>
        </p:nvCxnSpPr>
        <p:spPr>
          <a:xfrm flipV="1" rot="16200000">
            <a:off x="3075480" y="669960"/>
            <a:ext cx="365760" cy="830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68" idx="0"/>
            <a:endCxn id="121" idx="3"/>
          </p:cNvCxnSpPr>
          <p:nvPr/>
        </p:nvCxnSpPr>
        <p:spPr>
          <a:xfrm rot="5400000">
            <a:off x="3008880" y="742680"/>
            <a:ext cx="138960" cy="1189800"/>
          </a:xfrm>
          <a:prstGeom prst="curvedConnector5">
            <a:avLst>
              <a:gd name="adj1" fmla="val -165454"/>
              <a:gd name="adj2" fmla="val 40920"/>
              <a:gd name="adj3" fmla="val -1654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148360" y="170028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неш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26496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нутрен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3068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мпактное в-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3284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убчатое в-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350028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расный костный моз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80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: кроветв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400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елтый костный моз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80360" y="4221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: ЗП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73" idx="3"/>
            <a:endCxn id="128" idx="0"/>
          </p:cNvCxnSpPr>
          <p:nvPr/>
        </p:nvCxnSpPr>
        <p:spPr>
          <a:xfrm>
            <a:off x="5940000" y="2455920"/>
            <a:ext cx="648360" cy="19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8" idx="2"/>
            <a:endCxn id="129" idx="1"/>
          </p:cNvCxnSpPr>
          <p:nvPr/>
        </p:nvCxnSpPr>
        <p:spPr>
          <a:xfrm flipH="1" rot="16200000">
            <a:off x="6589800" y="2920680"/>
            <a:ext cx="283320" cy="289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8" idx="2"/>
            <a:endCxn id="130" idx="1"/>
          </p:cNvCxnSpPr>
          <p:nvPr/>
        </p:nvCxnSpPr>
        <p:spPr>
          <a:xfrm flipH="1" rot="16200000">
            <a:off x="6482160" y="3028680"/>
            <a:ext cx="498960" cy="289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8" idx="2"/>
            <a:endCxn id="131" idx="1"/>
          </p:cNvCxnSpPr>
          <p:nvPr/>
        </p:nvCxnSpPr>
        <p:spPr>
          <a:xfrm flipH="1" rot="16200000">
            <a:off x="6374160" y="3136680"/>
            <a:ext cx="714960" cy="289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8" idx="2"/>
            <a:endCxn id="133" idx="1"/>
          </p:cNvCxnSpPr>
          <p:nvPr/>
        </p:nvCxnSpPr>
        <p:spPr>
          <a:xfrm flipH="1" rot="16200000">
            <a:off x="6121800" y="3389040"/>
            <a:ext cx="1219680" cy="289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73" idx="3"/>
            <a:endCxn id="127" idx="2"/>
          </p:cNvCxnSpPr>
          <p:nvPr/>
        </p:nvCxnSpPr>
        <p:spPr>
          <a:xfrm flipH="1" flipV="1">
            <a:off x="5616000" y="1974600"/>
            <a:ext cx="324360" cy="481680"/>
          </a:xfrm>
          <a:prstGeom prst="curvedConnector5">
            <a:avLst>
              <a:gd name="adj1" fmla="val -70000"/>
              <a:gd name="adj2" fmla="val 34480"/>
              <a:gd name="adj3" fmla="val -7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68360" y="1989000"/>
            <a:ext cx="139572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92360" y="2852640"/>
            <a:ext cx="14472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1989000"/>
            <a:ext cx="14472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184464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133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89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916360" y="242064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596360" y="260280"/>
            <a:ext cx="1001520" cy="258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157800" y="26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.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7800" y="549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. гол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7800" y="836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. надко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105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: рост в шир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134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. суставной хря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155736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Ф: рост в длину, гладкость суст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27" idx="0"/>
            <a:endCxn id="153" idx="1"/>
          </p:cNvCxnSpPr>
          <p:nvPr/>
        </p:nvCxnSpPr>
        <p:spPr>
          <a:xfrm flipH="1" flipV="1" rot="5400000">
            <a:off x="5775840" y="1319400"/>
            <a:ext cx="221400" cy="5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7" idx="0"/>
            <a:endCxn id="151" idx="1"/>
          </p:cNvCxnSpPr>
          <p:nvPr/>
        </p:nvCxnSpPr>
        <p:spPr>
          <a:xfrm flipH="1" flipV="1" rot="5400000">
            <a:off x="5524200" y="1066320"/>
            <a:ext cx="726120" cy="54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27" idx="0"/>
            <a:endCxn id="150" idx="1"/>
          </p:cNvCxnSpPr>
          <p:nvPr/>
        </p:nvCxnSpPr>
        <p:spPr>
          <a:xfrm flipH="1" flipV="1" rot="5400000">
            <a:off x="5380200" y="922680"/>
            <a:ext cx="1013760" cy="54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27" idx="0"/>
            <a:endCxn id="149" idx="1"/>
          </p:cNvCxnSpPr>
          <p:nvPr/>
        </p:nvCxnSpPr>
        <p:spPr>
          <a:xfrm flipH="1" flipV="1" rot="5400000">
            <a:off x="5235840" y="778320"/>
            <a:ext cx="1302480" cy="541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7812000" y="765000"/>
            <a:ext cx="14472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54920" y="907920"/>
            <a:ext cx="146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1413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227664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54936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67640" y="47592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69228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96360" y="2421000"/>
            <a:ext cx="288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48720" y="189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388000" y="33336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250920" y="1052640"/>
          <a:ext cx="8424720" cy="5219640"/>
        </p:xfrm>
        <a:graphic>
          <a:graphicData uri="http://schemas.openxmlformats.org/drawingml/2006/table">
            <a:tbl>
              <a:tblPr/>
              <a:tblGrid>
                <a:gridCol w="1368360"/>
                <a:gridCol w="1649520"/>
                <a:gridCol w="1801800"/>
                <a:gridCol w="1801800"/>
                <a:gridCol w="1803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ы ске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 ске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соеди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гово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вой 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елет тулов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ная кл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елет конеч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4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коне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4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коне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4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а конеч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4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 верхних конеч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4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 нижних конеч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4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rcRect l="5698" t="3271" r="36721" b="0"/>
          <a:stretch/>
        </p:blipFill>
        <p:spPr>
          <a:xfrm>
            <a:off x="5435640" y="981000"/>
            <a:ext cx="3048120" cy="5500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5400000">
            <a:off x="-983160" y="2683440"/>
            <a:ext cx="218268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евой ске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 rot="5400000">
            <a:off x="-1081080" y="5230800"/>
            <a:ext cx="23781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авочный ске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89000"/>
            <a:ext cx="2016000" cy="620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26028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это совокупность костей, хрящей и свя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4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п (кости голо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120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9:47:29Z</dcterms:created>
  <dc:creator>Борзунов Вячеслав</dc:creator>
  <dc:description/>
  <dc:language>en-US</dc:language>
  <cp:lastModifiedBy>Home</cp:lastModifiedBy>
  <dcterms:modified xsi:type="dcterms:W3CDTF">2013-11-21T13:22:31Z</dcterms:modified>
  <cp:revision>20</cp:revision>
  <dc:subject/>
  <dc:title>Скелет человека</dc:title>
</cp:coreProperties>
</file>