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ACA-5C94-4555-854B-2D5629CF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B51-34F8-4481-A308-91DE10BE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1B5-AD8C-457E-8617-9F689F36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4ED-E990-43C7-A3B2-729CC0A2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4DC9-71C8-4FAB-8084-4AE3F575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3141-241D-4E26-9C77-18FE2783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DCA6-0004-4CA3-A4BA-C80F140A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4FBD-D270-4CBF-AD15-B57F7203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F28A-86D2-43AC-B0F3-AB24AC92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A73A-2A8E-44EF-A95B-F7D009C6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7DEA-139F-42AA-B223-032A9EF3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1EB-87FC-4047-A9B8-C2C2D1B7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8651-B610-4538-BDC5-608BF780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7395-AC85-42DD-8B91-10E6B877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A0C4-32E0-43A1-ACED-FDEFC736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4357-1199-463C-9187-1D54D7F2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710C-2B54-4915-BB99-A862B4E9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92A-4500-4EA2-BEA5-E5B0C3D9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E94-B4B4-4B5A-8EBF-94D28F18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E32-54A2-4AED-970A-B576D795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B50-3DD3-4C75-BA2F-33185408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1C0-A475-4EBC-83D2-5E5C1177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900-61A7-4525-8AAA-3B844775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D95-4827-40D7-8B41-2253FAED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9D2B-2C93-453D-B7BB-F348458BB42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549F-BD37-44AD-B07B-FDDD249530E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Презентация на тему: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«Биохимическая гипотеза  А.И.Опарина»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Выполнил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Самохин М. 9Г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бразование коацерватной капл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39387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cc"/>
                </a:solidFill>
                <a:latin typeface="Arial"/>
              </a:rPr>
              <a:t>III</a:t>
            </a:r>
            <a:r>
              <a:rPr b="0" lang="ru-RU" sz="3300" spc="-1" strike="noStrike">
                <a:solidFill>
                  <a:srgbClr val="ffffcc"/>
                </a:solidFill>
                <a:latin typeface="Arial"/>
              </a:rPr>
              <a:t> этап – формирование способности к самовоспроизводству, возникновение живой клетки</a:t>
            </a: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хранившиеся коацерватные капли обладали способностью к метаболизму и позже приобрели свойство – воспроизведение себе подобных, благодаря распаду клетки на дочерни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алее образовывается наружная мембрана, что влечет за собой образование первичной клетки – архиклет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тем появилась цитоплазма, ядро и бел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ачало биологической эволюц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Опарин связывает начало с появлением стабильной самовоспроизводящейся системы – клетки, с постоянной последовательностью нуклеотидов и способностью к метаболизм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419720" cy="3968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Этапы возникновения жизни на Земле по Опарин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749840" cy="5333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ипотеза Опарина и Дж.Холдейн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00600" y="1142640"/>
            <a:ext cx="4191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1929г английский биолог Холдейн выдвинул гипотезу происхождения из неживых элементов. Теорию биохимической эволюции иногда называют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теорией Опарина – Холдей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4952880"/>
            <a:ext cx="4419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венство в образовании жизни Опарин отдавал белкам, а Холдейн – нуклеиновым кислота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419720" cy="3016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52880" y="3919680"/>
            <a:ext cx="4019760" cy="28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Гипотеза Опарина – основа современной гипотезы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5714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Verdana"/>
              </a:rPr>
              <a:t>В современной науке принята гипотеза абиогенного (небиологического) происхождения жизни под действием естественных причин в результате длительного процесса</a:t>
            </a:r>
            <a:r>
              <a:rPr b="0" lang="en-US" sz="2100" spc="-1" strike="noStrike">
                <a:solidFill>
                  <a:srgbClr val="140f0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Verdana"/>
              </a:rPr>
              <a:t>космической, геологической и химической эволюции – абиогенеза.</a:t>
            </a:r>
            <a:r>
              <a:rPr b="0" lang="en-US" sz="2100" spc="-1" strike="noStrike">
                <a:solidFill>
                  <a:srgbClr val="aa8456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324840" cy="444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71600" y="2819520"/>
            <a:ext cx="6994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i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.И. Опари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3962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оветский биолог и биохимик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894-1980г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537080" cy="5791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.И. Опари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Родился 2 марта 1894г в г.Углич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В 1917г. окончил  физ.-мат. факультет Московского университета и был оставлен на кафедре для подготовки в профессоры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Он – создатель всемирно признанной теории происхождения жизни; основатель советской технической биохимии, общественный деятель и организатор наук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Теория возникновения жизни на Земле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43040" y="14479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Разрабатывая теоретические основы, Опарин выдвинул теорию происхождения жизни на Земле. На основе фактических материалов астрономии, химии, геологии и биологии Опарин предложил гипотезу развития материи, объясняющую возникновение жизни на Земл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роблему происхождения жизни он рассматривал с материалистической позиции и объяснял возникновение жизни как закономерный этап в развитии материи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58596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Абиогенное возникновение живой материи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5638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ринципиально новая гипотеза, описанная Опариным в книге «Происхождение жизни» (1924г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н выступил с утверждением, что в начале своего существования, когда Земля была безжизненной, на ней происходили абиотические синтезы углеродистых соединени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4572000"/>
            <a:ext cx="37339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 мере остывания образовывалась земная кора, а из воды, аммиака, двуокиси углерода и метана – атмосфер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4343400"/>
            <a:ext cx="3657600" cy="2325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3409920" cy="312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Гипотеза самопроизвольного зарождения жизн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4876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А.И. Опарин появление жизни рассматривал как единый естественный процесс, который состоял из протекавшей в условиях ранней Земли первоначальной химической эволюции, перешедший постепенно на новый уровень – биохимическую революцию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228840" cy="2190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200640" y="1523880"/>
            <a:ext cx="2943360" cy="1714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3276720" cy="2157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Этапы биохимической революц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924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тап – химическая револю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4419720"/>
            <a:ext cx="8534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 мнению Опарина, в первичной атмосфере планеты, насыщенной газами, при помощи различных разрядов, а так же под действием ультрафиолетового излучения и высокой радиации образовывались органические соединения, которые накапливались в океане, создавая «первичный бульон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763120" cy="3030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этап – появление белковых веществ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концентрированных растворах органических веществ при определенных условиях могут образовываться сгустки, - коацерват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з раствора в них поступали химические вещества, в них шел синтез новых соединений, в результате чего они росли и усложнялис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елковые коацерваты рассматривались Опариным как пробионты – предшественники живого организма. Он предполагал, что на определенном этапе белковые пробиотны включили в себя нуклеиновые кислоты, создав единые живые комплекс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7T20:41:09Z</dcterms:created>
  <dc:creator>Алина</dc:creator>
  <dc:description/>
  <dc:language>en-US</dc:language>
  <cp:lastModifiedBy>Алина</cp:lastModifiedBy>
  <dcterms:modified xsi:type="dcterms:W3CDTF">2018-02-07T21:51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