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96F-BA76-426F-9008-3FF5B852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CC1-D72F-498A-B89F-3B6F728F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C4A-96E3-4729-9E64-128D3E79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9D2-1D3A-4441-978F-BA171D85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F97A-9495-44EE-8DE2-D20CC58D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F8D6-393E-4033-83A4-91F4859C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6A8-D9D5-4C7F-91F3-1F38C9D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9574-717C-4AC0-B227-7F3BA999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ADC1-2032-41B0-BF5F-6924D01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FAE2-7D04-442C-B3B8-51AF3ED1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014-C09D-4735-973D-83D767E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C93-B900-4410-82E1-592DEEC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480-2AC2-4391-9746-E576A28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F522-E9D4-49CA-9C47-EA376FF9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2002-D36C-4D01-AA49-B025FCA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3C02-AAE4-4408-9BBA-8F2DBF0C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8985-F665-4FD7-AB7B-70DC5008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6E6-D328-4153-B18E-F2B7C9E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B9F-3475-42EA-98A1-246C31A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5F0-C916-4983-A676-707179C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8D0-8651-4545-98BA-B8E8D31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085-D9EB-4687-99E6-6B474C3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027-8F0B-4BCA-B71F-81D03E0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01A-6801-4F75-9CE6-2A4EE11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3D0-60FE-432A-8E7F-886362CF92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67E-96C1-4DF0-8B2D-A69D77D83E6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5168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2 класс</a:t>
            </a:r>
            <a:br>
              <a:rPr sz="4000"/>
            </a:b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Тема раздела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Правописание букв Ь и Ъ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76500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втор: учитель начальных клас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БОУСОШ №455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куратова Наталья Василье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ое было задани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далось ли его выполнить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полнили всё верно или были недочёты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ринёс больше всего пользы команд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цените работу своей групп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324000" y="6597720"/>
            <a:ext cx="288720" cy="260280"/>
          </a:xfrm>
          <a:custGeom>
            <a:avLst/>
            <a:gdLst>
              <a:gd name="textAreaLeft" fmla="*/ 16560 w 288720"/>
              <a:gd name="textAreaRight" fmla="*/ 272160 w 28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57" h="21600">
                <a:moveTo>
                  <a:pt x="0" y="0"/>
                </a:moveTo>
                <a:lnTo>
                  <a:pt x="23957" y="0"/>
                </a:lnTo>
                <a:lnTo>
                  <a:pt x="23957" y="21600"/>
                </a:lnTo>
                <a:lnTo>
                  <a:pt x="0" y="21600"/>
                </a:lnTo>
                <a:close/>
              </a:path>
              <a:path fill="lightenLess" w="23957" h="21600">
                <a:moveTo>
                  <a:pt x="0" y="0"/>
                </a:moveTo>
                <a:lnTo>
                  <a:pt x="23957" y="0"/>
                </a:lnTo>
                <a:lnTo>
                  <a:pt x="22557" y="1400"/>
                </a:lnTo>
                <a:lnTo>
                  <a:pt x="1400" y="1400"/>
                </a:lnTo>
                <a:close/>
              </a:path>
              <a:path fill="darken" w="23957" h="21600">
                <a:moveTo>
                  <a:pt x="23957" y="0"/>
                </a:moveTo>
                <a:lnTo>
                  <a:pt x="23957" y="21600"/>
                </a:lnTo>
                <a:lnTo>
                  <a:pt x="22557" y="20200"/>
                </a:lnTo>
                <a:lnTo>
                  <a:pt x="22557" y="1400"/>
                </a:lnTo>
                <a:close/>
              </a:path>
              <a:path fill="darkenLess" w="23957" h="21600">
                <a:moveTo>
                  <a:pt x="2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57" y="20200"/>
                </a:lnTo>
                <a:close/>
              </a:path>
              <a:path fill="lighten" w="2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57" h="21600">
                <a:moveTo>
                  <a:pt x="4972" y="3794"/>
                </a:moveTo>
                <a:lnTo>
                  <a:pt x="18985" y="10800"/>
                </a:lnTo>
                <a:lnTo>
                  <a:pt x="4972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жир   Пушок   крыльцо   пень    ящик    лить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11202"/>
                </a:moveTo>
                <a:lnTo>
                  <a:pt x="17806" y="4196"/>
                </a:lnTo>
                <a:lnTo>
                  <a:pt x="17806" y="18209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250920" y="6597720"/>
            <a:ext cx="217440" cy="260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60280"/>
              <a:gd name="textAreaBottom" fmla="*/ 246240 h 260280"/>
            </a:gdLst>
            <a:ahLst/>
            <a:rect l="textAreaLeft" t="textAreaTop" r="textAreaRight" b="textAreaBottom"/>
            <a:pathLst>
              <a:path w="21600" h="25849">
                <a:moveTo>
                  <a:pt x="0" y="0"/>
                </a:moveTo>
                <a:lnTo>
                  <a:pt x="21600" y="0"/>
                </a:lnTo>
                <a:lnTo>
                  <a:pt x="21600" y="25849"/>
                </a:lnTo>
                <a:lnTo>
                  <a:pt x="0" y="25849"/>
                </a:lnTo>
                <a:close/>
              </a:path>
              <a:path fill="lightenLess" w="21600" h="25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49">
                <a:moveTo>
                  <a:pt x="21600" y="0"/>
                </a:moveTo>
                <a:lnTo>
                  <a:pt x="21600" y="25849"/>
                </a:lnTo>
                <a:lnTo>
                  <a:pt x="20200" y="24449"/>
                </a:lnTo>
                <a:lnTo>
                  <a:pt x="20200" y="1400"/>
                </a:lnTo>
                <a:close/>
              </a:path>
              <a:path fill="darkenLess" w="21600" h="25849">
                <a:moveTo>
                  <a:pt x="21600" y="25849"/>
                </a:moveTo>
                <a:lnTo>
                  <a:pt x="0" y="25849"/>
                </a:lnTo>
                <a:lnTo>
                  <a:pt x="1400" y="24449"/>
                </a:lnTo>
                <a:lnTo>
                  <a:pt x="20200" y="24449"/>
                </a:lnTo>
                <a:close/>
              </a:path>
              <a:path fill="lighten" w="21600" h="25849">
                <a:moveTo>
                  <a:pt x="0" y="25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49"/>
                </a:lnTo>
                <a:close/>
              </a:path>
              <a:path fill="darken" w="21600" h="25849">
                <a:moveTo>
                  <a:pt x="3794" y="5918"/>
                </a:moveTo>
                <a:lnTo>
                  <a:pt x="17806" y="12924"/>
                </a:lnTo>
                <a:lnTo>
                  <a:pt x="3794" y="19931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Спасибо за работу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36400" y="1643040"/>
            <a:ext cx="6330960" cy="457200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7325" y="10800"/>
                </a:moveTo>
                <a:lnTo>
                  <a:pt x="21338" y="3794"/>
                </a:lnTo>
                <a:lnTo>
                  <a:pt x="2133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250920" y="6669000"/>
            <a:ext cx="215640" cy="189000"/>
          </a:xfrm>
          <a:custGeom>
            <a:avLst/>
            <a:gdLst>
              <a:gd name="textAreaLeft" fmla="*/ 12240 w 215640"/>
              <a:gd name="textAreaRight" fmla="*/ 203400 w 215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4639" h="21600">
                <a:moveTo>
                  <a:pt x="0" y="0"/>
                </a:moveTo>
                <a:lnTo>
                  <a:pt x="24639" y="0"/>
                </a:lnTo>
                <a:lnTo>
                  <a:pt x="24639" y="21600"/>
                </a:lnTo>
                <a:lnTo>
                  <a:pt x="0" y="21600"/>
                </a:lnTo>
                <a:close/>
              </a:path>
              <a:path fill="lightenLess" w="24639" h="21600">
                <a:moveTo>
                  <a:pt x="0" y="0"/>
                </a:moveTo>
                <a:lnTo>
                  <a:pt x="24639" y="0"/>
                </a:lnTo>
                <a:lnTo>
                  <a:pt x="23239" y="1400"/>
                </a:lnTo>
                <a:lnTo>
                  <a:pt x="1400" y="1400"/>
                </a:lnTo>
                <a:close/>
              </a:path>
              <a:path fill="darken" w="24639" h="21600">
                <a:moveTo>
                  <a:pt x="24639" y="0"/>
                </a:moveTo>
                <a:lnTo>
                  <a:pt x="24639" y="21600"/>
                </a:lnTo>
                <a:lnTo>
                  <a:pt x="23239" y="20200"/>
                </a:lnTo>
                <a:lnTo>
                  <a:pt x="23239" y="1400"/>
                </a:lnTo>
                <a:close/>
              </a:path>
              <a:path fill="darkenLess" w="24639" h="21600">
                <a:moveTo>
                  <a:pt x="24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9" y="20200"/>
                </a:lnTo>
                <a:close/>
              </a:path>
              <a:path fill="lighten" w="24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9" h="21600">
                <a:moveTo>
                  <a:pt x="5313" y="3794"/>
                </a:moveTo>
                <a:lnTo>
                  <a:pt x="19326" y="10800"/>
                </a:lnTo>
                <a:lnTo>
                  <a:pt x="531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кончите предложени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вуки речи делятся на …………. 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ласные звуки бывают …………. 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гласные звуки делятся на …. и ……, а также ……  и …….. 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обозначают звуков буквы …… 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539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Д-рога, б-рёза,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в-р-бей, дев-чка,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ов-щи, р-бина, р-бота, р-бята, ул-ца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539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рога, б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рёза,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в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бей, дев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чка,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ов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щи, р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бина, р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бота, р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бята, ул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ца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10800"/>
                </a:moveTo>
                <a:lnTo>
                  <a:pt x="19506" y="3794"/>
                </a:lnTo>
                <a:lnTo>
                  <a:pt x="195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468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17" descr="бер"/>
          <p:cNvPicPr/>
          <p:nvPr/>
        </p:nvPicPr>
        <p:blipFill>
          <a:blip r:embed="rId1"/>
          <a:stretch/>
        </p:blipFill>
        <p:spPr>
          <a:xfrm>
            <a:off x="468360" y="692280"/>
            <a:ext cx="3166920" cy="2171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ряб"/>
          <p:cNvPicPr/>
          <p:nvPr/>
        </p:nvPicPr>
        <p:blipFill>
          <a:blip r:embed="rId2"/>
          <a:stretch/>
        </p:blipFill>
        <p:spPr>
          <a:xfrm>
            <a:off x="250920" y="4581360"/>
            <a:ext cx="3263760" cy="210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ute_little_babyдевоч"/>
          <p:cNvPicPr/>
          <p:nvPr/>
        </p:nvPicPr>
        <p:blipFill>
          <a:blip r:embed="rId3"/>
          <a:stretch/>
        </p:blipFill>
        <p:spPr>
          <a:xfrm>
            <a:off x="3995640" y="692280"/>
            <a:ext cx="3517920" cy="21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image"/>
          <p:cNvPicPr/>
          <p:nvPr/>
        </p:nvPicPr>
        <p:blipFill>
          <a:blip r:embed="rId4"/>
          <a:stretch/>
        </p:blipFill>
        <p:spPr>
          <a:xfrm>
            <a:off x="3995640" y="4653000"/>
            <a:ext cx="3587760" cy="20336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6"/>
          <p:cNvSpPr/>
          <p:nvPr/>
        </p:nvSpPr>
        <p:spPr>
          <a:xfrm>
            <a:off x="324000" y="2997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ЁЗ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1692360" y="3141720"/>
            <a:ext cx="180000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И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4429800" y="308916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6088320" y="3952800"/>
            <a:ext cx="15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Я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6843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3794"/>
                </a:moveTo>
                <a:lnTo>
                  <a:pt x="18302" y="10800"/>
                </a:lnTo>
                <a:lnTo>
                  <a:pt x="4289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пробуйте стать волшебником и превратит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27" descr="img235098_2-4_Mel_dlya_doski_tsvetnoy"/>
          <p:cNvPicPr/>
          <p:nvPr/>
        </p:nvPicPr>
        <p:blipFill>
          <a:blip r:embed="rId1"/>
          <a:stretch/>
        </p:blipFill>
        <p:spPr>
          <a:xfrm>
            <a:off x="5867280" y="1557360"/>
            <a:ext cx="2349720" cy="2833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5" descr="ugol2"/>
          <p:cNvPicPr/>
          <p:nvPr/>
        </p:nvPicPr>
        <p:blipFill>
          <a:blip r:embed="rId2"/>
          <a:stretch/>
        </p:blipFill>
        <p:spPr>
          <a:xfrm>
            <a:off x="2484360" y="4797360"/>
            <a:ext cx="2210040" cy="18655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395280" y="184464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50920" y="1700280"/>
            <a:ext cx="504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уго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в топли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шес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в чис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мел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– в мелкое мест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олк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в тане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боль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в здание, где работают вра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50920" y="422100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427640" y="3573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3132000" y="45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324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угол – уголь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шест – шесть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мел – мель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полка – полька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боль - больница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39528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5119"/>
                </a:moveTo>
                <a:lnTo>
                  <a:pt x="17806" y="12126"/>
                </a:lnTo>
                <a:lnTo>
                  <a:pt x="3794" y="19132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24000" y="692280"/>
            <a:ext cx="73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1311"/>
                </a:solidFill>
                <a:latin typeface="Arial"/>
              </a:rPr>
              <a:t>Тема урока: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Буква </a:t>
            </a:r>
            <a:r>
              <a:rPr b="1" i="1" lang="en-US" sz="7200" spc="-1" strike="noStrike">
                <a:solidFill>
                  <a:srgbClr val="2f1311"/>
                </a:solidFill>
                <a:latin typeface="Arial"/>
              </a:rPr>
              <a:t>ь</a:t>
            </a: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 в конце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и в середине слова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0" y="6669000"/>
            <a:ext cx="324000" cy="189000"/>
          </a:xfrm>
          <a:custGeom>
            <a:avLst/>
            <a:gdLst>
              <a:gd name="textAreaLeft" fmla="*/ 12240 w 324000"/>
              <a:gd name="textAreaRight" fmla="*/ 311760 w 324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6999" h="21600">
                <a:moveTo>
                  <a:pt x="0" y="0"/>
                </a:moveTo>
                <a:lnTo>
                  <a:pt x="36999" y="0"/>
                </a:lnTo>
                <a:lnTo>
                  <a:pt x="36999" y="21600"/>
                </a:lnTo>
                <a:lnTo>
                  <a:pt x="0" y="21600"/>
                </a:lnTo>
                <a:close/>
              </a:path>
              <a:path fill="lightenLess" w="36999" h="21600">
                <a:moveTo>
                  <a:pt x="0" y="0"/>
                </a:moveTo>
                <a:lnTo>
                  <a:pt x="36999" y="0"/>
                </a:lnTo>
                <a:lnTo>
                  <a:pt x="35599" y="1400"/>
                </a:lnTo>
                <a:lnTo>
                  <a:pt x="1400" y="1400"/>
                </a:lnTo>
                <a:close/>
              </a:path>
              <a:path fill="darken" w="36999" h="21600">
                <a:moveTo>
                  <a:pt x="36999" y="0"/>
                </a:moveTo>
                <a:lnTo>
                  <a:pt x="36999" y="21600"/>
                </a:lnTo>
                <a:lnTo>
                  <a:pt x="35599" y="20200"/>
                </a:lnTo>
                <a:lnTo>
                  <a:pt x="35599" y="1400"/>
                </a:lnTo>
                <a:close/>
              </a:path>
              <a:path fill="darkenLess" w="36999" h="21600">
                <a:moveTo>
                  <a:pt x="36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99" y="20200"/>
                </a:lnTo>
                <a:close/>
              </a:path>
              <a:path fill="lighten" w="36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99" h="21600">
                <a:moveTo>
                  <a:pt x="11493" y="10800"/>
                </a:moveTo>
                <a:lnTo>
                  <a:pt x="25506" y="3794"/>
                </a:lnTo>
                <a:lnTo>
                  <a:pt x="25506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324000" y="6669000"/>
            <a:ext cx="288720" cy="189000"/>
          </a:xfrm>
          <a:custGeom>
            <a:avLst/>
            <a:gdLst>
              <a:gd name="textAreaLeft" fmla="*/ 12240 w 288720"/>
              <a:gd name="textAreaRight" fmla="*/ 276480 w 288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2975" h="21600">
                <a:moveTo>
                  <a:pt x="0" y="0"/>
                </a:moveTo>
                <a:lnTo>
                  <a:pt x="32975" y="0"/>
                </a:lnTo>
                <a:lnTo>
                  <a:pt x="32975" y="21600"/>
                </a:lnTo>
                <a:lnTo>
                  <a:pt x="0" y="21600"/>
                </a:lnTo>
                <a:close/>
              </a:path>
              <a:path fill="lightenLess" w="32975" h="21600">
                <a:moveTo>
                  <a:pt x="0" y="0"/>
                </a:moveTo>
                <a:lnTo>
                  <a:pt x="32975" y="0"/>
                </a:lnTo>
                <a:lnTo>
                  <a:pt x="31575" y="1400"/>
                </a:lnTo>
                <a:lnTo>
                  <a:pt x="1400" y="1400"/>
                </a:lnTo>
                <a:close/>
              </a:path>
              <a:path fill="darken" w="32975" h="21600">
                <a:moveTo>
                  <a:pt x="32975" y="0"/>
                </a:moveTo>
                <a:lnTo>
                  <a:pt x="32975" y="21600"/>
                </a:lnTo>
                <a:lnTo>
                  <a:pt x="31575" y="20200"/>
                </a:lnTo>
                <a:lnTo>
                  <a:pt x="31575" y="1400"/>
                </a:lnTo>
                <a:close/>
              </a:path>
              <a:path fill="darkenLess" w="32975" h="21600">
                <a:moveTo>
                  <a:pt x="3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75" y="20200"/>
                </a:lnTo>
                <a:close/>
              </a:path>
              <a:path fill="lighten" w="3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75" h="21600">
                <a:moveTo>
                  <a:pt x="9481" y="3794"/>
                </a:moveTo>
                <a:lnTo>
                  <a:pt x="23494" y="10800"/>
                </a:lnTo>
                <a:lnTo>
                  <a:pt x="9481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30:28Z</dcterms:created>
  <dc:creator>ПК</dc:creator>
  <dc:description/>
  <dc:language>en-US</dc:language>
  <cp:lastModifiedBy>ПК</cp:lastModifiedBy>
  <dcterms:modified xsi:type="dcterms:W3CDTF">2018-01-31T21:28:08Z</dcterms:modified>
  <cp:revision>11</cp:revision>
  <dc:subject/>
  <dc:title>Слайд 1</dc:title>
</cp:coreProperties>
</file>