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06D-CD51-4AFF-9C59-07C1A531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498-0AED-49C2-AC8B-9676EF9B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8A6-4AFF-420B-B5A4-7FA9C8F2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345-EA75-4B59-9589-33CBC0A4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E741-88D1-4E83-91FB-0ED301EC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57C4-F4BA-41BC-A70E-B42649C4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173-6913-4DA1-810A-E20215F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497-03D4-407C-ABC5-06876DB5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393-843B-48C0-B9B5-650E1FD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EAA-3ABA-4B81-8965-7C12013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BF9-813F-477C-9A59-E469351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7C2-095E-4732-ABB0-DD6071E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6C7-8788-482C-9259-4436C83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81B-2043-401F-9048-3716092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20B3-262B-42C2-80AB-44E45FB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BB91-5A77-4B5D-A9AF-B1305D38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254-BF6A-4CFA-96BD-516BF323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111-0324-46C0-8F84-111B187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B61-A205-492F-8A24-5EF6A29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7A7-838F-43DC-9BFA-2818623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840-C089-47B4-A638-42251D90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063-4B63-4A76-8C10-0C8DED18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B91-7EE2-481F-8C84-4A129A3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94A-8659-4912-B9E4-92519DB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C52-E613-482E-8268-00BA039C4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D9C0-BFB9-46CB-AD14-ADF76B78F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Wombat4.jpg?uselang=ru" TargetMode="External"/><Relationship Id="rId3" Type="http://schemas.openxmlformats.org/officeDocument/2006/relationships/hyperlink" Target="http://ru.wikipedia.org/wiki/&#1060;&#1072;&#1081;&#1083;:Wombat4.jpg" TargetMode="External"/><Relationship Id="rId4" Type="http://schemas.openxmlformats.org/officeDocument/2006/relationships/hyperlink" Target="http://commons.wikimedia.org/wiki/File:Haarnasenwombat_(Lasiorhinus_krefftii).jpg?uselang=ru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5520" y="609552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 ученик 7Б класса Якимов Васил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228600"/>
            <a:ext cx="838188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инслендский вомб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5" name="" descr="Короткошёрстный вомбат"/>
          <p:cNvPicPr/>
          <p:nvPr/>
        </p:nvPicPr>
        <p:blipFill>
          <a:blip r:embed="rId2"/>
          <a:stretch/>
        </p:blipFill>
        <p:spPr>
          <a:xfrm>
            <a:off x="0" y="10666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о́мбаты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 (лат. </a:t>
            </a:r>
            <a:r>
              <a:rPr b="0" i="1" lang="ru-RU" sz="900" spc="-1" strike="noStrike">
                <a:solidFill>
                  <a:srgbClr val="ffffff"/>
                </a:solidFill>
                <a:latin typeface="Arial"/>
              </a:rPr>
              <a:t>Vombatidae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) — семейство двурезцовых сумчатых, обитающее в Австралии. Вомбаты — роющие норы травоядные животные, внешне напоминающие маленьких медведей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омбаты достигают длины от 70 до 120 см и веса от 20 до 45 кг. Их туловище устроено компактно, конечности короткие и сильные. На каждой из них пять пальцев, из которых внешние четыре увенчаны большими когтями, приспособленными для копания земли. Хвост короткий, большая голова производит впечатление слегка расплющенной с боков, глаза маленьки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бопытно, что челюсти и зубы вомбата проявляют сходство с грызунами. В верхнем и нижнем ряду у вомбатов имеется по паре передних режущих зубов. Жевательные зубы построены весьма просто, угловые зубы отсутствуют. У вомбатов наименьшее количество зубов среди сумчатых — 12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омбаты обитают в южной и восточной части Австралии, в штатах Южная Австралия, Виктория, Новый Южный Уэльс, Квинсленд и Тасмания. Распространены в различных местообитаниях, но нуждаются в подходящей для рытья нор поч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раз жизн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омбаты — самые крупные из современных млекопитающих, занимающихся рытьём и проводящих большую часть жизни под землёй. Своими острыми когтями они вырывают в земле небольшие жилые пещеры, которые иногда образуют сложные туннельные системы. Как правило, большинство из них достигают около 20 метров в длину и 3,5 метров в глубину. Если участки отдельных особей пересекаются, пещеры могут в различное время использоваться разными вомбатами. Вомбаты активны ночью, когда выходят на поиски пищи. Днём они отдыхают в своих убежища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 взрослого вомбата почти нет естественных врагов. Одним из немногих является ввезённый человеком динго. Кроме того, опасность может представлять тасманийский дьявол. Задняя часть тела вомбата чрезвычайно тверда из-за толстой кожи, хрящей и костей. В случае опасности они могут, повернувшись задом, блокировать свою нору и отразить большинство нападающих, либо раздавить их конечности о стены своей жилой пещеры. В задней части спины, на тазовых костях, у вомбата есть нечто вроде щитка, защищающего его при нападении сзади. Он наносит также сильные удары головой — бодается, как баран или козел. Если собака залезает в его нору, он поджидает её, не сходя с места, а затем старается загнать в угол, к стенке норы, и там задушить при помощи щитка. Гораздо чаще в смерти вомбата бывает виноват человек: в частности, много вомбатов гибнет под колёсами автомобилей. В областях, где воздействие человека невелико, численность вомбатов определяется наличием подходящего корм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лощадь участков вомбатов варьирует в зависимости от внешних условий от 5 до 25 га. Территория помечается экскрементами и построенными жилищами, и защищает свой участок вомбат подчас довольно агрессивно. При виде незваного гостя самцы угрожающе качают головой из стороны в сторону и мычат[</a:t>
            </a:r>
            <a:r>
              <a:rPr b="0" i="1" lang="ru-RU" sz="900" spc="-1" strike="noStrike">
                <a:solidFill>
                  <a:srgbClr val="ffffff"/>
                </a:solidFill>
                <a:latin typeface="Arial"/>
              </a:rPr>
              <a:t>источник не указан 1627 дней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]. Зачастую этого бывает достаточно, чтобы прогнать вторгнувшегося. Однако, иногда дело доходит до поединков, в которых вомбаты могут нанести друг другу серьёзные ра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 коротких дистанциях вомбаты могут развивать скорость до 40 км/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Пища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мбаты едят молодые побеги трав. Иногда в пищу употребляются также корни растений, мхи, грибы и я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делённая верхняя губа позволяет вомбатам очень точно выбирать то, что они едят. Благодаря ей, передние зубы могут доходить прямо до земли и срезать даже самые маленькие побеги. Важную роль при выборе пищи у активных ночью вомбатов играет обоня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мен веществ у вомбатов весьма медленный и эффективный. Чтобы переварить еду, им необходимо до 14 дней. Вомбаты — самые экономные потребители воды из всех млекопитающих, после верблюда: им достаточно всего 22 мл воды на кг массы тела в сутки. Даже такие прекрасно приспособленные к условиям жизни в Австралии животные, как представители семейства кенгуровых, расходуют воды вчетверо больше. Вомбаты плохо переносят хол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змножен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мбаты размножаются на протяжении всего года везде, кроме засушливых регионов, где их размножение скорее сезонное. Сумки у самок повёрнуты назад, чтобы при копании в них не попадала земля. Несмотря на то, что у самки имеются два соска, одновременно рождается и воспитывается лишь один детёныш. Потомство от шести до восьми месяцев растёт в сумке матери и в течение следующего года остаётся вблиз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вой зрелости вомбаты достигают в возрасте двух лет. Продолжительность их жизни в природе достигает 15 лет, в неволе они иногда доживают и до 25; старейший зарегистрированный вомбат дожил в неволе до 34 лет, а старейший из ныне живущих (на февраль 2014 года), вомбат по кличке Патрик из Балларатского парка дикой природы — до28 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лассификация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ношёрстные вомбаты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слендский вомбат длинношёрстный вомбат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откошёрстные вомбаты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ткошёрстный вомбат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известны пять вымерших родов вомбатов. Вомбаты появились около 18 миллионов лет назад, в миоцене. Ближайшие современные родственники вомбатов — представители семейства сумчатых медведей (коал). С ними у вомбатов имеются многочисленные сходства в строении зубов, черепа . Тем не менее, существует и ряд морфологических различий, указывающих на то, что эволюционные линии коал и вомбатов разошлись примерно 36 миллионов лет наз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более близким родственником вомбатов был дипротодон, гигантский представитель сумчатых размером с носорога, вымерший всего около 40 тысяч лет наз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4-05-26T14:54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