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9A6-F29A-4D2B-A495-7A2F7D38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DC7-8BA3-4781-871D-3F23473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7279-3154-4F04-B331-D1CBD4C9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FC048-3B89-434B-B47D-87C3727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4B173-FBEE-4F2E-9865-0B9BA5E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2F1E4-D67C-4F0F-8FE9-D746E8E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741A-CBF1-44BB-9896-168E090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E088A-8C4F-4F46-9420-143D255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1C99D-ABFF-4716-8E99-AF2EC0B9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3132D-A507-4260-9098-7D8325FF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12B74-FEBD-4040-8DAF-09D15FC5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3C4D1-FBE9-498E-94F4-DF16D78D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934-C95D-439A-90E1-AC6CD67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8E84-7FDF-451D-94FC-3EF143A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EF524-6BCB-4566-AE47-2406023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861AE-2EEB-4611-A6A2-9810860C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84339-B423-465B-95C1-52DFEE1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0B0F-3778-4327-9183-4AD8667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52E42-1EBB-483A-9738-1CDB5A7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E1721-F12D-4B9D-8312-4BE23A3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4EDD7-771B-4E25-985D-C2D6D70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263F-51B4-41D4-B57F-C8A098B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8BAA-1DF0-4EA9-8548-A6642FE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C1C-70FF-4103-BC33-C3FE0BC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9CF91-FC51-45CF-9D6F-8EDCD5D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C115A-CACD-496D-B443-1A887DF9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5338F-2A14-4B41-A105-8DF4C19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1E717-3B41-4C8D-A4CD-13028C5A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49AA-35CD-4FDC-AEC8-E2DE5666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BEB9-F451-422A-B692-8E9B8D3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4D57F-E805-45FD-9071-9E0B2EEE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8D7E5-1933-4475-8CBF-B529ED4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4A69-E7E0-4E5B-B78A-89A96F3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4797A-EED7-4A11-A3DE-EAB2EAF1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08EF-A740-43A4-B667-A666CCB0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4F6FD-F497-4B1A-9DDB-C17DE11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4E2D-40FE-4763-8718-DF70D969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3550-4FA5-499E-97CC-5855868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D3330-A4DD-4B15-A29F-0A772453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3092-BBDE-4C9C-A415-FF070C6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713EA-23F7-4428-8D48-E164FCB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17F68-B7C3-4528-A428-13EE8088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CD0CC-D171-4EB3-83BE-6F69530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208AB-ADB4-41CF-A383-4BEDA9EF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2EE1E-348F-4AAA-BD5B-55B3871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987D-1C29-45D7-8157-1356725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A402F-157E-4141-BC87-73DBA08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A3F6-75B8-4A68-AB03-2AC5995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99F04-5635-4E56-8BC1-FD60DD3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D3E4-5B4C-4999-B741-E97F7D30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F066C-3C19-45F8-807D-0B3B8E0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B15DF-AE47-4EB7-9399-8C2A1B6E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43468-D2AD-40DF-91BA-4CE1D44C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7C8DA-808C-464F-B263-3AF5F50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E530E-4C17-4803-98E0-DEF226C4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F1078-08FC-4F23-9CA6-EBF9948E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D230-F9F5-4FFA-80BC-D490C6E9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FFAA5-2220-476F-B4FA-6B214906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84C8E-565C-4431-A00C-C8BA48A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08E1A-31C0-4ADA-8E42-D14733A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9DCFE-3B08-4DCE-8E01-B8FA672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E9EC3-1388-444C-8723-5ED3FDA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3E9BD-010F-4748-BA5A-DBBA49B5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C177A-0A15-4DBB-9EB8-014C8899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DD98F-572D-455D-917B-0070613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4E295-9676-49CB-8761-AD88516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18AB1-D256-4135-8425-4C9A1A9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9A2-750E-45BF-B465-A0B8230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39C0E-AD26-4C29-8CBB-A9E9DEC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AA985-1831-4975-9511-09DC400E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3A06D-3A30-4790-B7C4-7711D14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4C533-BC32-4E35-89D0-9AC3A8F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22B21-7D6A-4A23-8323-F2786A6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A7265-5BA7-4DEB-9030-C881BB8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8D266-0873-49D1-B9FE-2181C851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C9528-82F2-45C7-8B0A-835B7974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CBB16-892A-47E8-B514-4B63032F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5EE2E-8309-4804-9747-1C056A9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3BE-6ACD-4509-A935-3BD4DDA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66B2C-C473-4D4E-9750-9B5A1E1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A357D-98D3-4D67-8794-056A5FDF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B07E2-C459-4086-8CB7-FBCCE30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B2152-DAD1-4367-8A6D-ACB907AD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58CDE-B557-4248-AC3D-CC6C9331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8213B-C8F6-4318-9D8E-006AF15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2C37C-3874-423D-A970-F1CAD62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F5EF8-BF81-4064-8260-77DFC55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D84DA-7C36-43CF-A2E3-8F60939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4694E-5924-44FA-9A86-00520585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FFBE-22B3-46C2-92B3-F59E813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1C0BD-065A-4681-8DE7-FCE72BF2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DDD91-B39B-4B39-8171-B50FAFF8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56B1A-FDFA-4A7E-9F2D-654142C4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91AED-F038-4BE4-A6D2-0F0CD35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1EDF3-2FB3-4D66-9833-BB098FC3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29720-E0B7-485B-A924-1A37ED0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FE434-6ED8-486B-8047-DB03920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D9159-96CC-4A74-AA40-AD89596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6114B-6996-4EEF-ABCD-5C66488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ACF14-2923-492F-A9DA-AC072A9A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A05-C7FF-4E3C-B588-FE15442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506D9-5A45-418A-B568-22C3F864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86E0F-EB40-4ECD-B762-E9F1CDBB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5E9B6-3C52-484F-96C0-A4308B30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3DD-A02D-410F-B7E9-C754F57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056B-6F06-46D4-B8E4-01860C0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34F-B9FC-43E8-A008-169C6FC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C501-12A8-4FE9-BB87-7C3DB6A7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040D-7BF9-4C01-80B2-3815E191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8A5D-83DD-4F8F-86A6-28C3C1A4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DA97-AB16-4AEF-9F42-7FAB5C0E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52C9-082B-424C-BF37-CDE7C3DF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5E74-78B8-4FB7-AA0F-22A0DFC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A9CA-6FED-47D9-9BF2-5218F60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4C2A-0C66-4AD9-8F96-4DFF364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511-778A-41ED-8E0B-EA7F227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16BC-C0A2-49A3-8D4D-22C690F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73C5-78B8-45EF-AAE6-40D1110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D13B-1C6E-44BF-A313-114719E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6866-3256-48F4-9364-650AFAB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EB2B-3EFF-48D2-B4B0-07581B6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29E8-D137-402B-B4FA-9F7A7A53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BF65-7EEF-44CA-8BA2-0B08AC5F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AEFF-1CC9-4122-AF63-91352C75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4210-7121-40C4-A749-83104A4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5C2E-21BF-4160-BD7C-9553D94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42E-9086-433C-8C3C-031EDEF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03F7-5899-4218-92B3-41A79B82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BDBF-BFA2-413E-9534-1FEEBC9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6FE4-0663-44B2-B433-B31B860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99F0-6675-47A7-A53E-8D62AFD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D751-A033-4CEB-B2C9-1B4717B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5DD7-1863-4F2C-B96C-E43B0D5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3487-063A-4D87-9E7D-B5034C0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5BE7-BAFF-4198-9B8D-ED3C69DB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8F92-A2F3-4034-8F63-D2A9696C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5549-E08A-40D0-9045-D8D7EBA5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DFF-5DA0-4BEF-80BA-4D94672E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04F-08C4-4239-BC88-76E2973B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2B72-5F1C-4674-A4C7-88BAE3C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D1B1-86C5-4EC7-934B-14CCE5A4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2827-C4F1-4C2B-BF31-F24FEE4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6C04-7812-4D27-A067-A1421568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32B8-B545-47A6-BD2E-F8C4327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6A34-C021-4BD2-ACC0-9015AFB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1D0A-9961-4345-83D1-0400D86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7CCF-3EFD-4023-B1DF-38C94FF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EA78F-5D2B-445E-B5C9-AA32565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F93-14DD-467F-86D8-3228665B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5FFA-43D2-4164-8E3A-B2E8C893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D81A-3AA9-4366-BE21-B1337ECF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81FF-0835-4A72-AEF9-20FAF76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AEE0-4A79-44AF-8525-4DCD7BE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7F93-04AA-4D30-B71C-7968CC2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3330-C050-4EE5-84E5-49F65CE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A6CC-64BC-40D7-823B-A3E5037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5211-28F2-4CF4-99BB-DADEB9A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25DD-F4A6-4E9D-AADF-0C37A48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02265-7D8A-4414-BF81-CF9C94A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62C-9D7E-429E-A24D-2B57303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8EA6-7BA2-425B-91CF-DB758E9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A2000-8072-4528-AC04-9EB918E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7E03-F5C4-4543-B738-B93BD0A5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0648E-C06C-4343-9231-422F3AB7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F1B14-2216-4138-9E32-DB41E2DF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79D8-A9EC-4841-B5BB-B1616DF4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5071-BB9D-40FB-A83B-E153340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ABBB-91BF-4CCD-98AE-5A7B2AB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B6A6-1646-4CA5-BF07-79655A09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EA45-ECEC-4017-B7E7-F7553F8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67A-57A5-4DDA-9564-316B1598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33EB5-F539-426B-A95B-DC4C2D3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5ECB-B221-4815-A2D5-48E8251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290FC-2109-4C28-BD9F-2EAFFE3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C0EE7-CCA5-4335-AD2A-143E3B02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D8B9-2B88-40B8-8C3A-904F3DEB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B888-EC36-45BB-9ADA-92367AB9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DC1DF-AAEA-4374-84F0-0D90484A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3596-3A92-4F59-909C-BF54FA7B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B3F9-4779-4D47-A53A-E74DEA2A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4C6C-0401-4F8D-88BB-7103A11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DD4-B655-4B84-9303-3950FF5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17BCD-9B70-4576-8FB8-983567F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B7D1F-92D4-46AF-8267-236F08F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3BFF-FD88-4D71-B6CD-C721874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DE95-B236-4D52-9E16-6A52DAF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8794-9A4D-427F-A30C-9BE16D8E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437C-F6D8-4A54-B578-0E2BE69A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4436-7AAC-4717-8310-E6BA03DD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085E1-08A4-4E55-AC04-273879D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77BE7-DCC5-4264-B586-B87D34B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45B02-3C85-41AE-B36E-CA8FAEB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E4F-9094-44A0-8A37-0EAFA3B660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ED6F-057A-46BE-B1E2-864B51F708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8CA-45E2-4642-8F04-FD37660BF77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7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7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6D4-8B4E-4874-91E2-110C136428E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2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2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3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3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F0A6-7457-423E-8494-B422D2FC09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0F52-7AFB-4792-91ED-5BB1CFCE43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4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CF7E-BE4F-484A-844E-21380A8730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EA12-F1D9-47E5-967D-94AEBE562F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B72-502F-43DA-A407-C3B44E92FE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CFE2-95D8-4EFC-8D65-D8564E68F59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6B31-0A0F-4D17-A8A1-199FA01157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F5F-A67E-47BB-B39E-8CD60CA6BF4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3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3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3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80E-2DDE-4890-83BB-88555C46F7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D0B-D253-4F5D-8D44-D2060C37CD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4B8-7F88-4CCC-A182-539BB982D1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ECE-37B3-4826-A55B-B1EBB4B61B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РЕЗЕНТАЦИЯ НА СЕМИНАРЕ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ДЛЯ ЗАВЕДУЮЩИХ ДОУ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«КОНКУРС КАК МЕХАНИЗМ РОСТА ПРОФЕССИОНАЛИЗМА ПЕДАГОГИЧЕСКИХ РАБОТНИКОВ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дыкова Е.В. – заместитель заведующей по воспитательной и методической рабо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г. Гусе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013 г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WordArt 4"/>
          <p:cNvSpPr txBox="1"/>
          <p:nvPr/>
        </p:nvSpPr>
        <p:spPr>
          <a:xfrm>
            <a:off x="2411280" y="1773360"/>
            <a:ext cx="3889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Organization Chart 5"/>
          <p:cNvGrpSpPr/>
          <p:nvPr/>
        </p:nvGrpSpPr>
        <p:grpSpPr>
          <a:xfrm>
            <a:off x="1800360" y="2019240"/>
            <a:ext cx="5471640" cy="3640680"/>
            <a:chOff x="1800360" y="2019240"/>
            <a:chExt cx="5471640" cy="3640680"/>
          </a:xfrm>
        </p:grpSpPr>
        <p:cxnSp>
          <p:nvCxnSpPr>
            <p:cNvPr id="834" name="_s1028"/>
            <p:cNvCxnSpPr>
              <a:stCxn id="835" idx="0"/>
              <a:endCxn id="836" idx="3"/>
            </p:cNvCxnSpPr>
            <p:nvPr/>
          </p:nvCxnSpPr>
          <p:spPr>
            <a:xfrm flipV="1" rot="16200000">
              <a:off x="4979160" y="2810160"/>
              <a:ext cx="1065600" cy="2057760"/>
            </a:xfrm>
            <a:prstGeom prst="bentConnector3">
              <a:avLst>
                <a:gd name="adj1" fmla="val 14261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837" name="_s1029"/>
            <p:cNvCxnSpPr>
              <a:stCxn id="838" idx="0"/>
              <a:endCxn id="836" idx="3"/>
            </p:cNvCxnSpPr>
            <p:nvPr/>
          </p:nvCxnSpPr>
          <p:spPr>
            <a:xfrm flipV="1" rot="16200000">
              <a:off x="4002840" y="3786480"/>
              <a:ext cx="1065600" cy="105480"/>
            </a:xfrm>
            <a:prstGeom prst="bentConnector3">
              <a:avLst>
                <a:gd name="adj1" fmla="val 14261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839" name="_s1030"/>
            <p:cNvCxnSpPr>
              <a:stCxn id="840" idx="0"/>
              <a:endCxn id="836" idx="3"/>
            </p:cNvCxnSpPr>
            <p:nvPr/>
          </p:nvCxnSpPr>
          <p:spPr>
            <a:xfrm flipH="1" flipV="1" rot="5400000">
              <a:off x="3026160" y="2914560"/>
              <a:ext cx="1065600" cy="1849680"/>
            </a:xfrm>
            <a:prstGeom prst="bentConnector3">
              <a:avLst>
                <a:gd name="adj1" fmla="val 14261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836" name="_s1031"/>
            <p:cNvSpPr/>
            <p:nvPr/>
          </p:nvSpPr>
          <p:spPr>
            <a:xfrm>
              <a:off x="3754080" y="2019240"/>
              <a:ext cx="1563120" cy="1287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едагог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_s1032"/>
            <p:cNvSpPr/>
            <p:nvPr/>
          </p:nvSpPr>
          <p:spPr>
            <a:xfrm>
              <a:off x="1800360" y="4372200"/>
              <a:ext cx="1563120" cy="1287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Высшая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- 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52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1033"/>
            <p:cNvSpPr/>
            <p:nvPr/>
          </p:nvSpPr>
          <p:spPr>
            <a:xfrm>
              <a:off x="3754080" y="4372200"/>
              <a:ext cx="1563120" cy="1287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ервая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– 3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11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_s1034"/>
            <p:cNvSpPr/>
            <p:nvPr/>
          </p:nvSpPr>
          <p:spPr>
            <a:xfrm>
              <a:off x="5708880" y="4372200"/>
              <a:ext cx="1563120" cy="1287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Вторая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–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18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Text Box 17"/>
          <p:cNvSpPr/>
          <p:nvPr/>
        </p:nvSpPr>
        <p:spPr>
          <a:xfrm>
            <a:off x="2463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ЕДЕНЧЕСКИЕ ХАРАКТЕРИСТИКИ ЛЮД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СТРУКТИВНОЙ ИННОВАЦИИ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ВЕРШЕНСТВОВАНИЕ СОБСТВЕННЫХ ЗНАНИЙ И НАВЫ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СЕДНЕВНОЕ ИСПОЛЬЗОВАНИЕ СОБСТВЕННЫХ ЗНАНИЙ И НАВЫ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ВЫЧКА К САМОИЗМЕНЕНИ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СТОЯННЫЙ ВЫСОКОКВАЛИФИЦИРОВАННЫЙ ТРУ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ННОСТНЫЕ ХАРАКТЕРИСТИКИ ЛЮДЕЙ КОНСТРУКТИВНОЙ ИННОВ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ТЕРЕ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ИСКОВО-ЭКСПЕРИМЕНТАЛЬНОЕ ОТНОШЕНИЕ К ОКРУЖЕНИ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РЕМЛЕНИЕ К ИНДИВИДУА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ЧЕНИЕ ПЕДАГОГОВ ДОУ ТВОРЧЕСКОЙ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стремления к рационализации образовательных процессов и эффективной организаци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явление педагогических и организационных проблем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учение методике аналитической и научно-крит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Презумпция талантливости» каждого творит чудеса – люди обнаруживают в себе способности, о которых даже не подозревал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009 г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оспитатель год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гиональный конкурс педагогов дошкольного образования в рамках приоритетного национального проекта «Образование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российский конкурс профессионального мастерства педагогов «Мой лучший урок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010 г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оспитатель год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й конкурс педагогов дошкольного образования в рамках приоритетного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«Росточек: мир спасут де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011 г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российский конкурс «Призвание – воспитатель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российский конкурс презентаций «Топслайд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российский конкурс дошкольных образовательных учреждений «Изюминка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гиональный конкурс педагогов дошкольного образования в рамках приоритетного национального проекта «Образование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гиональный конкурс видеоматериалов по курсам духовно-нравственного воспитания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20:56:25Z</dcterms:created>
  <dc:creator>---</dc:creator>
  <dc:description/>
  <dc:language>en-US</dc:language>
  <cp:lastModifiedBy>Sad11</cp:lastModifiedBy>
  <dcterms:modified xsi:type="dcterms:W3CDTF">2016-08-12T10:56:26Z</dcterms:modified>
  <cp:revision>6</cp:revision>
  <dc:subject/>
  <dc:title>ВЫСТУПЛЕНИЕ НА СЕМИНАРЕ ДЛЯ ЗАВЕДУЮЩИХ ДОУ «КОНКУРС КАК МЕХАНИЗМ РОСТА ПРОФЕССИОНАЛИЗМА ПЕДАГОГИЧЕСКИХ РАБОТНИКОВ»</dc:title>
</cp:coreProperties>
</file>