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45A-ACC7-4DBA-B8D4-C3208341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A29-6EE4-48B8-A43C-ED515707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7C5-9D05-4A8A-886E-C6EA0CF7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C02-3F99-44C3-B7B0-F58C897B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A72-2813-437A-86AB-8DFEF21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B65-B3BB-45E9-AF14-8861B400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6F5-60CD-4D2C-BD38-07976464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2E0-F82F-45CA-B814-0F5CF90A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7AF-4862-4F96-B4A0-62EF0B1B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72B-5BA1-482F-B2BE-A06D197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FE4-CA23-49A2-B618-38D0E652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8A9-7D46-41AB-B4DB-7550097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4D5D-1744-4A8C-B37B-943E140E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 СТАТЬ СЧАСТЛИВ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087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МИЛОСЕРДИ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ЛАЖЕННЫ МИЛОСТИВЫЕ, ИБО ОНИ ПОМИЛОВАНЫ БУД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61214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ЧИСТОТА СЕРДЦ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ЛАЖЕННЫ ЧИСТЫЕ СЕРДЦЕМ, ИБО ОНИ БОГА УЗР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265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МИРОТВОРЦЫ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ЛАЖЕННЫ МИРОТВОРЦЫ, ИБО ОНИ БУДУТ НАЗВАНЫ СЫНАМИ БОЖИИ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ИЗГНАННЫЕ ЗА ПРАВДУ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ЛАЖЕННЫ ИЗГНАННЫЕ ЗА ПРАВДУ, ИБО ИХ ЕСТЬ ЦАРСТВО НЕБЕСН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380016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КТО ЗА ПРАВДУ ГОРОЙ, ТОТ ИСТЫННЫЙ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ЛАЖЕННЫ ВЫ, КОГДА БУДУТ ВАС ГНАТЬ И НЕПРАВЕДНО ЗЛОСЛОВИТЬ ЗА МЕНЯ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ДУЙТЕСЬ И ВЕСЕЛИТЕСЬ, ИБО ВЕЛИКА ВАША НАГРАДА НА НЕБЕС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ТЧА «ВЕРНО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51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БУДЬТЕ СОВЕРШЕННЫ, КАК СОВЕРШЕНЕН ОТЕЦ ВАШ НЕБЕСНЫЙ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7610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ГОРНАЯ ПРОПО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48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0" y="2060280"/>
            <a:ext cx="46306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ВЯТЬ ЗАПОВЕДЕЙ БЛАЖЕНСТВ (ЗАПОВЕДИ ИИСУСА ХРИСТА)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ПОВЕДИ НОВОГО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18292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ЛАЖЕ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70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МИРЕНИ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ЛАЖЕННЫ НИЩИЕ ДУХОМ, ИБО ИХ ЕСТЬ ЦАРСТВО НЕБЕСН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4716360" cy="357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1800" y="3068640"/>
            <a:ext cx="39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айно творит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об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ищет недостат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других, а наблю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ОКАЯНИ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ЛАЖЕННЫ ПЛАЧУЩИЕ, ИБО ОНИ УТЕША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3440160" cy="44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0514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КРОТОСТ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ЛАЖЕННЫ КРОТКИЕ, ИБО ОНИ НАСЛЕДУЮТ ЗЕМ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2913120" cy="436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56000" y="2781360"/>
            <a:ext cx="42656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ЖАЖДА ПРАВДЫ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ЛАЖЕННЫ АЛЧУЩИЕ И ЖАЖДУЩИЕ ПРАВДЫ, ИБО ОНИ НАСЫТЯТСЯ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жажда правед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жажда свя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тремление человека к праведной и свят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тремление к ист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тремление к доб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8:22:20Z</dcterms:created>
  <dc:creator>Марина</dc:creator>
  <dc:description/>
  <dc:language>en-US</dc:language>
  <cp:lastModifiedBy>Марина</cp:lastModifiedBy>
  <dcterms:modified xsi:type="dcterms:W3CDTF">2015-01-27T20:16:24Z</dcterms:modified>
  <cp:revision>2</cp:revision>
  <dc:subject/>
  <dc:title>КАК СТАТЬ СЧАСТЛИВЫМ</dc:title>
</cp:coreProperties>
</file>