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CDC-07C3-478E-B2C6-65D59322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67D-DCAA-48AF-A698-F5252DA8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7EB-E882-4F4C-97A2-B7BA5DC4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204-F6CB-4C25-A126-00CC6A00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0B50-14B3-49A4-966F-2569C51B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A4B2-5982-4529-B0E1-D7C35E85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129F-00E4-4B95-974C-AF3E55A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AC4B-049A-4175-A60A-8AB8320E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C005-4067-4A04-989F-91CBD237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32A5-090D-4400-920A-6228BA20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C2A8-2065-4524-8D64-64B3BDF7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15A-31C0-4839-8BEF-46F59C32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FA07-28C6-4ED7-8558-E48DB01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E2F5-27F9-46A9-BF12-22F2B9C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37C4-8CA4-4F2C-9CCD-DA3B514F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B1FB-0126-4428-834A-839B3358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2A57-57E9-4BA9-9713-71CCF69E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E6D94-FC9A-4CC4-8AE9-E30E14CF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FD977-5B4F-4D17-93D8-60FBCCF3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3411-D59A-457C-9316-390613CF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0167-787A-4958-B448-E8CFF5B7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C70B-6661-4D7B-971E-906628E3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ADC-0DC7-4001-9EF7-3E1CC8A5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E9C7-6CE8-4D86-82CC-6F78A86D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6C91-EB37-4D2B-B0B7-64D88FE0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D5F4-6D86-4456-B9D9-AF6B8435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D51E-2F70-4C86-BD2B-35B48420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BD3A-B4DD-4568-8948-563DA176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FAC5-D2AC-4A19-A929-4D36F158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1C95-EA16-405C-9725-D9E96AE0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1024-82FC-40EC-BAA7-5148BABE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0E4E7-0DB3-436E-BB58-0021EB9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A2590-518B-488E-92D0-49E253DF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4C6-2C7D-4860-AC99-5A4560F2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A268-9460-4C91-9CF5-C790DC50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7F046-CAF7-4111-9AC9-ED59E969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CEDD0-0F1F-43D7-9A28-24B1BCEC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C7E14-5B4E-421C-B8B6-BBFE0264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CAAB-8F78-4305-9D09-E2CB927A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E65B-8878-4B6D-9B76-365B05A3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AFD21-E391-4D76-80A4-0E6EC23D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89F9C-13C2-4FC4-BE37-5A4ADD84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506CE-C454-431F-BA75-2353B18F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A1D7A-E81D-4B6C-9EA3-3BE12BF4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ADC-CAC4-48B3-9914-2A0D1736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B28C-6915-4BE7-8F9E-BC30E7D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39023-67EF-449B-9608-D8E82BCB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5D945-0796-43D6-B24C-17359A0F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E12C1-DD27-46F3-8FCE-FF14C5DF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37AF-EEA8-468A-A7B5-8B9A16E5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63EED-5392-4CFE-BD07-11E7BED5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CD07-7437-400E-9622-070ADDEB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E69B0-D06A-4D98-832D-ADC07E5D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DFBB7-6104-4025-8904-B5A4AEFE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CE73F-471C-40D0-86A9-8D7E5C4C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E40-4339-41A5-8AB2-4626D7AC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14483-BCD0-4733-BC58-C7EBD82B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2CAEB-25A2-424D-8E56-6A0E7940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AD5F4-79BC-480F-9A88-C9DB6001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3E1AB-E824-431B-963E-33601D44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A9F58-16A5-4D9F-8FA1-46FBC7E8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247E4-226C-48D1-A519-DD790CD6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EF169-3492-4E8A-869D-8716ADEA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F5B05-41DF-470E-9082-5E0ED942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57AED-8854-49A5-B6E6-43C51D0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2C658-4448-4E2C-B748-557ADAA2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B18-AA05-4E3D-8BDA-E9FCE471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3428D-C201-4176-9C25-D546A41C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EA520-0414-4B9B-BEDE-AC5417BC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95398-C39E-4F2C-8DCC-FAB094E1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086A-996A-4CDC-BC24-1765263C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8220B-F1AA-4676-B7E5-9F4FCE85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5CC23-F843-464A-A608-ACD7CB05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696E3-B543-47E4-9047-A35421EE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8568A-CB80-4162-96FC-1705BF19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3BC1A-92CD-4BA7-A4BB-6EF60336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8524A-FE37-49F5-80B6-F25DECDE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072-4D3D-48E9-A867-8BAE9AE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B709A-E5B1-4869-BBCC-7DCC2D36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6E055-2913-4747-9FFA-B626B4B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31640-00CF-436A-B244-F5D07B07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1018E-58DB-459D-900D-2E793946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F6A49-D96B-438E-BFCB-F519E018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B70-A582-42AA-9C55-E228A459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B688-B14A-40D7-819A-DC9E09AC318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A0F6-E0EA-4ED5-9591-487D8B99753D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36A7-A888-4DF3-BC2C-BB7DF77FED7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87B8-B9DE-42E9-B00E-376E5337A8B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32E5-4BEC-424E-B708-52F78597463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3ECF-1265-4C7A-93AF-BDBD05137B4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237C-2CAC-4DC6-ACEC-28F9B52A8D7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3212640"/>
            <a:ext cx="6553080" cy="18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Gothic"/>
              </a:rPr>
              <a:t>ЗНАКИ ГОСУДАРСТВЕННОГО ОТЛИЧИЯ В ЦАРСКОЙ, СОВЕТСКОЙ И СОВРЕМЕННОЙ РОССИИ ,ИЗГОТОВЛЕННЫЕ С ПРИМЕНЕНИЕМ БРИЛЛИАНТОВ.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480000" cy="2301840"/>
          </a:xfrm>
          <a:prstGeom prst="rect">
            <a:avLst/>
          </a:prstGeom>
          <a:noFill/>
          <a:ln w="9360">
            <a:solidFill>
              <a:srgbClr val="93a2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534c"/>
                </a:solidFill>
                <a:latin typeface="Book Antiqua"/>
              </a:rPr>
              <a:t>КАРПЕНКО Д.Д.</a:t>
            </a:r>
            <a:br>
              <a:rPr sz="2400"/>
            </a:br>
            <a:r>
              <a:rPr b="0" lang="ru-RU" sz="2400" spc="-1" strike="noStrike">
                <a:solidFill>
                  <a:srgbClr val="47534c"/>
                </a:solidFill>
                <a:latin typeface="Book Antiqua"/>
              </a:rPr>
              <a:t>11 КЛАСС. 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ОРДЕН БЕЛОГО ЛОТОСА(КАЛМЫКИЯ)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6" name="Содержимое 4" descr="Orden_lotos.jpg"/>
          <p:cNvPicPr/>
          <p:nvPr/>
        </p:nvPicPr>
        <p:blipFill>
          <a:blip r:embed="rId1"/>
          <a:stretch/>
        </p:blipFill>
        <p:spPr>
          <a:xfrm>
            <a:off x="1149480" y="2576520"/>
            <a:ext cx="25905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ОРДЕН АХМАТА КАДЫРОВА (ЧЕЧНИ)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8" name="Содержимое 4" descr="Kadirov_orden.jpg"/>
          <p:cNvPicPr/>
          <p:nvPr/>
        </p:nvPicPr>
        <p:blipFill>
          <a:blip r:embed="rId1"/>
          <a:stretch/>
        </p:blipFill>
        <p:spPr>
          <a:xfrm>
            <a:off x="0" y="1197000"/>
            <a:ext cx="3059280" cy="5661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3492000" y="1341000"/>
            <a:ext cx="5256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Орден Кадырова изготавливается из золота 750 пробы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Лицевая часть колодки (выпуклая) инкрустирована драгоценными камнями: рубины (количество 36 штук, вес 1,8 карата), сапфиры (количество 36 штук, вес 1,8 карата), бриллианты (количество 36 штук, вес 1,08 карата)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РОССИЙСКАЯ ИМПЕРИЯ 1721-1917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Орден Святого Андрея Первозванного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Орден Святой Екатерин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Орден Святой Анн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ОРДЕН СВЯТОГО АНДРЕЯ ПЕРВОЗВАННОГО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6" name="Picture 2" descr="C:\Users\пользователь\Desktop\Order_St_Andrew_diamond.jpg"/>
          <p:cNvPicPr/>
          <p:nvPr/>
        </p:nvPicPr>
        <p:blipFill>
          <a:blip r:embed="rId1"/>
          <a:stretch/>
        </p:blipFill>
        <p:spPr>
          <a:xfrm>
            <a:off x="3143160" y="1714680"/>
            <a:ext cx="5583240" cy="335736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3"/>
          <p:cNvSpPr/>
          <p:nvPr/>
        </p:nvSpPr>
        <p:spPr>
          <a:xfrm>
            <a:off x="324000" y="1628640"/>
            <a:ext cx="281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дина ХIХ в. Частная работа. Мастерская К. Селениуса. На оборотной стороне барабана: фирменное клеймо – «KS», выгравирована надпись на шведском языке: «Modtaget af Storfyrst Wladimir 1867» (Подарено Великим Князем Владимиром). Серебро, позолота, эмаль. Размер 76x76 мм. Вес 39,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ОРДЕН СВЯТОЙ ЕКАТЕРИНЫ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Содержимое 6" descr="Order_of_St_Ekaterin_Star.jpg"/>
          <p:cNvPicPr/>
          <p:nvPr/>
        </p:nvPicPr>
        <p:blipFill>
          <a:blip r:embed="rId1"/>
          <a:stretch/>
        </p:blipFill>
        <p:spPr>
          <a:xfrm>
            <a:off x="1073160" y="255096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40" name="Содержимое 7" descr="St_Ekaterina_Orden_both_sides.jpg"/>
          <p:cNvPicPr/>
          <p:nvPr/>
        </p:nvPicPr>
        <p:blipFill>
          <a:blip r:embed="rId2"/>
          <a:stretch/>
        </p:blipFill>
        <p:spPr>
          <a:xfrm>
            <a:off x="4648320" y="2155680"/>
            <a:ext cx="4038480" cy="353376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5"/>
          <p:cNvSpPr/>
          <p:nvPr/>
        </p:nvSpPr>
        <p:spPr>
          <a:xfrm>
            <a:off x="142920" y="7858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о, эмаль, бриллианты, алмазы, стразы. Размер 67×54,8 мм. Вес 59,04 г (с лентой). С оригинальной лентой. Муар, серебряное шитье, блес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ОРДЕН СВЯТОЙ АННЫ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3" name="Содержимое 4" descr="Bagde_to_Order_St_Anna_XVIII.jpg"/>
          <p:cNvPicPr/>
          <p:nvPr/>
        </p:nvPicPr>
        <p:blipFill>
          <a:blip r:embed="rId1"/>
          <a:stretch/>
        </p:blipFill>
        <p:spPr>
          <a:xfrm>
            <a:off x="92160" y="2332080"/>
            <a:ext cx="1903320" cy="416880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5" descr="Star_with_crown_to_Order_St_Anna.jpg"/>
          <p:cNvPicPr/>
          <p:nvPr/>
        </p:nvPicPr>
        <p:blipFill>
          <a:blip r:embed="rId2"/>
          <a:stretch/>
        </p:blipFill>
        <p:spPr>
          <a:xfrm>
            <a:off x="3643200" y="2000160"/>
            <a:ext cx="4786560" cy="47991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5"/>
          <p:cNvSpPr/>
          <p:nvPr/>
        </p:nvSpPr>
        <p:spPr>
          <a:xfrm>
            <a:off x="500040" y="71424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10-е гг. Выдача из Кабинета Е.И.В. Мастерская Карла Бланка. Клейма: на ушке - именное «СВ». Золото, алмазы, стразы, эмаль. Размер 47x52 мм. Вес 31,03 г. С оригинальной лентой. Обычно такими орденами награждались «за особые заслуги» иностранные подд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СССР 1917-1991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рден «Победа»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рагоценные камни и металлы не использовались в советских наградах, так как подобная роскошь считалась не подобающей общества рабочих и крестьян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ОРДЕН «ПОБЕДА»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9" name="Содержимое 4" descr="Orden-Pobeda-Marshal_Vasilevsky.jpg"/>
          <p:cNvPicPr/>
          <p:nvPr/>
        </p:nvPicPr>
        <p:blipFill>
          <a:blip r:embed="rId1"/>
          <a:stretch/>
        </p:blipFill>
        <p:spPr>
          <a:xfrm>
            <a:off x="1492200" y="3016080"/>
            <a:ext cx="1905120" cy="1812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859280" y="155736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Орден «Победа»-единственный советский орден, богато украшенный бриллиантами, в соответствии со стилем Сталинский ампир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РОССИЙСКАЯ ФЕДЕРАЦ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рден Андрея Первозванного (РФ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оссийский награды унаследовали от СССР аскетичность, лишь высшая награда оформлена бриллиантами. Но обычно награды субъектов РФ богато украшены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рден Белого Лотоса(Калмыкия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рден Ахмата Кадырова (Чечни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ОРДЕН АНДРЕЯ ПЕРВОЗВАННОГО(РФ)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4" name="Содержимое 4" descr="Andrey1.jpg"/>
          <p:cNvPicPr/>
          <p:nvPr/>
        </p:nvPicPr>
        <p:blipFill>
          <a:blip r:embed="rId1"/>
          <a:stretch/>
        </p:blipFill>
        <p:spPr>
          <a:xfrm>
            <a:off x="863640" y="1719360"/>
            <a:ext cx="316224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06:45:21Z</dcterms:created>
  <dc:creator>пользователь</dc:creator>
  <dc:description/>
  <dc:language>en-US</dc:language>
  <cp:lastModifiedBy>Denis</cp:lastModifiedBy>
  <dcterms:modified xsi:type="dcterms:W3CDTF">2015-09-24T14:18:16Z</dcterms:modified>
  <cp:revision>10</cp:revision>
  <dc:subject/>
  <dc:title>Выполнил ученик 11а класса Веденин арсений</dc:title>
</cp:coreProperties>
</file>